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104-BEA2-44B8-94ED-56A757F9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A4D-3C07-4BCE-A4FD-3912AA97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6AF-FBBB-4C0F-BAE6-9DFD7F67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156-55B7-4CC7-BE74-9254798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EA6-F793-4DF4-BECD-7FC99D0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E6E-0A32-40FC-9521-AE85696C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84A-5641-41DB-A4E6-C1F2048A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A34-D272-4575-B396-1BEC6AB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FDD-BE15-4B31-B668-D635D41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237-F6D6-4D6C-9F35-77A4E30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E66-311C-4D8C-A491-1B2ED2CA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B7D-0787-40DD-97DB-411DBB0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E51-23D0-496F-8557-D2F8B03D549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省水妙招放大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這是什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箭頭代表什麼意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笑臉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三條線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cf.nearpod.com/neareducation/new/SlideEditorElement/364324550/iconoriginal.jpg?AWSAccessKeyId=AKIAINYAGM2YWP2OWQBA&amp;Expires=2147483647&amp;Signature=zlaC8tUcm9Kmb5JF3oHjAs44YlA%3D&amp;1536855172"/>
          <p:cNvPicPr/>
          <p:nvPr/>
        </p:nvPicPr>
        <p:blipFill>
          <a:blip r:embed="rId1"/>
          <a:stretch/>
        </p:blipFill>
        <p:spPr>
          <a:xfrm>
            <a:off x="2643120" y="2786040"/>
            <a:ext cx="4572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f.nearpod.com/neareducation/new/SlideEditorElement/364325241/iconoriginal.jpg?AWSAccessKeyId=AKIAINYAGM2YWP2OWQBA&amp;Expires=2147483647&amp;Signature=XQXLhYupw2zBkwWGbhF2v%2B02srU%3D&amp;1536855439"/>
          <p:cNvPicPr/>
          <p:nvPr/>
        </p:nvPicPr>
        <p:blipFill>
          <a:blip r:embed="rId2"/>
          <a:stretch/>
        </p:blipFill>
        <p:spPr>
          <a:xfrm>
            <a:off x="928800" y="785880"/>
            <a:ext cx="76438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09:01Z</dcterms:created>
  <dc:creator>USER</dc:creator>
  <dc:description/>
  <dc:language>en-US</dc:language>
  <cp:lastModifiedBy>USER</cp:lastModifiedBy>
  <dcterms:modified xsi:type="dcterms:W3CDTF">2018-09-26T01:15:05Z</dcterms:modified>
  <cp:revision>1</cp:revision>
  <dc:subject/>
  <dc:title>省水妙招放大鏡</dc:title>
</cp:coreProperties>
</file>