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C2B-2209-4019-AD7E-53C9BC52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E42-DF2E-4028-A795-078659FE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FC9-137E-409D-A784-036B21A5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148-C933-4844-AFFC-EC695A0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481-48F1-4251-BAF5-8584095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F62-69E3-4EDE-9C92-893202AF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4D4-4BB6-4FC3-955C-F146A233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34A-70BF-47EE-B5EF-BF2D60E7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246-9E53-44CD-B227-9312021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030-CBB0-411C-8A3B-C4A48CC0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D38-3A07-4B5F-8421-6ED879C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771-B9F4-4A2F-9C9C-EB94A39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FD0-EEED-4F4A-9681-0C09E400059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水去哪裡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水去哪裡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13476" t="16668" r="26758" b="11458"/>
          <a:stretch/>
        </p:blipFill>
        <p:spPr>
          <a:xfrm>
            <a:off x="0" y="1071720"/>
            <a:ext cx="8929800" cy="5290920"/>
          </a:xfrm>
          <a:prstGeom prst="rect">
            <a:avLst/>
          </a:prstGeom>
          <a:ln w="0">
            <a:noFill/>
          </a:ln>
        </p:spPr>
      </p:pic>
      <p:sp>
        <p:nvSpPr>
          <p:cNvPr id="46" name="文字方塊 4"/>
          <p:cNvSpPr/>
          <p:nvPr/>
        </p:nvSpPr>
        <p:spPr>
          <a:xfrm>
            <a:off x="3571920" y="4287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回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複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cf.nearpod.com/neareducation/new/SlideEditorElement/364031715/iconoriginal.jpg?AWSAccessKeyId=AKIAINYAGM2YWP2OWQBA&amp;Expires=2147483647&amp;Signature=jrrGmRQyw7KzLmiPbZEAIgybNyQ%3D&amp;1536682160"/>
          <p:cNvPicPr/>
          <p:nvPr/>
        </p:nvPicPr>
        <p:blipFill>
          <a:blip r:embed="rId1"/>
          <a:stretch/>
        </p:blipFill>
        <p:spPr>
          <a:xfrm>
            <a:off x="785880" y="1643040"/>
            <a:ext cx="7643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: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地球上的水資源分怖在哪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到我們手上的可用水有多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cf.nearpod.com/neareducation/new/SlideEditorElement/364030965/iconoriginal.jpg?AWSAccessKeyId=AKIAINYAGM2YWP2OWQBA&amp;Expires=2147483647&amp;Signature=F7r2PJs6xYs6kfjVh9nGQ5a5LXs%3D&amp;1536681851"/>
          <p:cNvPicPr/>
          <p:nvPr/>
        </p:nvPicPr>
        <p:blipFill>
          <a:blip r:embed="rId1"/>
          <a:srcRect l="0" t="11742" r="0" b="11962"/>
          <a:stretch/>
        </p:blipFill>
        <p:spPr>
          <a:xfrm>
            <a:off x="500040" y="114300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: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從圖片中你觀察到了什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cf.nearpod.com/neareducation/new/SlideEditorElement/363980637/iconoriginal.jpg?AWSAccessKeyId=AKIAINYAGM2YWP2OWQBA&amp;Expires=2147483647&amp;Signature=Q86kE6BsW9tL6HkQ8FW6NFdinQs%3D&amp;1536659332"/>
          <p:cNvPicPr/>
          <p:nvPr/>
        </p:nvPicPr>
        <p:blipFill>
          <a:blip r:embed="rId1"/>
          <a:stretch/>
        </p:blipFill>
        <p:spPr>
          <a:xfrm>
            <a:off x="1857240" y="2500200"/>
            <a:ext cx="5429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雨量分布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cf.nearpod.com/neareducation/new/SlideEditorElement/363980737/iconoriginal.jpg?AWSAccessKeyId=AKIAINYAGM2YWP2OWQBA&amp;Expires=2147483647&amp;Signature=g85vK7NoKFZVx14NC7mDyx8oxn4%3D&amp;1536659614"/>
          <p:cNvPicPr/>
          <p:nvPr/>
        </p:nvPicPr>
        <p:blipFill>
          <a:blip r:embed="rId1"/>
          <a:stretch/>
        </p:blipFill>
        <p:spPr>
          <a:xfrm>
            <a:off x="2214720" y="1214280"/>
            <a:ext cx="48574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01:25Z</dcterms:created>
  <dc:creator>USER</dc:creator>
  <dc:description/>
  <dc:language>en-US</dc:language>
  <cp:lastModifiedBy>USER</cp:lastModifiedBy>
  <dcterms:modified xsi:type="dcterms:W3CDTF">2018-09-27T01:56:34Z</dcterms:modified>
  <cp:revision>2</cp:revision>
  <dc:subject/>
  <dc:title>水去哪裡了?</dc:title>
</cp:coreProperties>
</file>