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AFA-3D96-4B4A-B1E4-858A0B91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BC9-F6BF-48D0-BDA4-45FEECA6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F92-D8BB-4FF8-A68E-B07381E3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4DC-89D7-4A2D-A938-1350ED37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F461-99BF-44D0-8E3F-34E66FFA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448-2012-44C0-9972-A561D65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0F02-C8FE-4E81-93B5-251D613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ED8-AAFC-416B-87EF-5194433D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F32-BF8B-475D-BBBB-78B6614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FDA-A885-43DA-9B1D-04D6C5F3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34E-F575-4C25-A8DC-CC7E07F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3FF-FEF9-4769-BC39-A893E73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AD5-D5E2-46FF-8B7F-F01A548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187C-53E8-4D72-93F8-36329E2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FC4-90B0-4194-80F0-7D88F78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1E22-59ED-46BB-92B5-863C900F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D6B-20D1-462A-A8FB-76802428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AE1C6-B5F6-42CA-B195-BD4B8032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17AB9-F178-4523-B93F-791C6E8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BCCEA-3E87-4D80-AA70-DB7CA225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E41B7-3B07-4932-A4EC-F3B534B5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B492A-2DA3-47B4-929C-A849F27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761-3090-4F46-BEE2-073AA2ED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8FAD-399A-40A0-8A44-515A2E0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1E584-EE0E-4291-B951-6DE1719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5039A-2655-4624-BA1E-94CD5DA8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3736B-8DB6-4C6C-AE08-F59F28C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C6C7D-09BA-48D7-B38C-E3994C3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D753D-4A07-4939-89DE-1362687A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99C69-1C63-4DFA-B40D-77BDE167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3397-F5B3-4020-92D6-437B91F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0FE3-69DB-4B82-B2FB-3246F5C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4EB3-A986-4F13-8C34-352BF57B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671-7412-43E0-B7DC-8D625567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D5F2-0FAC-447F-8557-267D0F7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2F4A-3179-4E72-8EC2-C1F4530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753B-709E-42D4-BE52-011A849E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8799-85E2-458D-A8CA-546901E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F3A4-2E43-406D-AF7D-24C84C3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F4E1-540E-41AB-8BE2-2EC48F4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546C-DDB2-43E2-819E-132F140C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3617-61DD-43B9-985B-39639BE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8469-9F2A-494C-B15C-D281E10F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614D2-91DF-42F7-9657-E74E66B0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F67-63AD-47FC-A1E2-DDF3D9B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6EBF5-6D1D-4616-A549-535948D5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F1E1E-982A-4D24-A07B-25B31D1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CEE0E-2EB4-411D-B2D2-F58B2644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5145F-B7A3-43AE-8DB4-FB59131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EB428-160A-4603-AB94-9994FED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3EC96-2D71-4E18-A2B1-37AC3E43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21615-F5D9-479B-AFBF-EB7DDE6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CCFC4-BEC5-471B-BF88-801FF6E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3919E-99B0-42BD-8A8F-B412C72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F94A6-70F0-44A0-B3C5-4D7866B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A82-5A1A-4A5A-BA09-419A40F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3C22C-9A14-4D5B-B036-39ABD2B3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66A94-7696-4C17-AFCB-AD670C7C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67938-121E-447F-A5A2-177CABF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B4591-F330-4C95-BA39-7B042BA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B7B69-43B3-4F28-8DE0-82B52E1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A5BB4-A40D-4546-9137-9BC7781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0B67A-39A2-4072-99FB-524C0F24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D7A3C-D284-483B-84FE-4C78DEB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B03AA-C9CE-4533-8145-25052DA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85965-F85C-4F9F-B475-1553006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EDA-8B74-476D-9E21-CFE543A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26D85-2957-461D-8E1E-2E21243F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406D0-2089-4982-A865-17A1F4E8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8EB51-E1C0-43F7-B1A6-20FCA96C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9A657-DCD0-456A-863A-4806F1B8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2775F-0A6C-4541-869F-9BDE8B2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5EE96-0C30-4C10-A107-B6C179E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457D4-11E8-43A0-AAED-BD548C2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717BF-AE09-466D-9437-F5F4856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744F7-300D-4B2E-B66D-B614484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F80A4-30D4-4A3F-8179-454ADBC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D91-4451-41CE-90CC-5242FB8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9A800-4E72-486E-AE8D-0513425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6B85D-B952-44E7-9646-1C5684A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7452A-CD4D-4479-A4C0-A3B8D58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9FCB3-4617-4062-BC0A-ED1DF648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2D355-844B-4A73-813D-66616662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2D3-8857-4A4A-9E22-5DFB006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D5C3-9CA8-4292-8D1C-408724A06737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接點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橢圓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橢圓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橢圓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橢圓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BD1-BADD-42C3-B615-0E1A093BAFC5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671-10F2-4829-857E-DF0E8AE419EC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橢圓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橢圓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橢圓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橢圓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橢圓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線接點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B46-9D54-4E0C-A93E-34EFCA8B6610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3AC-09B1-49CC-9E61-ED9A84CCF372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接點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接點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線接點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DBD-658A-4157-8C5D-2E0A207C48B4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橢圓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線接點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接點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線接點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接點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8AC3-099C-49C6-89C7-6AE01E4AF7F6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WordArt 7"/>
          <p:cNvSpPr txBox="1"/>
          <p:nvPr/>
        </p:nvSpPr>
        <p:spPr>
          <a:xfrm>
            <a:off x="1000080" y="157176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新細明體"/>
              </a:rPr>
              <a:t>防火保平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354" name="Picture 6" descr="204"/>
          <p:cNvPicPr/>
          <p:nvPr/>
        </p:nvPicPr>
        <p:blipFill>
          <a:blip r:embed="rId1"/>
          <a:stretch/>
        </p:blipFill>
        <p:spPr>
          <a:xfrm>
            <a:off x="6215040" y="3214800"/>
            <a:ext cx="949320" cy="3284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sel1imge"/>
          <p:cNvPicPr/>
          <p:nvPr/>
        </p:nvPicPr>
        <p:blipFill>
          <a:blip r:embed="rId2"/>
          <a:stretch/>
        </p:blipFill>
        <p:spPr>
          <a:xfrm>
            <a:off x="3571920" y="4643280"/>
            <a:ext cx="23461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66"/>
                </a:solidFill>
                <a:latin typeface="標楷體"/>
                <a:ea typeface="標楷體"/>
              </a:rPr>
              <a:t>認識火災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7136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標楷體"/>
                <a:ea typeface="標楷體"/>
              </a:rPr>
              <a:t>火災發生的原因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標楷體"/>
                <a:ea typeface="標楷體"/>
              </a:rPr>
              <a:t>火災之分類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標楷體"/>
                <a:ea typeface="標楷體"/>
              </a:rPr>
              <a:t>滅火器的使用方法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標楷體"/>
                <a:ea typeface="標楷體"/>
              </a:rPr>
              <a:t>火災防範措施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火災發生的原因</a:t>
            </a:r>
            <a:br>
              <a:rPr sz="29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用電不小心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煙蒂亂丟棄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煮食不小心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小孩愛玩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使用瓦斯不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敬神祭祖疏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火災之分類</a:t>
            </a:r>
            <a:r>
              <a:rPr b="0" lang="zh-TW" sz="5400" spc="-1" strike="noStrike">
                <a:solidFill>
                  <a:srgbClr val="575f6d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A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普通火災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通常建築物之火災即屬此類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B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油類火災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燃物液體發生之火災。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C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金屬火災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性金屬或其他禁水性物質燃燒引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起之火災</a:t>
            </a:r>
            <a:r>
              <a:rPr b="1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D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電氣火災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涉及通電中之電氣設備，引起之火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災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0000ff"/>
                </a:solidFill>
                <a:latin typeface="標楷體"/>
                <a:ea typeface="標楷體"/>
              </a:rPr>
              <a:t>滅火器的使用方法</a:t>
            </a:r>
            <a:br>
              <a:rPr sz="2900"/>
            </a:b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拉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拉保險插銷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拉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拉起噴嘴對準火苗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壓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壓下握把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9" descr="9"/>
          <p:cNvPicPr/>
          <p:nvPr/>
        </p:nvPicPr>
        <p:blipFill>
          <a:blip r:embed="rId1"/>
          <a:stretch/>
        </p:blipFill>
        <p:spPr>
          <a:xfrm>
            <a:off x="5572080" y="4643280"/>
            <a:ext cx="2071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火災防範措施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火災時撥一一九電話，應將發生地點、如某街（路）</a:t>
            </a: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某巷、某弄、某號、幾樓及附近明顯標誌一併報出，</a:t>
            </a: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以便消防人員迅速到達現場救災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3" descr="1"/>
          <p:cNvPicPr/>
          <p:nvPr/>
        </p:nvPicPr>
        <p:blipFill>
          <a:blip r:embed="rId1"/>
          <a:stretch/>
        </p:blipFill>
        <p:spPr>
          <a:xfrm>
            <a:off x="2428920" y="3000240"/>
            <a:ext cx="41148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火災防範措施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發生火警，應一面派人報警，一面撲救，切勿驚慌失措 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，僅顧逃生或搶救財物，而延誤報警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2"/>
          <p:cNvPicPr/>
          <p:nvPr/>
        </p:nvPicPr>
        <p:blipFill>
          <a:blip r:embed="rId1"/>
          <a:stretch/>
        </p:blipFill>
        <p:spPr>
          <a:xfrm>
            <a:off x="2357280" y="2714760"/>
            <a:ext cx="4343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火災防範措施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一般火災，可用水或棉被等浸濕後覆蓋撲滅之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油類及化學物品火災，可用乾粉、海龍、二氧化碳等</a:t>
            </a: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滅火器撲救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3" descr="3"/>
          <p:cNvPicPr/>
          <p:nvPr/>
        </p:nvPicPr>
        <p:blipFill>
          <a:blip r:embed="rId1"/>
          <a:stretch/>
        </p:blipFill>
        <p:spPr>
          <a:xfrm>
            <a:off x="2286000" y="278604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374" name="矩形 6"/>
          <p:cNvSpPr/>
          <p:nvPr/>
        </p:nvSpPr>
        <p:spPr>
          <a:xfrm>
            <a:off x="785880" y="62150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entury Schoolbook"/>
              </a:rPr>
              <a:t>參考資料來源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www.general.nsysu.edu.tw/yuhwa/part1/90-2/fire-3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8T05:17:49Z</dcterms:created>
  <dc:creator>陳建任</dc:creator>
  <dc:description/>
  <dc:language>en-US</dc:language>
  <cp:lastModifiedBy>User</cp:lastModifiedBy>
  <dcterms:modified xsi:type="dcterms:W3CDTF">2021-12-03T08:44:56Z</dcterms:modified>
  <cp:revision>10</cp:revision>
  <dc:subject/>
  <dc:title>投影片 1</dc:title>
</cp:coreProperties>
</file>