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7FD6-5441-43B6-89B8-A5BDF9CE6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009800" y="3922920"/>
            <a:ext cx="7124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B999-38F4-48CA-A83D-D181A2B4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09800" y="392292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60560" y="392292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A939-F584-4E74-95E9-01DEAD0F2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1009800" y="3922920"/>
            <a:ext cx="22939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418920" y="3922920"/>
            <a:ext cx="22939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5827680" y="3922920"/>
            <a:ext cx="22939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BB0B-C696-40A6-8D05-C9B1ABADD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BAFB-2913-4107-B675-EA85E3D7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E41F-0C2D-4D2A-B56F-AE9B31B8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2703-1FAC-49D1-94A6-6C2B6682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2137-2194-4D8C-9806-B05F1A66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9815-FC8E-4F53-8041-D3B1FF15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09800" y="392292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39BE-D7C8-41ED-89C8-288C43AA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60560" y="392292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B031-6D5E-472F-AE64-08E123D0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09800" y="3922920"/>
            <a:ext cx="7124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F468-67AA-4168-8944-E3F80E8B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241a"/>
            </a:gs>
            <a:gs pos="100000">
              <a:srgbClr val="840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9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9EEF-E921-4E30-928C-5BF850D14350}" type="datetime">
              <a:rPr b="0" lang="zh-CN" sz="900" spc="-1" strike="noStrike">
                <a:solidFill>
                  <a:srgbClr val="ff9000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800" spc="-1" strike="noStrike">
                <a:solidFill>
                  <a:srgbClr val="ff9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25DC-1FDA-4621-8AC1-EFA548F894B2}" type="slidenum">
              <a:rPr b="0" lang="zh-TW" sz="1800" spc="-1" strike="noStrike">
                <a:solidFill>
                  <a:srgbClr val="ff9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-239760" y="0"/>
            <a:ext cx="9702000" cy="6987960"/>
            <a:chOff x="-239760" y="0"/>
            <a:chExt cx="9702000" cy="6987960"/>
          </a:xfrm>
        </p:grpSpPr>
        <p:grpSp>
          <p:nvGrpSpPr>
            <p:cNvPr id="6" name="Group 8"/>
            <p:cNvGrpSpPr/>
            <p:nvPr/>
          </p:nvGrpSpPr>
          <p:grpSpPr>
            <a:xfrm>
              <a:off x="-239760" y="129960"/>
              <a:ext cx="9383760" cy="6858000"/>
              <a:chOff x="-239760" y="129960"/>
              <a:chExt cx="9383760" cy="6858000"/>
            </a:xfrm>
          </p:grpSpPr>
          <p:sp>
            <p:nvSpPr>
              <p:cNvPr id="7" name="Freeform 12"/>
              <p:cNvSpPr/>
              <p:nvPr/>
            </p:nvSpPr>
            <p:spPr>
              <a:xfrm rot="8050800">
                <a:off x="-5760" y="3783240"/>
                <a:ext cx="1054800" cy="1097640"/>
              </a:xfrm>
              <a:custGeom>
                <a:avLst/>
                <a:gdLst>
                  <a:gd name="textAreaLeft" fmla="*/ 0 w 1054800"/>
                  <a:gd name="textAreaRight" fmla="*/ 1055160 w 1054800"/>
                  <a:gd name="textAreaTop" fmla="*/ 0 h 1097640"/>
                  <a:gd name="textAreaBottom" fmla="*/ 1098000 h 1097640"/>
                </a:gdLst>
                <a:ahLst/>
                <a:rect l="textAreaLeft" t="textAreaTop" r="textAreaRight" b="textAreaBottom"/>
                <a:pathLst>
                  <a:path w="1356" h="1412">
                    <a:moveTo>
                      <a:pt x="1306" y="704"/>
                    </a:moveTo>
                    <a:lnTo>
                      <a:pt x="1306" y="704"/>
                    </a:lnTo>
                    <a:lnTo>
                      <a:pt x="1272" y="698"/>
                    </a:lnTo>
                    <a:lnTo>
                      <a:pt x="1246" y="690"/>
                    </a:lnTo>
                    <a:lnTo>
                      <a:pt x="1236" y="684"/>
                    </a:lnTo>
                    <a:lnTo>
                      <a:pt x="1226" y="680"/>
                    </a:lnTo>
                    <a:lnTo>
                      <a:pt x="1218" y="674"/>
                    </a:lnTo>
                    <a:lnTo>
                      <a:pt x="1212" y="666"/>
                    </a:lnTo>
                    <a:lnTo>
                      <a:pt x="1208" y="660"/>
                    </a:lnTo>
                    <a:lnTo>
                      <a:pt x="1204" y="652"/>
                    </a:lnTo>
                    <a:lnTo>
                      <a:pt x="1200" y="638"/>
                    </a:lnTo>
                    <a:lnTo>
                      <a:pt x="1198" y="622"/>
                    </a:lnTo>
                    <a:lnTo>
                      <a:pt x="1202" y="606"/>
                    </a:lnTo>
                    <a:lnTo>
                      <a:pt x="1206" y="592"/>
                    </a:lnTo>
                    <a:lnTo>
                      <a:pt x="1214" y="576"/>
                    </a:lnTo>
                    <a:lnTo>
                      <a:pt x="1230" y="552"/>
                    </a:lnTo>
                    <a:lnTo>
                      <a:pt x="1242" y="534"/>
                    </a:lnTo>
                    <a:lnTo>
                      <a:pt x="1248" y="526"/>
                    </a:lnTo>
                    <a:lnTo>
                      <a:pt x="1248" y="526"/>
                    </a:lnTo>
                    <a:lnTo>
                      <a:pt x="1240" y="526"/>
                    </a:lnTo>
                    <a:lnTo>
                      <a:pt x="1234" y="524"/>
                    </a:lnTo>
                    <a:lnTo>
                      <a:pt x="1228" y="522"/>
                    </a:lnTo>
                    <a:lnTo>
                      <a:pt x="1224" y="518"/>
                    </a:lnTo>
                    <a:lnTo>
                      <a:pt x="1220" y="512"/>
                    </a:lnTo>
                    <a:lnTo>
                      <a:pt x="1218" y="506"/>
                    </a:lnTo>
                    <a:lnTo>
                      <a:pt x="1214" y="494"/>
                    </a:lnTo>
                    <a:lnTo>
                      <a:pt x="1214" y="478"/>
                    </a:lnTo>
                    <a:lnTo>
                      <a:pt x="1216" y="460"/>
                    </a:lnTo>
                    <a:lnTo>
                      <a:pt x="1218" y="440"/>
                    </a:lnTo>
                    <a:lnTo>
                      <a:pt x="1224" y="420"/>
                    </a:lnTo>
                    <a:lnTo>
                      <a:pt x="1236" y="380"/>
                    </a:lnTo>
                    <a:lnTo>
                      <a:pt x="1250" y="346"/>
                    </a:lnTo>
                    <a:lnTo>
                      <a:pt x="1266" y="312"/>
                    </a:lnTo>
                    <a:lnTo>
                      <a:pt x="1266" y="312"/>
                    </a:lnTo>
                    <a:lnTo>
                      <a:pt x="1238" y="340"/>
                    </a:lnTo>
                    <a:lnTo>
                      <a:pt x="1210" y="362"/>
                    </a:lnTo>
                    <a:lnTo>
                      <a:pt x="1184" y="380"/>
                    </a:lnTo>
                    <a:lnTo>
                      <a:pt x="1160" y="394"/>
                    </a:lnTo>
                    <a:lnTo>
                      <a:pt x="1138" y="404"/>
                    </a:lnTo>
                    <a:lnTo>
                      <a:pt x="1118" y="410"/>
                    </a:lnTo>
                    <a:lnTo>
                      <a:pt x="1098" y="414"/>
                    </a:lnTo>
                    <a:lnTo>
                      <a:pt x="1082" y="416"/>
                    </a:lnTo>
                    <a:lnTo>
                      <a:pt x="1066" y="416"/>
                    </a:lnTo>
                    <a:lnTo>
                      <a:pt x="1052" y="414"/>
                    </a:lnTo>
                    <a:lnTo>
                      <a:pt x="1030" y="410"/>
                    </a:lnTo>
                    <a:lnTo>
                      <a:pt x="1016" y="404"/>
                    </a:lnTo>
                    <a:lnTo>
                      <a:pt x="1012" y="402"/>
                    </a:lnTo>
                    <a:lnTo>
                      <a:pt x="1012" y="402"/>
                    </a:lnTo>
                    <a:lnTo>
                      <a:pt x="1006" y="414"/>
                    </a:lnTo>
                    <a:lnTo>
                      <a:pt x="996" y="430"/>
                    </a:lnTo>
                    <a:lnTo>
                      <a:pt x="964" y="468"/>
                    </a:lnTo>
                    <a:lnTo>
                      <a:pt x="928" y="506"/>
                    </a:lnTo>
                    <a:lnTo>
                      <a:pt x="902" y="532"/>
                    </a:lnTo>
                    <a:lnTo>
                      <a:pt x="902" y="532"/>
                    </a:lnTo>
                    <a:lnTo>
                      <a:pt x="894" y="538"/>
                    </a:lnTo>
                    <a:lnTo>
                      <a:pt x="888" y="540"/>
                    </a:lnTo>
                    <a:lnTo>
                      <a:pt x="886" y="538"/>
                    </a:lnTo>
                    <a:lnTo>
                      <a:pt x="884" y="532"/>
                    </a:lnTo>
                    <a:lnTo>
                      <a:pt x="882" y="522"/>
                    </a:lnTo>
                    <a:lnTo>
                      <a:pt x="882" y="516"/>
                    </a:lnTo>
                    <a:lnTo>
                      <a:pt x="882" y="516"/>
                    </a:lnTo>
                    <a:lnTo>
                      <a:pt x="890" y="502"/>
                    </a:lnTo>
                    <a:lnTo>
                      <a:pt x="898" y="486"/>
                    </a:lnTo>
                    <a:lnTo>
                      <a:pt x="910" y="448"/>
                    </a:lnTo>
                    <a:lnTo>
                      <a:pt x="920" y="404"/>
                    </a:lnTo>
                    <a:lnTo>
                      <a:pt x="928" y="360"/>
                    </a:lnTo>
                    <a:lnTo>
                      <a:pt x="938" y="282"/>
                    </a:lnTo>
                    <a:lnTo>
                      <a:pt x="942" y="250"/>
                    </a:lnTo>
                    <a:lnTo>
                      <a:pt x="942" y="250"/>
                    </a:lnTo>
                    <a:lnTo>
                      <a:pt x="904" y="278"/>
                    </a:lnTo>
                    <a:lnTo>
                      <a:pt x="874" y="298"/>
                    </a:lnTo>
                    <a:lnTo>
                      <a:pt x="850" y="310"/>
                    </a:lnTo>
                    <a:lnTo>
                      <a:pt x="840" y="312"/>
                    </a:lnTo>
                    <a:lnTo>
                      <a:pt x="830" y="314"/>
                    </a:lnTo>
                    <a:lnTo>
                      <a:pt x="822" y="314"/>
                    </a:lnTo>
                    <a:lnTo>
                      <a:pt x="816" y="312"/>
                    </a:lnTo>
                    <a:lnTo>
                      <a:pt x="810" y="310"/>
                    </a:lnTo>
                    <a:lnTo>
                      <a:pt x="804" y="306"/>
                    </a:lnTo>
                    <a:lnTo>
                      <a:pt x="800" y="300"/>
                    </a:lnTo>
                    <a:lnTo>
                      <a:pt x="796" y="294"/>
                    </a:lnTo>
                    <a:lnTo>
                      <a:pt x="792" y="280"/>
                    </a:lnTo>
                    <a:lnTo>
                      <a:pt x="790" y="264"/>
                    </a:lnTo>
                    <a:lnTo>
                      <a:pt x="790" y="246"/>
                    </a:lnTo>
                    <a:lnTo>
                      <a:pt x="792" y="212"/>
                    </a:lnTo>
                    <a:lnTo>
                      <a:pt x="798" y="186"/>
                    </a:lnTo>
                    <a:lnTo>
                      <a:pt x="800" y="176"/>
                    </a:lnTo>
                    <a:lnTo>
                      <a:pt x="800" y="176"/>
                    </a:lnTo>
                    <a:lnTo>
                      <a:pt x="792" y="184"/>
                    </a:lnTo>
                    <a:lnTo>
                      <a:pt x="782" y="190"/>
                    </a:lnTo>
                    <a:lnTo>
                      <a:pt x="774" y="194"/>
                    </a:lnTo>
                    <a:lnTo>
                      <a:pt x="766" y="198"/>
                    </a:lnTo>
                    <a:lnTo>
                      <a:pt x="758" y="198"/>
                    </a:lnTo>
                    <a:lnTo>
                      <a:pt x="750" y="196"/>
                    </a:lnTo>
                    <a:lnTo>
                      <a:pt x="744" y="194"/>
                    </a:lnTo>
                    <a:lnTo>
                      <a:pt x="738" y="190"/>
                    </a:lnTo>
                    <a:lnTo>
                      <a:pt x="726" y="180"/>
                    </a:lnTo>
                    <a:lnTo>
                      <a:pt x="716" y="164"/>
                    </a:lnTo>
                    <a:lnTo>
                      <a:pt x="708" y="146"/>
                    </a:lnTo>
                    <a:lnTo>
                      <a:pt x="700" y="126"/>
                    </a:lnTo>
                    <a:lnTo>
                      <a:pt x="694" y="104"/>
                    </a:lnTo>
                    <a:lnTo>
                      <a:pt x="690" y="82"/>
                    </a:lnTo>
                    <a:lnTo>
                      <a:pt x="684" y="42"/>
                    </a:lnTo>
                    <a:lnTo>
                      <a:pt x="678" y="0"/>
                    </a:lnTo>
                    <a:lnTo>
                      <a:pt x="678" y="0"/>
                    </a:lnTo>
                    <a:lnTo>
                      <a:pt x="678" y="8"/>
                    </a:lnTo>
                    <a:lnTo>
                      <a:pt x="678" y="8"/>
                    </a:lnTo>
                    <a:lnTo>
                      <a:pt x="678" y="0"/>
                    </a:lnTo>
                    <a:lnTo>
                      <a:pt x="678" y="0"/>
                    </a:lnTo>
                    <a:lnTo>
                      <a:pt x="672" y="42"/>
                    </a:lnTo>
                    <a:lnTo>
                      <a:pt x="666" y="82"/>
                    </a:lnTo>
                    <a:lnTo>
                      <a:pt x="662" y="104"/>
                    </a:lnTo>
                    <a:lnTo>
                      <a:pt x="656" y="126"/>
                    </a:lnTo>
                    <a:lnTo>
                      <a:pt x="648" y="146"/>
                    </a:lnTo>
                    <a:lnTo>
                      <a:pt x="640" y="164"/>
                    </a:lnTo>
                    <a:lnTo>
                      <a:pt x="630" y="180"/>
                    </a:lnTo>
                    <a:lnTo>
                      <a:pt x="618" y="190"/>
                    </a:lnTo>
                    <a:lnTo>
                      <a:pt x="612" y="194"/>
                    </a:lnTo>
                    <a:lnTo>
                      <a:pt x="606" y="196"/>
                    </a:lnTo>
                    <a:lnTo>
                      <a:pt x="598" y="198"/>
                    </a:lnTo>
                    <a:lnTo>
                      <a:pt x="590" y="198"/>
                    </a:lnTo>
                    <a:lnTo>
                      <a:pt x="582" y="194"/>
                    </a:lnTo>
                    <a:lnTo>
                      <a:pt x="574" y="190"/>
                    </a:lnTo>
                    <a:lnTo>
                      <a:pt x="564" y="184"/>
                    </a:lnTo>
                    <a:lnTo>
                      <a:pt x="556" y="176"/>
                    </a:lnTo>
                    <a:lnTo>
                      <a:pt x="556" y="176"/>
                    </a:lnTo>
                    <a:lnTo>
                      <a:pt x="558" y="186"/>
                    </a:lnTo>
                    <a:lnTo>
                      <a:pt x="564" y="212"/>
                    </a:lnTo>
                    <a:lnTo>
                      <a:pt x="566" y="246"/>
                    </a:lnTo>
                    <a:lnTo>
                      <a:pt x="566" y="264"/>
                    </a:lnTo>
                    <a:lnTo>
                      <a:pt x="564" y="280"/>
                    </a:lnTo>
                    <a:lnTo>
                      <a:pt x="560" y="294"/>
                    </a:lnTo>
                    <a:lnTo>
                      <a:pt x="556" y="300"/>
                    </a:lnTo>
                    <a:lnTo>
                      <a:pt x="552" y="306"/>
                    </a:lnTo>
                    <a:lnTo>
                      <a:pt x="546" y="310"/>
                    </a:lnTo>
                    <a:lnTo>
                      <a:pt x="540" y="312"/>
                    </a:lnTo>
                    <a:lnTo>
                      <a:pt x="534" y="314"/>
                    </a:lnTo>
                    <a:lnTo>
                      <a:pt x="526" y="314"/>
                    </a:lnTo>
                    <a:lnTo>
                      <a:pt x="516" y="312"/>
                    </a:lnTo>
                    <a:lnTo>
                      <a:pt x="506" y="310"/>
                    </a:lnTo>
                    <a:lnTo>
                      <a:pt x="482" y="298"/>
                    </a:lnTo>
                    <a:lnTo>
                      <a:pt x="452" y="278"/>
                    </a:lnTo>
                    <a:lnTo>
                      <a:pt x="414" y="250"/>
                    </a:lnTo>
                    <a:lnTo>
                      <a:pt x="414" y="250"/>
                    </a:lnTo>
                    <a:lnTo>
                      <a:pt x="418" y="282"/>
                    </a:lnTo>
                    <a:lnTo>
                      <a:pt x="428" y="360"/>
                    </a:lnTo>
                    <a:lnTo>
                      <a:pt x="436" y="404"/>
                    </a:lnTo>
                    <a:lnTo>
                      <a:pt x="446" y="448"/>
                    </a:lnTo>
                    <a:lnTo>
                      <a:pt x="458" y="486"/>
                    </a:lnTo>
                    <a:lnTo>
                      <a:pt x="466" y="502"/>
                    </a:lnTo>
                    <a:lnTo>
                      <a:pt x="474" y="516"/>
                    </a:lnTo>
                    <a:lnTo>
                      <a:pt x="474" y="516"/>
                    </a:lnTo>
                    <a:lnTo>
                      <a:pt x="474" y="522"/>
                    </a:lnTo>
                    <a:lnTo>
                      <a:pt x="472" y="532"/>
                    </a:lnTo>
                    <a:lnTo>
                      <a:pt x="470" y="538"/>
                    </a:lnTo>
                    <a:lnTo>
                      <a:pt x="468" y="540"/>
                    </a:lnTo>
                    <a:lnTo>
                      <a:pt x="462" y="538"/>
                    </a:lnTo>
                    <a:lnTo>
                      <a:pt x="454" y="532"/>
                    </a:lnTo>
                    <a:lnTo>
                      <a:pt x="454" y="532"/>
                    </a:lnTo>
                    <a:lnTo>
                      <a:pt x="428" y="506"/>
                    </a:lnTo>
                    <a:lnTo>
                      <a:pt x="392" y="468"/>
                    </a:lnTo>
                    <a:lnTo>
                      <a:pt x="360" y="430"/>
                    </a:lnTo>
                    <a:lnTo>
                      <a:pt x="350" y="414"/>
                    </a:lnTo>
                    <a:lnTo>
                      <a:pt x="344" y="402"/>
                    </a:lnTo>
                    <a:lnTo>
                      <a:pt x="344" y="402"/>
                    </a:lnTo>
                    <a:lnTo>
                      <a:pt x="340" y="404"/>
                    </a:lnTo>
                    <a:lnTo>
                      <a:pt x="326" y="410"/>
                    </a:lnTo>
                    <a:lnTo>
                      <a:pt x="304" y="414"/>
                    </a:lnTo>
                    <a:lnTo>
                      <a:pt x="290" y="416"/>
                    </a:lnTo>
                    <a:lnTo>
                      <a:pt x="274" y="416"/>
                    </a:lnTo>
                    <a:lnTo>
                      <a:pt x="258" y="414"/>
                    </a:lnTo>
                    <a:lnTo>
                      <a:pt x="238" y="410"/>
                    </a:lnTo>
                    <a:lnTo>
                      <a:pt x="218" y="404"/>
                    </a:lnTo>
                    <a:lnTo>
                      <a:pt x="196" y="394"/>
                    </a:lnTo>
                    <a:lnTo>
                      <a:pt x="172" y="380"/>
                    </a:lnTo>
                    <a:lnTo>
                      <a:pt x="146" y="362"/>
                    </a:lnTo>
                    <a:lnTo>
                      <a:pt x="118" y="340"/>
                    </a:lnTo>
                    <a:lnTo>
                      <a:pt x="90" y="312"/>
                    </a:lnTo>
                    <a:lnTo>
                      <a:pt x="90" y="312"/>
                    </a:lnTo>
                    <a:lnTo>
                      <a:pt x="106" y="346"/>
                    </a:lnTo>
                    <a:lnTo>
                      <a:pt x="120" y="380"/>
                    </a:lnTo>
                    <a:lnTo>
                      <a:pt x="132" y="420"/>
                    </a:lnTo>
                    <a:lnTo>
                      <a:pt x="138" y="440"/>
                    </a:lnTo>
                    <a:lnTo>
                      <a:pt x="140" y="460"/>
                    </a:lnTo>
                    <a:lnTo>
                      <a:pt x="142" y="478"/>
                    </a:lnTo>
                    <a:lnTo>
                      <a:pt x="142" y="494"/>
                    </a:lnTo>
                    <a:lnTo>
                      <a:pt x="138" y="506"/>
                    </a:lnTo>
                    <a:lnTo>
                      <a:pt x="136" y="512"/>
                    </a:lnTo>
                    <a:lnTo>
                      <a:pt x="132" y="518"/>
                    </a:lnTo>
                    <a:lnTo>
                      <a:pt x="128" y="522"/>
                    </a:lnTo>
                    <a:lnTo>
                      <a:pt x="122" y="524"/>
                    </a:lnTo>
                    <a:lnTo>
                      <a:pt x="116" y="526"/>
                    </a:lnTo>
                    <a:lnTo>
                      <a:pt x="108" y="526"/>
                    </a:lnTo>
                    <a:lnTo>
                      <a:pt x="108" y="526"/>
                    </a:lnTo>
                    <a:lnTo>
                      <a:pt x="114" y="534"/>
                    </a:lnTo>
                    <a:lnTo>
                      <a:pt x="126" y="552"/>
                    </a:lnTo>
                    <a:lnTo>
                      <a:pt x="142" y="576"/>
                    </a:lnTo>
                    <a:lnTo>
                      <a:pt x="150" y="592"/>
                    </a:lnTo>
                    <a:lnTo>
                      <a:pt x="154" y="606"/>
                    </a:lnTo>
                    <a:lnTo>
                      <a:pt x="158" y="622"/>
                    </a:lnTo>
                    <a:lnTo>
                      <a:pt x="156" y="638"/>
                    </a:lnTo>
                    <a:lnTo>
                      <a:pt x="152" y="652"/>
                    </a:lnTo>
                    <a:lnTo>
                      <a:pt x="148" y="660"/>
                    </a:lnTo>
                    <a:lnTo>
                      <a:pt x="144" y="666"/>
                    </a:lnTo>
                    <a:lnTo>
                      <a:pt x="138" y="674"/>
                    </a:lnTo>
                    <a:lnTo>
                      <a:pt x="130" y="680"/>
                    </a:lnTo>
                    <a:lnTo>
                      <a:pt x="120" y="684"/>
                    </a:lnTo>
                    <a:lnTo>
                      <a:pt x="110" y="690"/>
                    </a:lnTo>
                    <a:lnTo>
                      <a:pt x="84" y="698"/>
                    </a:lnTo>
                    <a:lnTo>
                      <a:pt x="50" y="704"/>
                    </a:lnTo>
                    <a:lnTo>
                      <a:pt x="50" y="704"/>
                    </a:lnTo>
                    <a:lnTo>
                      <a:pt x="70" y="712"/>
                    </a:lnTo>
                    <a:lnTo>
                      <a:pt x="116" y="734"/>
                    </a:lnTo>
                    <a:lnTo>
                      <a:pt x="146" y="748"/>
                    </a:lnTo>
                    <a:lnTo>
                      <a:pt x="174" y="766"/>
                    </a:lnTo>
                    <a:lnTo>
                      <a:pt x="202" y="784"/>
                    </a:lnTo>
                    <a:lnTo>
                      <a:pt x="224" y="804"/>
                    </a:lnTo>
                    <a:lnTo>
                      <a:pt x="234" y="814"/>
                    </a:lnTo>
                    <a:lnTo>
                      <a:pt x="242" y="824"/>
                    </a:lnTo>
                    <a:lnTo>
                      <a:pt x="246" y="836"/>
                    </a:lnTo>
                    <a:lnTo>
                      <a:pt x="250" y="846"/>
                    </a:lnTo>
                    <a:lnTo>
                      <a:pt x="250" y="856"/>
                    </a:lnTo>
                    <a:lnTo>
                      <a:pt x="248" y="868"/>
                    </a:lnTo>
                    <a:lnTo>
                      <a:pt x="242" y="878"/>
                    </a:lnTo>
                    <a:lnTo>
                      <a:pt x="232" y="888"/>
                    </a:lnTo>
                    <a:lnTo>
                      <a:pt x="220" y="900"/>
                    </a:lnTo>
                    <a:lnTo>
                      <a:pt x="202" y="910"/>
                    </a:lnTo>
                    <a:lnTo>
                      <a:pt x="182" y="920"/>
                    </a:lnTo>
                    <a:lnTo>
                      <a:pt x="156" y="930"/>
                    </a:lnTo>
                    <a:lnTo>
                      <a:pt x="124" y="938"/>
                    </a:lnTo>
                    <a:lnTo>
                      <a:pt x="88" y="948"/>
                    </a:lnTo>
                    <a:lnTo>
                      <a:pt x="48" y="956"/>
                    </a:lnTo>
                    <a:lnTo>
                      <a:pt x="0" y="964"/>
                    </a:lnTo>
                    <a:lnTo>
                      <a:pt x="0" y="964"/>
                    </a:lnTo>
                    <a:lnTo>
                      <a:pt x="30" y="966"/>
                    </a:lnTo>
                    <a:lnTo>
                      <a:pt x="62" y="972"/>
                    </a:lnTo>
                    <a:lnTo>
                      <a:pt x="102" y="980"/>
                    </a:lnTo>
                    <a:lnTo>
                      <a:pt x="148" y="992"/>
                    </a:lnTo>
                    <a:lnTo>
                      <a:pt x="198" y="1010"/>
                    </a:lnTo>
                    <a:lnTo>
                      <a:pt x="224" y="1020"/>
                    </a:lnTo>
                    <a:lnTo>
                      <a:pt x="250" y="1032"/>
                    </a:lnTo>
                    <a:lnTo>
                      <a:pt x="274" y="1046"/>
                    </a:lnTo>
                    <a:lnTo>
                      <a:pt x="298" y="1060"/>
                    </a:lnTo>
                    <a:lnTo>
                      <a:pt x="298" y="1060"/>
                    </a:lnTo>
                    <a:lnTo>
                      <a:pt x="330" y="1060"/>
                    </a:lnTo>
                    <a:lnTo>
                      <a:pt x="358" y="1064"/>
                    </a:lnTo>
                    <a:lnTo>
                      <a:pt x="374" y="1066"/>
                    </a:lnTo>
                    <a:lnTo>
                      <a:pt x="388" y="1070"/>
                    </a:lnTo>
                    <a:lnTo>
                      <a:pt x="402" y="1074"/>
                    </a:lnTo>
                    <a:lnTo>
                      <a:pt x="412" y="1082"/>
                    </a:lnTo>
                    <a:lnTo>
                      <a:pt x="420" y="1090"/>
                    </a:lnTo>
                    <a:lnTo>
                      <a:pt x="422" y="1094"/>
                    </a:lnTo>
                    <a:lnTo>
                      <a:pt x="422" y="1100"/>
                    </a:lnTo>
                    <a:lnTo>
                      <a:pt x="422" y="1106"/>
                    </a:lnTo>
                    <a:lnTo>
                      <a:pt x="422" y="1114"/>
                    </a:lnTo>
                    <a:lnTo>
                      <a:pt x="414" y="1128"/>
                    </a:lnTo>
                    <a:lnTo>
                      <a:pt x="402" y="1146"/>
                    </a:lnTo>
                    <a:lnTo>
                      <a:pt x="382" y="1168"/>
                    </a:lnTo>
                    <a:lnTo>
                      <a:pt x="382" y="1168"/>
                    </a:lnTo>
                    <a:lnTo>
                      <a:pt x="410" y="1160"/>
                    </a:lnTo>
                    <a:lnTo>
                      <a:pt x="442" y="1152"/>
                    </a:lnTo>
                    <a:lnTo>
                      <a:pt x="482" y="1140"/>
                    </a:lnTo>
                    <a:lnTo>
                      <a:pt x="526" y="1126"/>
                    </a:lnTo>
                    <a:lnTo>
                      <a:pt x="572" y="1108"/>
                    </a:lnTo>
                    <a:lnTo>
                      <a:pt x="616" y="1088"/>
                    </a:lnTo>
                    <a:lnTo>
                      <a:pt x="636" y="1076"/>
                    </a:lnTo>
                    <a:lnTo>
                      <a:pt x="654" y="1064"/>
                    </a:lnTo>
                    <a:lnTo>
                      <a:pt x="654" y="1064"/>
                    </a:lnTo>
                    <a:lnTo>
                      <a:pt x="654" y="1128"/>
                    </a:lnTo>
                    <a:lnTo>
                      <a:pt x="652" y="1174"/>
                    </a:lnTo>
                    <a:lnTo>
                      <a:pt x="646" y="1224"/>
                    </a:lnTo>
                    <a:lnTo>
                      <a:pt x="638" y="1274"/>
                    </a:lnTo>
                    <a:lnTo>
                      <a:pt x="632" y="1298"/>
                    </a:lnTo>
                    <a:lnTo>
                      <a:pt x="626" y="1322"/>
                    </a:lnTo>
                    <a:lnTo>
                      <a:pt x="616" y="1342"/>
                    </a:lnTo>
                    <a:lnTo>
                      <a:pt x="606" y="1360"/>
                    </a:lnTo>
                    <a:lnTo>
                      <a:pt x="594" y="1374"/>
                    </a:lnTo>
                    <a:lnTo>
                      <a:pt x="582" y="1386"/>
                    </a:lnTo>
                    <a:lnTo>
                      <a:pt x="582" y="1386"/>
                    </a:lnTo>
                    <a:lnTo>
                      <a:pt x="580" y="1388"/>
                    </a:lnTo>
                    <a:lnTo>
                      <a:pt x="576" y="1392"/>
                    </a:lnTo>
                    <a:lnTo>
                      <a:pt x="576" y="1396"/>
                    </a:lnTo>
                    <a:lnTo>
                      <a:pt x="582" y="1400"/>
                    </a:lnTo>
                    <a:lnTo>
                      <a:pt x="582" y="1400"/>
                    </a:lnTo>
                    <a:lnTo>
                      <a:pt x="586" y="1404"/>
                    </a:lnTo>
                    <a:lnTo>
                      <a:pt x="600" y="1410"/>
                    </a:lnTo>
                    <a:lnTo>
                      <a:pt x="608" y="1412"/>
                    </a:lnTo>
                    <a:lnTo>
                      <a:pt x="616" y="1410"/>
                    </a:lnTo>
                    <a:lnTo>
                      <a:pt x="626" y="1408"/>
                    </a:lnTo>
                    <a:lnTo>
                      <a:pt x="636" y="1402"/>
                    </a:lnTo>
                    <a:lnTo>
                      <a:pt x="636" y="1402"/>
                    </a:lnTo>
                    <a:lnTo>
                      <a:pt x="642" y="1400"/>
                    </a:lnTo>
                    <a:lnTo>
                      <a:pt x="646" y="1400"/>
                    </a:lnTo>
                    <a:lnTo>
                      <a:pt x="652" y="1396"/>
                    </a:lnTo>
                    <a:lnTo>
                      <a:pt x="658" y="1390"/>
                    </a:lnTo>
                    <a:lnTo>
                      <a:pt x="658" y="1390"/>
                    </a:lnTo>
                    <a:lnTo>
                      <a:pt x="666" y="1372"/>
                    </a:lnTo>
                    <a:lnTo>
                      <a:pt x="672" y="1350"/>
                    </a:lnTo>
                    <a:lnTo>
                      <a:pt x="678" y="1320"/>
                    </a:lnTo>
                    <a:lnTo>
                      <a:pt x="684" y="1284"/>
                    </a:lnTo>
                    <a:lnTo>
                      <a:pt x="690" y="1240"/>
                    </a:lnTo>
                    <a:lnTo>
                      <a:pt x="694" y="1190"/>
                    </a:lnTo>
                    <a:lnTo>
                      <a:pt x="702" y="1064"/>
                    </a:lnTo>
                    <a:lnTo>
                      <a:pt x="702" y="1064"/>
                    </a:lnTo>
                    <a:lnTo>
                      <a:pt x="722" y="1076"/>
                    </a:lnTo>
                    <a:lnTo>
                      <a:pt x="742" y="1088"/>
                    </a:lnTo>
                    <a:lnTo>
                      <a:pt x="786" y="1108"/>
                    </a:lnTo>
                    <a:lnTo>
                      <a:pt x="830" y="1126"/>
                    </a:lnTo>
                    <a:lnTo>
                      <a:pt x="874" y="1140"/>
                    </a:lnTo>
                    <a:lnTo>
                      <a:pt x="914" y="1152"/>
                    </a:lnTo>
                    <a:lnTo>
                      <a:pt x="946" y="1160"/>
                    </a:lnTo>
                    <a:lnTo>
                      <a:pt x="974" y="1168"/>
                    </a:lnTo>
                    <a:lnTo>
                      <a:pt x="974" y="1168"/>
                    </a:lnTo>
                    <a:lnTo>
                      <a:pt x="954" y="1146"/>
                    </a:lnTo>
                    <a:lnTo>
                      <a:pt x="942" y="1128"/>
                    </a:lnTo>
                    <a:lnTo>
                      <a:pt x="934" y="1114"/>
                    </a:lnTo>
                    <a:lnTo>
                      <a:pt x="934" y="1106"/>
                    </a:lnTo>
                    <a:lnTo>
                      <a:pt x="934" y="1100"/>
                    </a:lnTo>
                    <a:lnTo>
                      <a:pt x="934" y="1094"/>
                    </a:lnTo>
                    <a:lnTo>
                      <a:pt x="936" y="1090"/>
                    </a:lnTo>
                    <a:lnTo>
                      <a:pt x="944" y="1082"/>
                    </a:lnTo>
                    <a:lnTo>
                      <a:pt x="954" y="1074"/>
                    </a:lnTo>
                    <a:lnTo>
                      <a:pt x="968" y="1070"/>
                    </a:lnTo>
                    <a:lnTo>
                      <a:pt x="982" y="1066"/>
                    </a:lnTo>
                    <a:lnTo>
                      <a:pt x="998" y="1064"/>
                    </a:lnTo>
                    <a:lnTo>
                      <a:pt x="1026" y="1060"/>
                    </a:lnTo>
                    <a:lnTo>
                      <a:pt x="1058" y="1060"/>
                    </a:lnTo>
                    <a:lnTo>
                      <a:pt x="1058" y="1060"/>
                    </a:lnTo>
                    <a:lnTo>
                      <a:pt x="1082" y="1046"/>
                    </a:lnTo>
                    <a:lnTo>
                      <a:pt x="1106" y="1032"/>
                    </a:lnTo>
                    <a:lnTo>
                      <a:pt x="1132" y="1020"/>
                    </a:lnTo>
                    <a:lnTo>
                      <a:pt x="1158" y="1010"/>
                    </a:lnTo>
                    <a:lnTo>
                      <a:pt x="1208" y="992"/>
                    </a:lnTo>
                    <a:lnTo>
                      <a:pt x="1254" y="980"/>
                    </a:lnTo>
                    <a:lnTo>
                      <a:pt x="1294" y="972"/>
                    </a:lnTo>
                    <a:lnTo>
                      <a:pt x="1326" y="966"/>
                    </a:lnTo>
                    <a:lnTo>
                      <a:pt x="1356" y="964"/>
                    </a:lnTo>
                    <a:lnTo>
                      <a:pt x="1356" y="964"/>
                    </a:lnTo>
                    <a:lnTo>
                      <a:pt x="1308" y="956"/>
                    </a:lnTo>
                    <a:lnTo>
                      <a:pt x="1268" y="948"/>
                    </a:lnTo>
                    <a:lnTo>
                      <a:pt x="1232" y="938"/>
                    </a:lnTo>
                    <a:lnTo>
                      <a:pt x="1200" y="930"/>
                    </a:lnTo>
                    <a:lnTo>
                      <a:pt x="1174" y="920"/>
                    </a:lnTo>
                    <a:lnTo>
                      <a:pt x="1154" y="910"/>
                    </a:lnTo>
                    <a:lnTo>
                      <a:pt x="1136" y="900"/>
                    </a:lnTo>
                    <a:lnTo>
                      <a:pt x="1124" y="888"/>
                    </a:lnTo>
                    <a:lnTo>
                      <a:pt x="1114" y="878"/>
                    </a:lnTo>
                    <a:lnTo>
                      <a:pt x="1108" y="868"/>
                    </a:lnTo>
                    <a:lnTo>
                      <a:pt x="1106" y="856"/>
                    </a:lnTo>
                    <a:lnTo>
                      <a:pt x="1106" y="846"/>
                    </a:lnTo>
                    <a:lnTo>
                      <a:pt x="1108" y="836"/>
                    </a:lnTo>
                    <a:lnTo>
                      <a:pt x="1114" y="824"/>
                    </a:lnTo>
                    <a:lnTo>
                      <a:pt x="1122" y="814"/>
                    </a:lnTo>
                    <a:lnTo>
                      <a:pt x="1132" y="804"/>
                    </a:lnTo>
                    <a:lnTo>
                      <a:pt x="1154" y="784"/>
                    </a:lnTo>
                    <a:lnTo>
                      <a:pt x="1182" y="766"/>
                    </a:lnTo>
                    <a:lnTo>
                      <a:pt x="1210" y="748"/>
                    </a:lnTo>
                    <a:lnTo>
                      <a:pt x="1240" y="734"/>
                    </a:lnTo>
                    <a:lnTo>
                      <a:pt x="1286" y="712"/>
                    </a:lnTo>
                    <a:lnTo>
                      <a:pt x="1306" y="704"/>
                    </a:lnTo>
                    <a:lnTo>
                      <a:pt x="1306" y="704"/>
                    </a:lnTo>
                    <a:close/>
                  </a:path>
                </a:pathLst>
              </a:custGeom>
              <a:solidFill>
                <a:srgbClr val="ed4600">
                  <a:alpha val="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28"/>
              <p:cNvSpPr/>
              <p:nvPr/>
            </p:nvSpPr>
            <p:spPr>
              <a:xfrm rot="7569000">
                <a:off x="564480" y="196920"/>
                <a:ext cx="832680" cy="1312560"/>
              </a:xfrm>
              <a:custGeom>
                <a:avLst/>
                <a:gdLst>
                  <a:gd name="textAreaLeft" fmla="*/ 0 w 832680"/>
                  <a:gd name="textAreaRight" fmla="*/ 833040 w 832680"/>
                  <a:gd name="textAreaTop" fmla="*/ 0 h 1312560"/>
                  <a:gd name="textAreaBottom" fmla="*/ 1312920 h 1312560"/>
                </a:gdLst>
                <a:ahLst/>
                <a:rect l="textAreaLeft" t="textAreaTop" r="textAreaRight" b="textAreaBottom"/>
                <a:pathLst>
                  <a:path w="1188" h="1874">
                    <a:moveTo>
                      <a:pt x="1170" y="730"/>
                    </a:moveTo>
                    <a:lnTo>
                      <a:pt x="1170" y="730"/>
                    </a:lnTo>
                    <a:lnTo>
                      <a:pt x="1168" y="742"/>
                    </a:lnTo>
                    <a:lnTo>
                      <a:pt x="1164" y="752"/>
                    </a:lnTo>
                    <a:lnTo>
                      <a:pt x="1154" y="768"/>
                    </a:lnTo>
                    <a:lnTo>
                      <a:pt x="1140" y="784"/>
                    </a:lnTo>
                    <a:lnTo>
                      <a:pt x="1126" y="796"/>
                    </a:lnTo>
                    <a:lnTo>
                      <a:pt x="1114" y="804"/>
                    </a:lnTo>
                    <a:lnTo>
                      <a:pt x="1102" y="810"/>
                    </a:lnTo>
                    <a:lnTo>
                      <a:pt x="1092" y="816"/>
                    </a:lnTo>
                    <a:lnTo>
                      <a:pt x="1092" y="816"/>
                    </a:lnTo>
                    <a:lnTo>
                      <a:pt x="1090" y="812"/>
                    </a:lnTo>
                    <a:lnTo>
                      <a:pt x="1088" y="802"/>
                    </a:lnTo>
                    <a:lnTo>
                      <a:pt x="1080" y="790"/>
                    </a:lnTo>
                    <a:lnTo>
                      <a:pt x="1076" y="782"/>
                    </a:lnTo>
                    <a:lnTo>
                      <a:pt x="1068" y="776"/>
                    </a:lnTo>
                    <a:lnTo>
                      <a:pt x="1060" y="770"/>
                    </a:lnTo>
                    <a:lnTo>
                      <a:pt x="1052" y="766"/>
                    </a:lnTo>
                    <a:lnTo>
                      <a:pt x="1040" y="762"/>
                    </a:lnTo>
                    <a:lnTo>
                      <a:pt x="1028" y="760"/>
                    </a:lnTo>
                    <a:lnTo>
                      <a:pt x="1012" y="760"/>
                    </a:lnTo>
                    <a:lnTo>
                      <a:pt x="996" y="762"/>
                    </a:lnTo>
                    <a:lnTo>
                      <a:pt x="976" y="768"/>
                    </a:lnTo>
                    <a:lnTo>
                      <a:pt x="956" y="774"/>
                    </a:lnTo>
                    <a:lnTo>
                      <a:pt x="956" y="774"/>
                    </a:lnTo>
                    <a:lnTo>
                      <a:pt x="924" y="790"/>
                    </a:lnTo>
                    <a:lnTo>
                      <a:pt x="898" y="804"/>
                    </a:lnTo>
                    <a:lnTo>
                      <a:pt x="878" y="818"/>
                    </a:lnTo>
                    <a:lnTo>
                      <a:pt x="862" y="830"/>
                    </a:lnTo>
                    <a:lnTo>
                      <a:pt x="842" y="848"/>
                    </a:lnTo>
                    <a:lnTo>
                      <a:pt x="836" y="854"/>
                    </a:lnTo>
                    <a:lnTo>
                      <a:pt x="830" y="856"/>
                    </a:lnTo>
                    <a:lnTo>
                      <a:pt x="830" y="856"/>
                    </a:lnTo>
                    <a:lnTo>
                      <a:pt x="826" y="856"/>
                    </a:lnTo>
                    <a:lnTo>
                      <a:pt x="824" y="854"/>
                    </a:lnTo>
                    <a:lnTo>
                      <a:pt x="824" y="848"/>
                    </a:lnTo>
                    <a:lnTo>
                      <a:pt x="824" y="848"/>
                    </a:lnTo>
                    <a:lnTo>
                      <a:pt x="838" y="828"/>
                    </a:lnTo>
                    <a:lnTo>
                      <a:pt x="866" y="786"/>
                    </a:lnTo>
                    <a:lnTo>
                      <a:pt x="920" y="710"/>
                    </a:lnTo>
                    <a:lnTo>
                      <a:pt x="920" y="710"/>
                    </a:lnTo>
                    <a:lnTo>
                      <a:pt x="928" y="698"/>
                    </a:lnTo>
                    <a:lnTo>
                      <a:pt x="936" y="686"/>
                    </a:lnTo>
                    <a:lnTo>
                      <a:pt x="946" y="658"/>
                    </a:lnTo>
                    <a:lnTo>
                      <a:pt x="952" y="628"/>
                    </a:lnTo>
                    <a:lnTo>
                      <a:pt x="956" y="598"/>
                    </a:lnTo>
                    <a:lnTo>
                      <a:pt x="956" y="568"/>
                    </a:lnTo>
                    <a:lnTo>
                      <a:pt x="952" y="538"/>
                    </a:lnTo>
                    <a:lnTo>
                      <a:pt x="948" y="508"/>
                    </a:lnTo>
                    <a:lnTo>
                      <a:pt x="942" y="478"/>
                    </a:lnTo>
                    <a:lnTo>
                      <a:pt x="934" y="452"/>
                    </a:lnTo>
                    <a:lnTo>
                      <a:pt x="926" y="426"/>
                    </a:lnTo>
                    <a:lnTo>
                      <a:pt x="910" y="384"/>
                    </a:lnTo>
                    <a:lnTo>
                      <a:pt x="898" y="354"/>
                    </a:lnTo>
                    <a:lnTo>
                      <a:pt x="892" y="344"/>
                    </a:lnTo>
                    <a:lnTo>
                      <a:pt x="892" y="344"/>
                    </a:lnTo>
                    <a:lnTo>
                      <a:pt x="864" y="338"/>
                    </a:lnTo>
                    <a:lnTo>
                      <a:pt x="838" y="330"/>
                    </a:lnTo>
                    <a:lnTo>
                      <a:pt x="814" y="322"/>
                    </a:lnTo>
                    <a:lnTo>
                      <a:pt x="792" y="312"/>
                    </a:lnTo>
                    <a:lnTo>
                      <a:pt x="770" y="302"/>
                    </a:lnTo>
                    <a:lnTo>
                      <a:pt x="752" y="290"/>
                    </a:lnTo>
                    <a:lnTo>
                      <a:pt x="734" y="278"/>
                    </a:lnTo>
                    <a:lnTo>
                      <a:pt x="716" y="266"/>
                    </a:lnTo>
                    <a:lnTo>
                      <a:pt x="702" y="252"/>
                    </a:lnTo>
                    <a:lnTo>
                      <a:pt x="688" y="238"/>
                    </a:lnTo>
                    <a:lnTo>
                      <a:pt x="664" y="210"/>
                    </a:lnTo>
                    <a:lnTo>
                      <a:pt x="644" y="180"/>
                    </a:lnTo>
                    <a:lnTo>
                      <a:pt x="628" y="150"/>
                    </a:lnTo>
                    <a:lnTo>
                      <a:pt x="616" y="122"/>
                    </a:lnTo>
                    <a:lnTo>
                      <a:pt x="608" y="94"/>
                    </a:lnTo>
                    <a:lnTo>
                      <a:pt x="600" y="68"/>
                    </a:lnTo>
                    <a:lnTo>
                      <a:pt x="596" y="46"/>
                    </a:lnTo>
                    <a:lnTo>
                      <a:pt x="594" y="12"/>
                    </a:lnTo>
                    <a:lnTo>
                      <a:pt x="594" y="0"/>
                    </a:lnTo>
                    <a:lnTo>
                      <a:pt x="594" y="4"/>
                    </a:lnTo>
                    <a:lnTo>
                      <a:pt x="592" y="0"/>
                    </a:lnTo>
                    <a:lnTo>
                      <a:pt x="592" y="0"/>
                    </a:lnTo>
                    <a:lnTo>
                      <a:pt x="592" y="12"/>
                    </a:lnTo>
                    <a:lnTo>
                      <a:pt x="590" y="46"/>
                    </a:lnTo>
                    <a:lnTo>
                      <a:pt x="586" y="68"/>
                    </a:lnTo>
                    <a:lnTo>
                      <a:pt x="578" y="94"/>
                    </a:lnTo>
                    <a:lnTo>
                      <a:pt x="570" y="122"/>
                    </a:lnTo>
                    <a:lnTo>
                      <a:pt x="558" y="150"/>
                    </a:lnTo>
                    <a:lnTo>
                      <a:pt x="542" y="180"/>
                    </a:lnTo>
                    <a:lnTo>
                      <a:pt x="522" y="210"/>
                    </a:lnTo>
                    <a:lnTo>
                      <a:pt x="498" y="238"/>
                    </a:lnTo>
                    <a:lnTo>
                      <a:pt x="484" y="252"/>
                    </a:lnTo>
                    <a:lnTo>
                      <a:pt x="470" y="266"/>
                    </a:lnTo>
                    <a:lnTo>
                      <a:pt x="452" y="278"/>
                    </a:lnTo>
                    <a:lnTo>
                      <a:pt x="434" y="290"/>
                    </a:lnTo>
                    <a:lnTo>
                      <a:pt x="416" y="302"/>
                    </a:lnTo>
                    <a:lnTo>
                      <a:pt x="394" y="312"/>
                    </a:lnTo>
                    <a:lnTo>
                      <a:pt x="372" y="322"/>
                    </a:lnTo>
                    <a:lnTo>
                      <a:pt x="348" y="330"/>
                    </a:lnTo>
                    <a:lnTo>
                      <a:pt x="322" y="338"/>
                    </a:lnTo>
                    <a:lnTo>
                      <a:pt x="294" y="344"/>
                    </a:lnTo>
                    <a:lnTo>
                      <a:pt x="294" y="344"/>
                    </a:lnTo>
                    <a:lnTo>
                      <a:pt x="288" y="354"/>
                    </a:lnTo>
                    <a:lnTo>
                      <a:pt x="276" y="384"/>
                    </a:lnTo>
                    <a:lnTo>
                      <a:pt x="260" y="426"/>
                    </a:lnTo>
                    <a:lnTo>
                      <a:pt x="252" y="452"/>
                    </a:lnTo>
                    <a:lnTo>
                      <a:pt x="244" y="478"/>
                    </a:lnTo>
                    <a:lnTo>
                      <a:pt x="238" y="508"/>
                    </a:lnTo>
                    <a:lnTo>
                      <a:pt x="234" y="538"/>
                    </a:lnTo>
                    <a:lnTo>
                      <a:pt x="230" y="568"/>
                    </a:lnTo>
                    <a:lnTo>
                      <a:pt x="230" y="598"/>
                    </a:lnTo>
                    <a:lnTo>
                      <a:pt x="234" y="628"/>
                    </a:lnTo>
                    <a:lnTo>
                      <a:pt x="240" y="658"/>
                    </a:lnTo>
                    <a:lnTo>
                      <a:pt x="250" y="686"/>
                    </a:lnTo>
                    <a:lnTo>
                      <a:pt x="258" y="698"/>
                    </a:lnTo>
                    <a:lnTo>
                      <a:pt x="266" y="710"/>
                    </a:lnTo>
                    <a:lnTo>
                      <a:pt x="266" y="710"/>
                    </a:lnTo>
                    <a:lnTo>
                      <a:pt x="320" y="786"/>
                    </a:lnTo>
                    <a:lnTo>
                      <a:pt x="348" y="828"/>
                    </a:lnTo>
                    <a:lnTo>
                      <a:pt x="362" y="848"/>
                    </a:lnTo>
                    <a:lnTo>
                      <a:pt x="362" y="848"/>
                    </a:lnTo>
                    <a:lnTo>
                      <a:pt x="362" y="854"/>
                    </a:lnTo>
                    <a:lnTo>
                      <a:pt x="360" y="856"/>
                    </a:lnTo>
                    <a:lnTo>
                      <a:pt x="356" y="856"/>
                    </a:lnTo>
                    <a:lnTo>
                      <a:pt x="356" y="856"/>
                    </a:lnTo>
                    <a:lnTo>
                      <a:pt x="350" y="854"/>
                    </a:lnTo>
                    <a:lnTo>
                      <a:pt x="344" y="848"/>
                    </a:lnTo>
                    <a:lnTo>
                      <a:pt x="324" y="830"/>
                    </a:lnTo>
                    <a:lnTo>
                      <a:pt x="308" y="818"/>
                    </a:lnTo>
                    <a:lnTo>
                      <a:pt x="288" y="804"/>
                    </a:lnTo>
                    <a:lnTo>
                      <a:pt x="262" y="790"/>
                    </a:lnTo>
                    <a:lnTo>
                      <a:pt x="230" y="774"/>
                    </a:lnTo>
                    <a:lnTo>
                      <a:pt x="230" y="774"/>
                    </a:lnTo>
                    <a:lnTo>
                      <a:pt x="210" y="768"/>
                    </a:lnTo>
                    <a:lnTo>
                      <a:pt x="190" y="762"/>
                    </a:lnTo>
                    <a:lnTo>
                      <a:pt x="174" y="760"/>
                    </a:lnTo>
                    <a:lnTo>
                      <a:pt x="158" y="760"/>
                    </a:lnTo>
                    <a:lnTo>
                      <a:pt x="146" y="762"/>
                    </a:lnTo>
                    <a:lnTo>
                      <a:pt x="134" y="766"/>
                    </a:lnTo>
                    <a:lnTo>
                      <a:pt x="126" y="770"/>
                    </a:lnTo>
                    <a:lnTo>
                      <a:pt x="118" y="776"/>
                    </a:lnTo>
                    <a:lnTo>
                      <a:pt x="110" y="782"/>
                    </a:lnTo>
                    <a:lnTo>
                      <a:pt x="106" y="790"/>
                    </a:lnTo>
                    <a:lnTo>
                      <a:pt x="98" y="802"/>
                    </a:lnTo>
                    <a:lnTo>
                      <a:pt x="96" y="812"/>
                    </a:lnTo>
                    <a:lnTo>
                      <a:pt x="94" y="816"/>
                    </a:lnTo>
                    <a:lnTo>
                      <a:pt x="94" y="816"/>
                    </a:lnTo>
                    <a:lnTo>
                      <a:pt x="84" y="810"/>
                    </a:lnTo>
                    <a:lnTo>
                      <a:pt x="72" y="804"/>
                    </a:lnTo>
                    <a:lnTo>
                      <a:pt x="60" y="796"/>
                    </a:lnTo>
                    <a:lnTo>
                      <a:pt x="46" y="784"/>
                    </a:lnTo>
                    <a:lnTo>
                      <a:pt x="34" y="768"/>
                    </a:lnTo>
                    <a:lnTo>
                      <a:pt x="22" y="752"/>
                    </a:lnTo>
                    <a:lnTo>
                      <a:pt x="18" y="742"/>
                    </a:lnTo>
                    <a:lnTo>
                      <a:pt x="16" y="730"/>
                    </a:lnTo>
                    <a:lnTo>
                      <a:pt x="16" y="730"/>
                    </a:lnTo>
                    <a:lnTo>
                      <a:pt x="14" y="722"/>
                    </a:lnTo>
                    <a:lnTo>
                      <a:pt x="10" y="722"/>
                    </a:lnTo>
                    <a:lnTo>
                      <a:pt x="8" y="724"/>
                    </a:lnTo>
                    <a:lnTo>
                      <a:pt x="6" y="734"/>
                    </a:lnTo>
                    <a:lnTo>
                      <a:pt x="4" y="762"/>
                    </a:lnTo>
                    <a:lnTo>
                      <a:pt x="0" y="800"/>
                    </a:lnTo>
                    <a:lnTo>
                      <a:pt x="0" y="842"/>
                    </a:lnTo>
                    <a:lnTo>
                      <a:pt x="0" y="884"/>
                    </a:lnTo>
                    <a:lnTo>
                      <a:pt x="0" y="920"/>
                    </a:lnTo>
                    <a:lnTo>
                      <a:pt x="4" y="942"/>
                    </a:lnTo>
                    <a:lnTo>
                      <a:pt x="4" y="942"/>
                    </a:lnTo>
                    <a:lnTo>
                      <a:pt x="8" y="958"/>
                    </a:lnTo>
                    <a:lnTo>
                      <a:pt x="16" y="974"/>
                    </a:lnTo>
                    <a:lnTo>
                      <a:pt x="26" y="990"/>
                    </a:lnTo>
                    <a:lnTo>
                      <a:pt x="38" y="1006"/>
                    </a:lnTo>
                    <a:lnTo>
                      <a:pt x="52" y="1018"/>
                    </a:lnTo>
                    <a:lnTo>
                      <a:pt x="66" y="1030"/>
                    </a:lnTo>
                    <a:lnTo>
                      <a:pt x="80" y="1038"/>
                    </a:lnTo>
                    <a:lnTo>
                      <a:pt x="96" y="1042"/>
                    </a:lnTo>
                    <a:lnTo>
                      <a:pt x="96" y="1042"/>
                    </a:lnTo>
                    <a:lnTo>
                      <a:pt x="106" y="1046"/>
                    </a:lnTo>
                    <a:lnTo>
                      <a:pt x="118" y="1050"/>
                    </a:lnTo>
                    <a:lnTo>
                      <a:pt x="132" y="1058"/>
                    </a:lnTo>
                    <a:lnTo>
                      <a:pt x="146" y="1066"/>
                    </a:lnTo>
                    <a:lnTo>
                      <a:pt x="162" y="1078"/>
                    </a:lnTo>
                    <a:lnTo>
                      <a:pt x="176" y="1092"/>
                    </a:lnTo>
                    <a:lnTo>
                      <a:pt x="190" y="1106"/>
                    </a:lnTo>
                    <a:lnTo>
                      <a:pt x="200" y="1124"/>
                    </a:lnTo>
                    <a:lnTo>
                      <a:pt x="210" y="1142"/>
                    </a:lnTo>
                    <a:lnTo>
                      <a:pt x="214" y="1162"/>
                    </a:lnTo>
                    <a:lnTo>
                      <a:pt x="214" y="1172"/>
                    </a:lnTo>
                    <a:lnTo>
                      <a:pt x="214" y="1184"/>
                    </a:lnTo>
                    <a:lnTo>
                      <a:pt x="212" y="1194"/>
                    </a:lnTo>
                    <a:lnTo>
                      <a:pt x="208" y="1206"/>
                    </a:lnTo>
                    <a:lnTo>
                      <a:pt x="204" y="1218"/>
                    </a:lnTo>
                    <a:lnTo>
                      <a:pt x="198" y="1230"/>
                    </a:lnTo>
                    <a:lnTo>
                      <a:pt x="190" y="1242"/>
                    </a:lnTo>
                    <a:lnTo>
                      <a:pt x="180" y="1256"/>
                    </a:lnTo>
                    <a:lnTo>
                      <a:pt x="168" y="1268"/>
                    </a:lnTo>
                    <a:lnTo>
                      <a:pt x="154" y="1282"/>
                    </a:lnTo>
                    <a:lnTo>
                      <a:pt x="138" y="1294"/>
                    </a:lnTo>
                    <a:lnTo>
                      <a:pt x="120" y="1308"/>
                    </a:lnTo>
                    <a:lnTo>
                      <a:pt x="120" y="1308"/>
                    </a:lnTo>
                    <a:lnTo>
                      <a:pt x="136" y="1308"/>
                    </a:lnTo>
                    <a:lnTo>
                      <a:pt x="154" y="1310"/>
                    </a:lnTo>
                    <a:lnTo>
                      <a:pt x="178" y="1312"/>
                    </a:lnTo>
                    <a:lnTo>
                      <a:pt x="208" y="1318"/>
                    </a:lnTo>
                    <a:lnTo>
                      <a:pt x="242" y="1328"/>
                    </a:lnTo>
                    <a:lnTo>
                      <a:pt x="280" y="1342"/>
                    </a:lnTo>
                    <a:lnTo>
                      <a:pt x="320" y="1362"/>
                    </a:lnTo>
                    <a:lnTo>
                      <a:pt x="320" y="1362"/>
                    </a:lnTo>
                    <a:lnTo>
                      <a:pt x="338" y="1372"/>
                    </a:lnTo>
                    <a:lnTo>
                      <a:pt x="356" y="1376"/>
                    </a:lnTo>
                    <a:lnTo>
                      <a:pt x="374" y="1380"/>
                    </a:lnTo>
                    <a:lnTo>
                      <a:pt x="394" y="1382"/>
                    </a:lnTo>
                    <a:lnTo>
                      <a:pt x="412" y="1380"/>
                    </a:lnTo>
                    <a:lnTo>
                      <a:pt x="430" y="1378"/>
                    </a:lnTo>
                    <a:lnTo>
                      <a:pt x="448" y="1374"/>
                    </a:lnTo>
                    <a:lnTo>
                      <a:pt x="464" y="1370"/>
                    </a:lnTo>
                    <a:lnTo>
                      <a:pt x="496" y="1358"/>
                    </a:lnTo>
                    <a:lnTo>
                      <a:pt x="522" y="1344"/>
                    </a:lnTo>
                    <a:lnTo>
                      <a:pt x="544" y="1332"/>
                    </a:lnTo>
                    <a:lnTo>
                      <a:pt x="558" y="1324"/>
                    </a:lnTo>
                    <a:lnTo>
                      <a:pt x="558" y="1324"/>
                    </a:lnTo>
                    <a:lnTo>
                      <a:pt x="558" y="1362"/>
                    </a:lnTo>
                    <a:lnTo>
                      <a:pt x="558" y="1422"/>
                    </a:lnTo>
                    <a:lnTo>
                      <a:pt x="554" y="1496"/>
                    </a:lnTo>
                    <a:lnTo>
                      <a:pt x="550" y="1534"/>
                    </a:lnTo>
                    <a:lnTo>
                      <a:pt x="546" y="1576"/>
                    </a:lnTo>
                    <a:lnTo>
                      <a:pt x="540" y="1616"/>
                    </a:lnTo>
                    <a:lnTo>
                      <a:pt x="532" y="1656"/>
                    </a:lnTo>
                    <a:lnTo>
                      <a:pt x="524" y="1696"/>
                    </a:lnTo>
                    <a:lnTo>
                      <a:pt x="512" y="1732"/>
                    </a:lnTo>
                    <a:lnTo>
                      <a:pt x="498" y="1764"/>
                    </a:lnTo>
                    <a:lnTo>
                      <a:pt x="482" y="1794"/>
                    </a:lnTo>
                    <a:lnTo>
                      <a:pt x="474" y="1806"/>
                    </a:lnTo>
                    <a:lnTo>
                      <a:pt x="464" y="1816"/>
                    </a:lnTo>
                    <a:lnTo>
                      <a:pt x="454" y="1826"/>
                    </a:lnTo>
                    <a:lnTo>
                      <a:pt x="442" y="1834"/>
                    </a:lnTo>
                    <a:lnTo>
                      <a:pt x="442" y="1834"/>
                    </a:lnTo>
                    <a:lnTo>
                      <a:pt x="438" y="1838"/>
                    </a:lnTo>
                    <a:lnTo>
                      <a:pt x="434" y="1842"/>
                    </a:lnTo>
                    <a:lnTo>
                      <a:pt x="434" y="1846"/>
                    </a:lnTo>
                    <a:lnTo>
                      <a:pt x="434" y="1850"/>
                    </a:lnTo>
                    <a:lnTo>
                      <a:pt x="438" y="1854"/>
                    </a:lnTo>
                    <a:lnTo>
                      <a:pt x="442" y="1858"/>
                    </a:lnTo>
                    <a:lnTo>
                      <a:pt x="442" y="1858"/>
                    </a:lnTo>
                    <a:lnTo>
                      <a:pt x="450" y="1864"/>
                    </a:lnTo>
                    <a:lnTo>
                      <a:pt x="460" y="1868"/>
                    </a:lnTo>
                    <a:lnTo>
                      <a:pt x="470" y="1872"/>
                    </a:lnTo>
                    <a:lnTo>
                      <a:pt x="482" y="1874"/>
                    </a:lnTo>
                    <a:lnTo>
                      <a:pt x="496" y="1874"/>
                    </a:lnTo>
                    <a:lnTo>
                      <a:pt x="512" y="1870"/>
                    </a:lnTo>
                    <a:lnTo>
                      <a:pt x="528" y="1860"/>
                    </a:lnTo>
                    <a:lnTo>
                      <a:pt x="528" y="1860"/>
                    </a:lnTo>
                    <a:lnTo>
                      <a:pt x="532" y="1858"/>
                    </a:lnTo>
                    <a:lnTo>
                      <a:pt x="538" y="1856"/>
                    </a:lnTo>
                    <a:lnTo>
                      <a:pt x="546" y="1856"/>
                    </a:lnTo>
                    <a:lnTo>
                      <a:pt x="550" y="1854"/>
                    </a:lnTo>
                    <a:lnTo>
                      <a:pt x="554" y="1852"/>
                    </a:lnTo>
                    <a:lnTo>
                      <a:pt x="558" y="1848"/>
                    </a:lnTo>
                    <a:lnTo>
                      <a:pt x="562" y="1842"/>
                    </a:lnTo>
                    <a:lnTo>
                      <a:pt x="562" y="1842"/>
                    </a:lnTo>
                    <a:lnTo>
                      <a:pt x="574" y="1814"/>
                    </a:lnTo>
                    <a:lnTo>
                      <a:pt x="586" y="1776"/>
                    </a:lnTo>
                    <a:lnTo>
                      <a:pt x="596" y="1730"/>
                    </a:lnTo>
                    <a:lnTo>
                      <a:pt x="606" y="1672"/>
                    </a:lnTo>
                    <a:lnTo>
                      <a:pt x="614" y="1604"/>
                    </a:lnTo>
                    <a:lnTo>
                      <a:pt x="622" y="1524"/>
                    </a:lnTo>
                    <a:lnTo>
                      <a:pt x="628" y="1432"/>
                    </a:lnTo>
                    <a:lnTo>
                      <a:pt x="634" y="1326"/>
                    </a:lnTo>
                    <a:lnTo>
                      <a:pt x="634" y="1326"/>
                    </a:lnTo>
                    <a:lnTo>
                      <a:pt x="650" y="1338"/>
                    </a:lnTo>
                    <a:lnTo>
                      <a:pt x="672" y="1350"/>
                    </a:lnTo>
                    <a:lnTo>
                      <a:pt x="698" y="1362"/>
                    </a:lnTo>
                    <a:lnTo>
                      <a:pt x="730" y="1372"/>
                    </a:lnTo>
                    <a:lnTo>
                      <a:pt x="746" y="1376"/>
                    </a:lnTo>
                    <a:lnTo>
                      <a:pt x="762" y="1380"/>
                    </a:lnTo>
                    <a:lnTo>
                      <a:pt x="780" y="1382"/>
                    </a:lnTo>
                    <a:lnTo>
                      <a:pt x="796" y="1382"/>
                    </a:lnTo>
                    <a:lnTo>
                      <a:pt x="814" y="1380"/>
                    </a:lnTo>
                    <a:lnTo>
                      <a:pt x="832" y="1376"/>
                    </a:lnTo>
                    <a:lnTo>
                      <a:pt x="850" y="1370"/>
                    </a:lnTo>
                    <a:lnTo>
                      <a:pt x="866" y="1362"/>
                    </a:lnTo>
                    <a:lnTo>
                      <a:pt x="866" y="1362"/>
                    </a:lnTo>
                    <a:lnTo>
                      <a:pt x="906" y="1342"/>
                    </a:lnTo>
                    <a:lnTo>
                      <a:pt x="944" y="1328"/>
                    </a:lnTo>
                    <a:lnTo>
                      <a:pt x="978" y="1318"/>
                    </a:lnTo>
                    <a:lnTo>
                      <a:pt x="1008" y="1312"/>
                    </a:lnTo>
                    <a:lnTo>
                      <a:pt x="1032" y="1310"/>
                    </a:lnTo>
                    <a:lnTo>
                      <a:pt x="1050" y="1308"/>
                    </a:lnTo>
                    <a:lnTo>
                      <a:pt x="1066" y="1308"/>
                    </a:lnTo>
                    <a:lnTo>
                      <a:pt x="1066" y="1308"/>
                    </a:lnTo>
                    <a:lnTo>
                      <a:pt x="1048" y="1294"/>
                    </a:lnTo>
                    <a:lnTo>
                      <a:pt x="1032" y="1282"/>
                    </a:lnTo>
                    <a:lnTo>
                      <a:pt x="1018" y="1268"/>
                    </a:lnTo>
                    <a:lnTo>
                      <a:pt x="1006" y="1256"/>
                    </a:lnTo>
                    <a:lnTo>
                      <a:pt x="998" y="1242"/>
                    </a:lnTo>
                    <a:lnTo>
                      <a:pt x="988" y="1230"/>
                    </a:lnTo>
                    <a:lnTo>
                      <a:pt x="982" y="1218"/>
                    </a:lnTo>
                    <a:lnTo>
                      <a:pt x="978" y="1206"/>
                    </a:lnTo>
                    <a:lnTo>
                      <a:pt x="974" y="1194"/>
                    </a:lnTo>
                    <a:lnTo>
                      <a:pt x="972" y="1184"/>
                    </a:lnTo>
                    <a:lnTo>
                      <a:pt x="972" y="1172"/>
                    </a:lnTo>
                    <a:lnTo>
                      <a:pt x="972" y="1162"/>
                    </a:lnTo>
                    <a:lnTo>
                      <a:pt x="976" y="1142"/>
                    </a:lnTo>
                    <a:lnTo>
                      <a:pt x="986" y="1124"/>
                    </a:lnTo>
                    <a:lnTo>
                      <a:pt x="996" y="1106"/>
                    </a:lnTo>
                    <a:lnTo>
                      <a:pt x="1010" y="1092"/>
                    </a:lnTo>
                    <a:lnTo>
                      <a:pt x="1024" y="1078"/>
                    </a:lnTo>
                    <a:lnTo>
                      <a:pt x="1040" y="1066"/>
                    </a:lnTo>
                    <a:lnTo>
                      <a:pt x="1054" y="1058"/>
                    </a:lnTo>
                    <a:lnTo>
                      <a:pt x="1068" y="1050"/>
                    </a:lnTo>
                    <a:lnTo>
                      <a:pt x="1080" y="1046"/>
                    </a:lnTo>
                    <a:lnTo>
                      <a:pt x="1090" y="1042"/>
                    </a:lnTo>
                    <a:lnTo>
                      <a:pt x="1090" y="1042"/>
                    </a:lnTo>
                    <a:lnTo>
                      <a:pt x="1106" y="1038"/>
                    </a:lnTo>
                    <a:lnTo>
                      <a:pt x="1120" y="1030"/>
                    </a:lnTo>
                    <a:lnTo>
                      <a:pt x="1134" y="1018"/>
                    </a:lnTo>
                    <a:lnTo>
                      <a:pt x="1148" y="1006"/>
                    </a:lnTo>
                    <a:lnTo>
                      <a:pt x="1160" y="990"/>
                    </a:lnTo>
                    <a:lnTo>
                      <a:pt x="1170" y="974"/>
                    </a:lnTo>
                    <a:lnTo>
                      <a:pt x="1178" y="958"/>
                    </a:lnTo>
                    <a:lnTo>
                      <a:pt x="1182" y="942"/>
                    </a:lnTo>
                    <a:lnTo>
                      <a:pt x="1182" y="942"/>
                    </a:lnTo>
                    <a:lnTo>
                      <a:pt x="1186" y="920"/>
                    </a:lnTo>
                    <a:lnTo>
                      <a:pt x="1188" y="884"/>
                    </a:lnTo>
                    <a:lnTo>
                      <a:pt x="1186" y="842"/>
                    </a:lnTo>
                    <a:lnTo>
                      <a:pt x="1186" y="800"/>
                    </a:lnTo>
                    <a:lnTo>
                      <a:pt x="1182" y="762"/>
                    </a:lnTo>
                    <a:lnTo>
                      <a:pt x="1180" y="734"/>
                    </a:lnTo>
                    <a:lnTo>
                      <a:pt x="1178" y="724"/>
                    </a:lnTo>
                    <a:lnTo>
                      <a:pt x="1176" y="722"/>
                    </a:lnTo>
                    <a:lnTo>
                      <a:pt x="1172" y="722"/>
                    </a:lnTo>
                    <a:lnTo>
                      <a:pt x="1170" y="730"/>
                    </a:lnTo>
                    <a:lnTo>
                      <a:pt x="1170" y="730"/>
                    </a:lnTo>
                    <a:close/>
                  </a:path>
                </a:pathLst>
              </a:custGeom>
              <a:solidFill>
                <a:srgbClr val="ed4600">
                  <a:alpha val="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36"/>
              <p:cNvSpPr/>
              <p:nvPr/>
            </p:nvSpPr>
            <p:spPr>
              <a:xfrm rot="11849400">
                <a:off x="7751520" y="597240"/>
                <a:ext cx="1063440" cy="106308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063080"/>
                  <a:gd name="textAreaBottom" fmla="*/ 1063440 h 1063080"/>
                </a:gdLst>
                <a:ahLst/>
                <a:rect l="textAreaLeft" t="textAreaTop" r="textAreaRight" b="textAreaBottom"/>
                <a:pathLst>
                  <a:path w="1884" h="1882">
                    <a:moveTo>
                      <a:pt x="1380" y="826"/>
                    </a:moveTo>
                    <a:lnTo>
                      <a:pt x="1380" y="826"/>
                    </a:lnTo>
                    <a:lnTo>
                      <a:pt x="1364" y="830"/>
                    </a:lnTo>
                    <a:lnTo>
                      <a:pt x="1348" y="836"/>
                    </a:lnTo>
                    <a:lnTo>
                      <a:pt x="1314" y="852"/>
                    </a:lnTo>
                    <a:lnTo>
                      <a:pt x="1280" y="874"/>
                    </a:lnTo>
                    <a:lnTo>
                      <a:pt x="1248" y="896"/>
                    </a:lnTo>
                    <a:lnTo>
                      <a:pt x="1190" y="940"/>
                    </a:lnTo>
                    <a:lnTo>
                      <a:pt x="1156" y="968"/>
                    </a:lnTo>
                    <a:lnTo>
                      <a:pt x="1156" y="968"/>
                    </a:lnTo>
                    <a:lnTo>
                      <a:pt x="1148" y="972"/>
                    </a:lnTo>
                    <a:lnTo>
                      <a:pt x="1142" y="974"/>
                    </a:lnTo>
                    <a:lnTo>
                      <a:pt x="1140" y="972"/>
                    </a:lnTo>
                    <a:lnTo>
                      <a:pt x="1138" y="968"/>
                    </a:lnTo>
                    <a:lnTo>
                      <a:pt x="1138" y="960"/>
                    </a:lnTo>
                    <a:lnTo>
                      <a:pt x="1138" y="956"/>
                    </a:lnTo>
                    <a:lnTo>
                      <a:pt x="1138" y="956"/>
                    </a:lnTo>
                    <a:lnTo>
                      <a:pt x="1150" y="944"/>
                    </a:lnTo>
                    <a:lnTo>
                      <a:pt x="1160" y="930"/>
                    </a:lnTo>
                    <a:lnTo>
                      <a:pt x="1168" y="916"/>
                    </a:lnTo>
                    <a:lnTo>
                      <a:pt x="1176" y="900"/>
                    </a:lnTo>
                    <a:lnTo>
                      <a:pt x="1182" y="884"/>
                    </a:lnTo>
                    <a:lnTo>
                      <a:pt x="1188" y="868"/>
                    </a:lnTo>
                    <a:lnTo>
                      <a:pt x="1196" y="832"/>
                    </a:lnTo>
                    <a:lnTo>
                      <a:pt x="1202" y="794"/>
                    </a:lnTo>
                    <a:lnTo>
                      <a:pt x="1204" y="754"/>
                    </a:lnTo>
                    <a:lnTo>
                      <a:pt x="1204" y="712"/>
                    </a:lnTo>
                    <a:lnTo>
                      <a:pt x="1202" y="672"/>
                    </a:lnTo>
                    <a:lnTo>
                      <a:pt x="1198" y="630"/>
                    </a:lnTo>
                    <a:lnTo>
                      <a:pt x="1194" y="590"/>
                    </a:lnTo>
                    <a:lnTo>
                      <a:pt x="1182" y="516"/>
                    </a:lnTo>
                    <a:lnTo>
                      <a:pt x="1170" y="454"/>
                    </a:lnTo>
                    <a:lnTo>
                      <a:pt x="1162" y="408"/>
                    </a:lnTo>
                    <a:lnTo>
                      <a:pt x="1162" y="408"/>
                    </a:lnTo>
                    <a:lnTo>
                      <a:pt x="1160" y="388"/>
                    </a:lnTo>
                    <a:lnTo>
                      <a:pt x="1152" y="368"/>
                    </a:lnTo>
                    <a:lnTo>
                      <a:pt x="1144" y="346"/>
                    </a:lnTo>
                    <a:lnTo>
                      <a:pt x="1134" y="324"/>
                    </a:lnTo>
                    <a:lnTo>
                      <a:pt x="1108" y="276"/>
                    </a:lnTo>
                    <a:lnTo>
                      <a:pt x="1078" y="230"/>
                    </a:lnTo>
                    <a:lnTo>
                      <a:pt x="1048" y="186"/>
                    </a:lnTo>
                    <a:lnTo>
                      <a:pt x="1020" y="148"/>
                    </a:lnTo>
                    <a:lnTo>
                      <a:pt x="998" y="120"/>
                    </a:lnTo>
                    <a:lnTo>
                      <a:pt x="984" y="104"/>
                    </a:lnTo>
                    <a:lnTo>
                      <a:pt x="984" y="104"/>
                    </a:lnTo>
                    <a:lnTo>
                      <a:pt x="974" y="94"/>
                    </a:lnTo>
                    <a:lnTo>
                      <a:pt x="966" y="78"/>
                    </a:lnTo>
                    <a:lnTo>
                      <a:pt x="958" y="62"/>
                    </a:lnTo>
                    <a:lnTo>
                      <a:pt x="952" y="44"/>
                    </a:lnTo>
                    <a:lnTo>
                      <a:pt x="944" y="14"/>
                    </a:lnTo>
                    <a:lnTo>
                      <a:pt x="942" y="0"/>
                    </a:lnTo>
                    <a:lnTo>
                      <a:pt x="942" y="0"/>
                    </a:lnTo>
                    <a:lnTo>
                      <a:pt x="942" y="0"/>
                    </a:lnTo>
                    <a:lnTo>
                      <a:pt x="942" y="0"/>
                    </a:lnTo>
                    <a:lnTo>
                      <a:pt x="942" y="0"/>
                    </a:lnTo>
                    <a:lnTo>
                      <a:pt x="942" y="0"/>
                    </a:lnTo>
                    <a:lnTo>
                      <a:pt x="942" y="0"/>
                    </a:lnTo>
                    <a:lnTo>
                      <a:pt x="942" y="0"/>
                    </a:lnTo>
                    <a:lnTo>
                      <a:pt x="938" y="14"/>
                    </a:lnTo>
                    <a:lnTo>
                      <a:pt x="930" y="44"/>
                    </a:lnTo>
                    <a:lnTo>
                      <a:pt x="924" y="62"/>
                    </a:lnTo>
                    <a:lnTo>
                      <a:pt x="918" y="78"/>
                    </a:lnTo>
                    <a:lnTo>
                      <a:pt x="910" y="94"/>
                    </a:lnTo>
                    <a:lnTo>
                      <a:pt x="900" y="104"/>
                    </a:lnTo>
                    <a:lnTo>
                      <a:pt x="900" y="104"/>
                    </a:lnTo>
                    <a:lnTo>
                      <a:pt x="884" y="120"/>
                    </a:lnTo>
                    <a:lnTo>
                      <a:pt x="862" y="148"/>
                    </a:lnTo>
                    <a:lnTo>
                      <a:pt x="834" y="186"/>
                    </a:lnTo>
                    <a:lnTo>
                      <a:pt x="804" y="230"/>
                    </a:lnTo>
                    <a:lnTo>
                      <a:pt x="776" y="276"/>
                    </a:lnTo>
                    <a:lnTo>
                      <a:pt x="750" y="324"/>
                    </a:lnTo>
                    <a:lnTo>
                      <a:pt x="738" y="346"/>
                    </a:lnTo>
                    <a:lnTo>
                      <a:pt x="730" y="368"/>
                    </a:lnTo>
                    <a:lnTo>
                      <a:pt x="724" y="388"/>
                    </a:lnTo>
                    <a:lnTo>
                      <a:pt x="720" y="408"/>
                    </a:lnTo>
                    <a:lnTo>
                      <a:pt x="720" y="408"/>
                    </a:lnTo>
                    <a:lnTo>
                      <a:pt x="712" y="454"/>
                    </a:lnTo>
                    <a:lnTo>
                      <a:pt x="702" y="516"/>
                    </a:lnTo>
                    <a:lnTo>
                      <a:pt x="690" y="590"/>
                    </a:lnTo>
                    <a:lnTo>
                      <a:pt x="684" y="630"/>
                    </a:lnTo>
                    <a:lnTo>
                      <a:pt x="680" y="672"/>
                    </a:lnTo>
                    <a:lnTo>
                      <a:pt x="678" y="712"/>
                    </a:lnTo>
                    <a:lnTo>
                      <a:pt x="678" y="754"/>
                    </a:lnTo>
                    <a:lnTo>
                      <a:pt x="680" y="794"/>
                    </a:lnTo>
                    <a:lnTo>
                      <a:pt x="686" y="832"/>
                    </a:lnTo>
                    <a:lnTo>
                      <a:pt x="694" y="868"/>
                    </a:lnTo>
                    <a:lnTo>
                      <a:pt x="700" y="884"/>
                    </a:lnTo>
                    <a:lnTo>
                      <a:pt x="708" y="900"/>
                    </a:lnTo>
                    <a:lnTo>
                      <a:pt x="714" y="916"/>
                    </a:lnTo>
                    <a:lnTo>
                      <a:pt x="724" y="930"/>
                    </a:lnTo>
                    <a:lnTo>
                      <a:pt x="734" y="944"/>
                    </a:lnTo>
                    <a:lnTo>
                      <a:pt x="744" y="956"/>
                    </a:lnTo>
                    <a:lnTo>
                      <a:pt x="744" y="956"/>
                    </a:lnTo>
                    <a:lnTo>
                      <a:pt x="746" y="960"/>
                    </a:lnTo>
                    <a:lnTo>
                      <a:pt x="746" y="968"/>
                    </a:lnTo>
                    <a:lnTo>
                      <a:pt x="744" y="972"/>
                    </a:lnTo>
                    <a:lnTo>
                      <a:pt x="740" y="974"/>
                    </a:lnTo>
                    <a:lnTo>
                      <a:pt x="736" y="972"/>
                    </a:lnTo>
                    <a:lnTo>
                      <a:pt x="728" y="968"/>
                    </a:lnTo>
                    <a:lnTo>
                      <a:pt x="728" y="968"/>
                    </a:lnTo>
                    <a:lnTo>
                      <a:pt x="694" y="940"/>
                    </a:lnTo>
                    <a:lnTo>
                      <a:pt x="636" y="896"/>
                    </a:lnTo>
                    <a:lnTo>
                      <a:pt x="602" y="874"/>
                    </a:lnTo>
                    <a:lnTo>
                      <a:pt x="568" y="852"/>
                    </a:lnTo>
                    <a:lnTo>
                      <a:pt x="534" y="836"/>
                    </a:lnTo>
                    <a:lnTo>
                      <a:pt x="518" y="830"/>
                    </a:lnTo>
                    <a:lnTo>
                      <a:pt x="504" y="826"/>
                    </a:lnTo>
                    <a:lnTo>
                      <a:pt x="504" y="826"/>
                    </a:lnTo>
                    <a:lnTo>
                      <a:pt x="442" y="812"/>
                    </a:lnTo>
                    <a:lnTo>
                      <a:pt x="402" y="804"/>
                    </a:lnTo>
                    <a:lnTo>
                      <a:pt x="354" y="798"/>
                    </a:lnTo>
                    <a:lnTo>
                      <a:pt x="292" y="794"/>
                    </a:lnTo>
                    <a:lnTo>
                      <a:pt x="216" y="792"/>
                    </a:lnTo>
                    <a:lnTo>
                      <a:pt x="118" y="794"/>
                    </a:lnTo>
                    <a:lnTo>
                      <a:pt x="0" y="800"/>
                    </a:lnTo>
                    <a:lnTo>
                      <a:pt x="0" y="800"/>
                    </a:lnTo>
                    <a:lnTo>
                      <a:pt x="4" y="802"/>
                    </a:lnTo>
                    <a:lnTo>
                      <a:pt x="18" y="806"/>
                    </a:lnTo>
                    <a:lnTo>
                      <a:pt x="40" y="816"/>
                    </a:lnTo>
                    <a:lnTo>
                      <a:pt x="72" y="836"/>
                    </a:lnTo>
                    <a:lnTo>
                      <a:pt x="92" y="850"/>
                    </a:lnTo>
                    <a:lnTo>
                      <a:pt x="114" y="870"/>
                    </a:lnTo>
                    <a:lnTo>
                      <a:pt x="140" y="892"/>
                    </a:lnTo>
                    <a:lnTo>
                      <a:pt x="168" y="918"/>
                    </a:lnTo>
                    <a:lnTo>
                      <a:pt x="198" y="950"/>
                    </a:lnTo>
                    <a:lnTo>
                      <a:pt x="232" y="986"/>
                    </a:lnTo>
                    <a:lnTo>
                      <a:pt x="268" y="1028"/>
                    </a:lnTo>
                    <a:lnTo>
                      <a:pt x="306" y="1076"/>
                    </a:lnTo>
                    <a:lnTo>
                      <a:pt x="306" y="1076"/>
                    </a:lnTo>
                    <a:lnTo>
                      <a:pt x="348" y="1124"/>
                    </a:lnTo>
                    <a:lnTo>
                      <a:pt x="386" y="1162"/>
                    </a:lnTo>
                    <a:lnTo>
                      <a:pt x="424" y="1194"/>
                    </a:lnTo>
                    <a:lnTo>
                      <a:pt x="460" y="1218"/>
                    </a:lnTo>
                    <a:lnTo>
                      <a:pt x="494" y="1238"/>
                    </a:lnTo>
                    <a:lnTo>
                      <a:pt x="526" y="1250"/>
                    </a:lnTo>
                    <a:lnTo>
                      <a:pt x="556" y="1260"/>
                    </a:lnTo>
                    <a:lnTo>
                      <a:pt x="584" y="1264"/>
                    </a:lnTo>
                    <a:lnTo>
                      <a:pt x="608" y="1266"/>
                    </a:lnTo>
                    <a:lnTo>
                      <a:pt x="632" y="1266"/>
                    </a:lnTo>
                    <a:lnTo>
                      <a:pt x="650" y="1264"/>
                    </a:lnTo>
                    <a:lnTo>
                      <a:pt x="668" y="1260"/>
                    </a:lnTo>
                    <a:lnTo>
                      <a:pt x="690" y="1252"/>
                    </a:lnTo>
                    <a:lnTo>
                      <a:pt x="698" y="1248"/>
                    </a:lnTo>
                    <a:lnTo>
                      <a:pt x="698" y="1248"/>
                    </a:lnTo>
                    <a:lnTo>
                      <a:pt x="704" y="1248"/>
                    </a:lnTo>
                    <a:lnTo>
                      <a:pt x="716" y="1250"/>
                    </a:lnTo>
                    <a:lnTo>
                      <a:pt x="720" y="1252"/>
                    </a:lnTo>
                    <a:lnTo>
                      <a:pt x="720" y="1256"/>
                    </a:lnTo>
                    <a:lnTo>
                      <a:pt x="718" y="1260"/>
                    </a:lnTo>
                    <a:lnTo>
                      <a:pt x="708" y="1268"/>
                    </a:lnTo>
                    <a:lnTo>
                      <a:pt x="708" y="1268"/>
                    </a:lnTo>
                    <a:lnTo>
                      <a:pt x="686" y="1282"/>
                    </a:lnTo>
                    <a:lnTo>
                      <a:pt x="652" y="1306"/>
                    </a:lnTo>
                    <a:lnTo>
                      <a:pt x="608" y="1338"/>
                    </a:lnTo>
                    <a:lnTo>
                      <a:pt x="584" y="1360"/>
                    </a:lnTo>
                    <a:lnTo>
                      <a:pt x="558" y="1382"/>
                    </a:lnTo>
                    <a:lnTo>
                      <a:pt x="532" y="1406"/>
                    </a:lnTo>
                    <a:lnTo>
                      <a:pt x="506" y="1434"/>
                    </a:lnTo>
                    <a:lnTo>
                      <a:pt x="482" y="1462"/>
                    </a:lnTo>
                    <a:lnTo>
                      <a:pt x="458" y="1494"/>
                    </a:lnTo>
                    <a:lnTo>
                      <a:pt x="436" y="1526"/>
                    </a:lnTo>
                    <a:lnTo>
                      <a:pt x="416" y="1562"/>
                    </a:lnTo>
                    <a:lnTo>
                      <a:pt x="400" y="1598"/>
                    </a:lnTo>
                    <a:lnTo>
                      <a:pt x="386" y="1638"/>
                    </a:lnTo>
                    <a:lnTo>
                      <a:pt x="386" y="1638"/>
                    </a:lnTo>
                    <a:lnTo>
                      <a:pt x="396" y="1638"/>
                    </a:lnTo>
                    <a:lnTo>
                      <a:pt x="422" y="1638"/>
                    </a:lnTo>
                    <a:lnTo>
                      <a:pt x="460" y="1634"/>
                    </a:lnTo>
                    <a:lnTo>
                      <a:pt x="484" y="1632"/>
                    </a:lnTo>
                    <a:lnTo>
                      <a:pt x="510" y="1626"/>
                    </a:lnTo>
                    <a:lnTo>
                      <a:pt x="538" y="1620"/>
                    </a:lnTo>
                    <a:lnTo>
                      <a:pt x="568" y="1612"/>
                    </a:lnTo>
                    <a:lnTo>
                      <a:pt x="598" y="1602"/>
                    </a:lnTo>
                    <a:lnTo>
                      <a:pt x="628" y="1588"/>
                    </a:lnTo>
                    <a:lnTo>
                      <a:pt x="660" y="1572"/>
                    </a:lnTo>
                    <a:lnTo>
                      <a:pt x="690" y="1552"/>
                    </a:lnTo>
                    <a:lnTo>
                      <a:pt x="720" y="1530"/>
                    </a:lnTo>
                    <a:lnTo>
                      <a:pt x="750" y="1504"/>
                    </a:lnTo>
                    <a:lnTo>
                      <a:pt x="750" y="1504"/>
                    </a:lnTo>
                    <a:lnTo>
                      <a:pt x="752" y="1516"/>
                    </a:lnTo>
                    <a:lnTo>
                      <a:pt x="758" y="1542"/>
                    </a:lnTo>
                    <a:lnTo>
                      <a:pt x="764" y="1556"/>
                    </a:lnTo>
                    <a:lnTo>
                      <a:pt x="770" y="1566"/>
                    </a:lnTo>
                    <a:lnTo>
                      <a:pt x="774" y="1570"/>
                    </a:lnTo>
                    <a:lnTo>
                      <a:pt x="778" y="1574"/>
                    </a:lnTo>
                    <a:lnTo>
                      <a:pt x="784" y="1576"/>
                    </a:lnTo>
                    <a:lnTo>
                      <a:pt x="790" y="1576"/>
                    </a:lnTo>
                    <a:lnTo>
                      <a:pt x="790" y="1576"/>
                    </a:lnTo>
                    <a:lnTo>
                      <a:pt x="798" y="1572"/>
                    </a:lnTo>
                    <a:lnTo>
                      <a:pt x="806" y="1570"/>
                    </a:lnTo>
                    <a:lnTo>
                      <a:pt x="812" y="1564"/>
                    </a:lnTo>
                    <a:lnTo>
                      <a:pt x="816" y="1560"/>
                    </a:lnTo>
                    <a:lnTo>
                      <a:pt x="820" y="1552"/>
                    </a:lnTo>
                    <a:lnTo>
                      <a:pt x="820" y="1548"/>
                    </a:lnTo>
                    <a:lnTo>
                      <a:pt x="820" y="1548"/>
                    </a:lnTo>
                    <a:lnTo>
                      <a:pt x="828" y="1522"/>
                    </a:lnTo>
                    <a:lnTo>
                      <a:pt x="846" y="1458"/>
                    </a:lnTo>
                    <a:lnTo>
                      <a:pt x="858" y="1422"/>
                    </a:lnTo>
                    <a:lnTo>
                      <a:pt x="872" y="1386"/>
                    </a:lnTo>
                    <a:lnTo>
                      <a:pt x="888" y="1354"/>
                    </a:lnTo>
                    <a:lnTo>
                      <a:pt x="896" y="1340"/>
                    </a:lnTo>
                    <a:lnTo>
                      <a:pt x="904" y="1330"/>
                    </a:lnTo>
                    <a:lnTo>
                      <a:pt x="904" y="1330"/>
                    </a:lnTo>
                    <a:lnTo>
                      <a:pt x="904" y="1368"/>
                    </a:lnTo>
                    <a:lnTo>
                      <a:pt x="904" y="1428"/>
                    </a:lnTo>
                    <a:lnTo>
                      <a:pt x="900" y="1500"/>
                    </a:lnTo>
                    <a:lnTo>
                      <a:pt x="896" y="1540"/>
                    </a:lnTo>
                    <a:lnTo>
                      <a:pt x="892" y="1582"/>
                    </a:lnTo>
                    <a:lnTo>
                      <a:pt x="886" y="1622"/>
                    </a:lnTo>
                    <a:lnTo>
                      <a:pt x="878" y="1664"/>
                    </a:lnTo>
                    <a:lnTo>
                      <a:pt x="870" y="1702"/>
                    </a:lnTo>
                    <a:lnTo>
                      <a:pt x="858" y="1738"/>
                    </a:lnTo>
                    <a:lnTo>
                      <a:pt x="844" y="1772"/>
                    </a:lnTo>
                    <a:lnTo>
                      <a:pt x="828" y="1800"/>
                    </a:lnTo>
                    <a:lnTo>
                      <a:pt x="820" y="1814"/>
                    </a:lnTo>
                    <a:lnTo>
                      <a:pt x="810" y="1824"/>
                    </a:lnTo>
                    <a:lnTo>
                      <a:pt x="800" y="1834"/>
                    </a:lnTo>
                    <a:lnTo>
                      <a:pt x="788" y="1842"/>
                    </a:lnTo>
                    <a:lnTo>
                      <a:pt x="788" y="1842"/>
                    </a:lnTo>
                    <a:lnTo>
                      <a:pt x="784" y="1846"/>
                    </a:lnTo>
                    <a:lnTo>
                      <a:pt x="780" y="1850"/>
                    </a:lnTo>
                    <a:lnTo>
                      <a:pt x="780" y="1854"/>
                    </a:lnTo>
                    <a:lnTo>
                      <a:pt x="780" y="1858"/>
                    </a:lnTo>
                    <a:lnTo>
                      <a:pt x="784" y="1862"/>
                    </a:lnTo>
                    <a:lnTo>
                      <a:pt x="788" y="1866"/>
                    </a:lnTo>
                    <a:lnTo>
                      <a:pt x="788" y="1866"/>
                    </a:lnTo>
                    <a:lnTo>
                      <a:pt x="796" y="1872"/>
                    </a:lnTo>
                    <a:lnTo>
                      <a:pt x="806" y="1876"/>
                    </a:lnTo>
                    <a:lnTo>
                      <a:pt x="816" y="1880"/>
                    </a:lnTo>
                    <a:lnTo>
                      <a:pt x="828" y="1882"/>
                    </a:lnTo>
                    <a:lnTo>
                      <a:pt x="842" y="1882"/>
                    </a:lnTo>
                    <a:lnTo>
                      <a:pt x="858" y="1878"/>
                    </a:lnTo>
                    <a:lnTo>
                      <a:pt x="874" y="1868"/>
                    </a:lnTo>
                    <a:lnTo>
                      <a:pt x="874" y="1868"/>
                    </a:lnTo>
                    <a:lnTo>
                      <a:pt x="878" y="1866"/>
                    </a:lnTo>
                    <a:lnTo>
                      <a:pt x="884" y="1864"/>
                    </a:lnTo>
                    <a:lnTo>
                      <a:pt x="892" y="1864"/>
                    </a:lnTo>
                    <a:lnTo>
                      <a:pt x="896" y="1862"/>
                    </a:lnTo>
                    <a:lnTo>
                      <a:pt x="900" y="1860"/>
                    </a:lnTo>
                    <a:lnTo>
                      <a:pt x="904" y="1856"/>
                    </a:lnTo>
                    <a:lnTo>
                      <a:pt x="908" y="1850"/>
                    </a:lnTo>
                    <a:lnTo>
                      <a:pt x="908" y="1850"/>
                    </a:lnTo>
                    <a:lnTo>
                      <a:pt x="920" y="1822"/>
                    </a:lnTo>
                    <a:lnTo>
                      <a:pt x="932" y="1784"/>
                    </a:lnTo>
                    <a:lnTo>
                      <a:pt x="942" y="1738"/>
                    </a:lnTo>
                    <a:lnTo>
                      <a:pt x="952" y="1680"/>
                    </a:lnTo>
                    <a:lnTo>
                      <a:pt x="960" y="1610"/>
                    </a:lnTo>
                    <a:lnTo>
                      <a:pt x="968" y="1530"/>
                    </a:lnTo>
                    <a:lnTo>
                      <a:pt x="974" y="1436"/>
                    </a:lnTo>
                    <a:lnTo>
                      <a:pt x="980" y="1330"/>
                    </a:lnTo>
                    <a:lnTo>
                      <a:pt x="980" y="1330"/>
                    </a:lnTo>
                    <a:lnTo>
                      <a:pt x="988" y="1342"/>
                    </a:lnTo>
                    <a:lnTo>
                      <a:pt x="996" y="1356"/>
                    </a:lnTo>
                    <a:lnTo>
                      <a:pt x="1012" y="1388"/>
                    </a:lnTo>
                    <a:lnTo>
                      <a:pt x="1026" y="1424"/>
                    </a:lnTo>
                    <a:lnTo>
                      <a:pt x="1038" y="1460"/>
                    </a:lnTo>
                    <a:lnTo>
                      <a:pt x="1056" y="1522"/>
                    </a:lnTo>
                    <a:lnTo>
                      <a:pt x="1062" y="1548"/>
                    </a:lnTo>
                    <a:lnTo>
                      <a:pt x="1062" y="1548"/>
                    </a:lnTo>
                    <a:lnTo>
                      <a:pt x="1062" y="1552"/>
                    </a:lnTo>
                    <a:lnTo>
                      <a:pt x="1066" y="1560"/>
                    </a:lnTo>
                    <a:lnTo>
                      <a:pt x="1070" y="1564"/>
                    </a:lnTo>
                    <a:lnTo>
                      <a:pt x="1076" y="1570"/>
                    </a:lnTo>
                    <a:lnTo>
                      <a:pt x="1084" y="1572"/>
                    </a:lnTo>
                    <a:lnTo>
                      <a:pt x="1094" y="1576"/>
                    </a:lnTo>
                    <a:lnTo>
                      <a:pt x="1094" y="1576"/>
                    </a:lnTo>
                    <a:lnTo>
                      <a:pt x="1100" y="1576"/>
                    </a:lnTo>
                    <a:lnTo>
                      <a:pt x="1104" y="1574"/>
                    </a:lnTo>
                    <a:lnTo>
                      <a:pt x="1108" y="1570"/>
                    </a:lnTo>
                    <a:lnTo>
                      <a:pt x="1112" y="1566"/>
                    </a:lnTo>
                    <a:lnTo>
                      <a:pt x="1120" y="1556"/>
                    </a:lnTo>
                    <a:lnTo>
                      <a:pt x="1124" y="1542"/>
                    </a:lnTo>
                    <a:lnTo>
                      <a:pt x="1132" y="1516"/>
                    </a:lnTo>
                    <a:lnTo>
                      <a:pt x="1134" y="1504"/>
                    </a:lnTo>
                    <a:lnTo>
                      <a:pt x="1134" y="1504"/>
                    </a:lnTo>
                    <a:lnTo>
                      <a:pt x="1162" y="1530"/>
                    </a:lnTo>
                    <a:lnTo>
                      <a:pt x="1192" y="1552"/>
                    </a:lnTo>
                    <a:lnTo>
                      <a:pt x="1224" y="1572"/>
                    </a:lnTo>
                    <a:lnTo>
                      <a:pt x="1254" y="1588"/>
                    </a:lnTo>
                    <a:lnTo>
                      <a:pt x="1286" y="1602"/>
                    </a:lnTo>
                    <a:lnTo>
                      <a:pt x="1316" y="1612"/>
                    </a:lnTo>
                    <a:lnTo>
                      <a:pt x="1344" y="1620"/>
                    </a:lnTo>
                    <a:lnTo>
                      <a:pt x="1372" y="1626"/>
                    </a:lnTo>
                    <a:lnTo>
                      <a:pt x="1398" y="1632"/>
                    </a:lnTo>
                    <a:lnTo>
                      <a:pt x="1422" y="1634"/>
                    </a:lnTo>
                    <a:lnTo>
                      <a:pt x="1462" y="1638"/>
                    </a:lnTo>
                    <a:lnTo>
                      <a:pt x="1488" y="1638"/>
                    </a:lnTo>
                    <a:lnTo>
                      <a:pt x="1498" y="1638"/>
                    </a:lnTo>
                    <a:lnTo>
                      <a:pt x="1498" y="1638"/>
                    </a:lnTo>
                    <a:lnTo>
                      <a:pt x="1484" y="1598"/>
                    </a:lnTo>
                    <a:lnTo>
                      <a:pt x="1466" y="1562"/>
                    </a:lnTo>
                    <a:lnTo>
                      <a:pt x="1446" y="1526"/>
                    </a:lnTo>
                    <a:lnTo>
                      <a:pt x="1424" y="1494"/>
                    </a:lnTo>
                    <a:lnTo>
                      <a:pt x="1402" y="1462"/>
                    </a:lnTo>
                    <a:lnTo>
                      <a:pt x="1376" y="1434"/>
                    </a:lnTo>
                    <a:lnTo>
                      <a:pt x="1350" y="1406"/>
                    </a:lnTo>
                    <a:lnTo>
                      <a:pt x="1326" y="1382"/>
                    </a:lnTo>
                    <a:lnTo>
                      <a:pt x="1300" y="1360"/>
                    </a:lnTo>
                    <a:lnTo>
                      <a:pt x="1276" y="1338"/>
                    </a:lnTo>
                    <a:lnTo>
                      <a:pt x="1230" y="1306"/>
                    </a:lnTo>
                    <a:lnTo>
                      <a:pt x="1196" y="1282"/>
                    </a:lnTo>
                    <a:lnTo>
                      <a:pt x="1176" y="1268"/>
                    </a:lnTo>
                    <a:lnTo>
                      <a:pt x="1176" y="1268"/>
                    </a:lnTo>
                    <a:lnTo>
                      <a:pt x="1166" y="1260"/>
                    </a:lnTo>
                    <a:lnTo>
                      <a:pt x="1162" y="1256"/>
                    </a:lnTo>
                    <a:lnTo>
                      <a:pt x="1164" y="1252"/>
                    </a:lnTo>
                    <a:lnTo>
                      <a:pt x="1168" y="1250"/>
                    </a:lnTo>
                    <a:lnTo>
                      <a:pt x="1178" y="1248"/>
                    </a:lnTo>
                    <a:lnTo>
                      <a:pt x="1184" y="1248"/>
                    </a:lnTo>
                    <a:lnTo>
                      <a:pt x="1184" y="1248"/>
                    </a:lnTo>
                    <a:lnTo>
                      <a:pt x="1192" y="1252"/>
                    </a:lnTo>
                    <a:lnTo>
                      <a:pt x="1216" y="1260"/>
                    </a:lnTo>
                    <a:lnTo>
                      <a:pt x="1232" y="1264"/>
                    </a:lnTo>
                    <a:lnTo>
                      <a:pt x="1252" y="1266"/>
                    </a:lnTo>
                    <a:lnTo>
                      <a:pt x="1274" y="1266"/>
                    </a:lnTo>
                    <a:lnTo>
                      <a:pt x="1300" y="1264"/>
                    </a:lnTo>
                    <a:lnTo>
                      <a:pt x="1328" y="1260"/>
                    </a:lnTo>
                    <a:lnTo>
                      <a:pt x="1358" y="1250"/>
                    </a:lnTo>
                    <a:lnTo>
                      <a:pt x="1390" y="1238"/>
                    </a:lnTo>
                    <a:lnTo>
                      <a:pt x="1424" y="1218"/>
                    </a:lnTo>
                    <a:lnTo>
                      <a:pt x="1460" y="1194"/>
                    </a:lnTo>
                    <a:lnTo>
                      <a:pt x="1498" y="1162"/>
                    </a:lnTo>
                    <a:lnTo>
                      <a:pt x="1536" y="1124"/>
                    </a:lnTo>
                    <a:lnTo>
                      <a:pt x="1576" y="1076"/>
                    </a:lnTo>
                    <a:lnTo>
                      <a:pt x="1576" y="1076"/>
                    </a:lnTo>
                    <a:lnTo>
                      <a:pt x="1616" y="1028"/>
                    </a:lnTo>
                    <a:lnTo>
                      <a:pt x="1652" y="986"/>
                    </a:lnTo>
                    <a:lnTo>
                      <a:pt x="1684" y="950"/>
                    </a:lnTo>
                    <a:lnTo>
                      <a:pt x="1716" y="918"/>
                    </a:lnTo>
                    <a:lnTo>
                      <a:pt x="1744" y="892"/>
                    </a:lnTo>
                    <a:lnTo>
                      <a:pt x="1768" y="870"/>
                    </a:lnTo>
                    <a:lnTo>
                      <a:pt x="1790" y="850"/>
                    </a:lnTo>
                    <a:lnTo>
                      <a:pt x="1810" y="836"/>
                    </a:lnTo>
                    <a:lnTo>
                      <a:pt x="1844" y="816"/>
                    </a:lnTo>
                    <a:lnTo>
                      <a:pt x="1866" y="806"/>
                    </a:lnTo>
                    <a:lnTo>
                      <a:pt x="1880" y="802"/>
                    </a:lnTo>
                    <a:lnTo>
                      <a:pt x="1884" y="800"/>
                    </a:lnTo>
                    <a:lnTo>
                      <a:pt x="1884" y="800"/>
                    </a:lnTo>
                    <a:lnTo>
                      <a:pt x="1764" y="794"/>
                    </a:lnTo>
                    <a:lnTo>
                      <a:pt x="1668" y="792"/>
                    </a:lnTo>
                    <a:lnTo>
                      <a:pt x="1590" y="794"/>
                    </a:lnTo>
                    <a:lnTo>
                      <a:pt x="1528" y="798"/>
                    </a:lnTo>
                    <a:lnTo>
                      <a:pt x="1480" y="804"/>
                    </a:lnTo>
                    <a:lnTo>
                      <a:pt x="1442" y="812"/>
                    </a:lnTo>
                    <a:lnTo>
                      <a:pt x="1380" y="826"/>
                    </a:lnTo>
                    <a:lnTo>
                      <a:pt x="1380" y="826"/>
                    </a:lnTo>
                    <a:close/>
                  </a:path>
                </a:pathLst>
              </a:custGeom>
              <a:solidFill>
                <a:srgbClr val="ed4600">
                  <a:alpha val="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32"/>
              <p:cNvSpPr/>
              <p:nvPr/>
            </p:nvSpPr>
            <p:spPr>
              <a:xfrm rot="6220200">
                <a:off x="7292520" y="1558080"/>
                <a:ext cx="570240" cy="1348560"/>
              </a:xfrm>
              <a:custGeom>
                <a:avLst/>
                <a:gdLst>
                  <a:gd name="textAreaLeft" fmla="*/ 0 w 570240"/>
                  <a:gd name="textAreaRight" fmla="*/ 570600 w 570240"/>
                  <a:gd name="textAreaTop" fmla="*/ 0 h 1348560"/>
                  <a:gd name="textAreaBottom" fmla="*/ 1348920 h 1348560"/>
                </a:gdLst>
                <a:ahLst/>
                <a:rect l="textAreaLeft" t="textAreaTop" r="textAreaRight" b="textAreaBottom"/>
                <a:pathLst>
                  <a:path w="574" h="1358">
                    <a:moveTo>
                      <a:pt x="518" y="468"/>
                    </a:moveTo>
                    <a:lnTo>
                      <a:pt x="518" y="468"/>
                    </a:lnTo>
                    <a:lnTo>
                      <a:pt x="494" y="416"/>
                    </a:lnTo>
                    <a:lnTo>
                      <a:pt x="466" y="358"/>
                    </a:lnTo>
                    <a:lnTo>
                      <a:pt x="438" y="300"/>
                    </a:lnTo>
                    <a:lnTo>
                      <a:pt x="414" y="238"/>
                    </a:lnTo>
                    <a:lnTo>
                      <a:pt x="402" y="208"/>
                    </a:lnTo>
                    <a:lnTo>
                      <a:pt x="394" y="178"/>
                    </a:lnTo>
                    <a:lnTo>
                      <a:pt x="388" y="146"/>
                    </a:lnTo>
                    <a:lnTo>
                      <a:pt x="382" y="116"/>
                    </a:lnTo>
                    <a:lnTo>
                      <a:pt x="382" y="86"/>
                    </a:lnTo>
                    <a:lnTo>
                      <a:pt x="382" y="56"/>
                    </a:lnTo>
                    <a:lnTo>
                      <a:pt x="388" y="28"/>
                    </a:lnTo>
                    <a:lnTo>
                      <a:pt x="396" y="0"/>
                    </a:lnTo>
                    <a:lnTo>
                      <a:pt x="396" y="0"/>
                    </a:lnTo>
                    <a:lnTo>
                      <a:pt x="364" y="30"/>
                    </a:lnTo>
                    <a:lnTo>
                      <a:pt x="330" y="66"/>
                    </a:lnTo>
                    <a:lnTo>
                      <a:pt x="286" y="114"/>
                    </a:lnTo>
                    <a:lnTo>
                      <a:pt x="236" y="170"/>
                    </a:lnTo>
                    <a:lnTo>
                      <a:pt x="210" y="204"/>
                    </a:lnTo>
                    <a:lnTo>
                      <a:pt x="184" y="238"/>
                    </a:lnTo>
                    <a:lnTo>
                      <a:pt x="158" y="274"/>
                    </a:lnTo>
                    <a:lnTo>
                      <a:pt x="134" y="312"/>
                    </a:lnTo>
                    <a:lnTo>
                      <a:pt x="110" y="352"/>
                    </a:lnTo>
                    <a:lnTo>
                      <a:pt x="86" y="394"/>
                    </a:lnTo>
                    <a:lnTo>
                      <a:pt x="66" y="436"/>
                    </a:lnTo>
                    <a:lnTo>
                      <a:pt x="48" y="478"/>
                    </a:lnTo>
                    <a:lnTo>
                      <a:pt x="32" y="522"/>
                    </a:lnTo>
                    <a:lnTo>
                      <a:pt x="18" y="568"/>
                    </a:lnTo>
                    <a:lnTo>
                      <a:pt x="8" y="614"/>
                    </a:lnTo>
                    <a:lnTo>
                      <a:pt x="2" y="658"/>
                    </a:lnTo>
                    <a:lnTo>
                      <a:pt x="0" y="704"/>
                    </a:lnTo>
                    <a:lnTo>
                      <a:pt x="2" y="728"/>
                    </a:lnTo>
                    <a:lnTo>
                      <a:pt x="4" y="750"/>
                    </a:lnTo>
                    <a:lnTo>
                      <a:pt x="6" y="774"/>
                    </a:lnTo>
                    <a:lnTo>
                      <a:pt x="10" y="796"/>
                    </a:lnTo>
                    <a:lnTo>
                      <a:pt x="16" y="818"/>
                    </a:lnTo>
                    <a:lnTo>
                      <a:pt x="24" y="842"/>
                    </a:lnTo>
                    <a:lnTo>
                      <a:pt x="32" y="864"/>
                    </a:lnTo>
                    <a:lnTo>
                      <a:pt x="42" y="886"/>
                    </a:lnTo>
                    <a:lnTo>
                      <a:pt x="54" y="908"/>
                    </a:lnTo>
                    <a:lnTo>
                      <a:pt x="68" y="930"/>
                    </a:lnTo>
                    <a:lnTo>
                      <a:pt x="82" y="952"/>
                    </a:lnTo>
                    <a:lnTo>
                      <a:pt x="100" y="974"/>
                    </a:lnTo>
                    <a:lnTo>
                      <a:pt x="118" y="994"/>
                    </a:lnTo>
                    <a:lnTo>
                      <a:pt x="138" y="1016"/>
                    </a:lnTo>
                    <a:lnTo>
                      <a:pt x="160" y="1036"/>
                    </a:lnTo>
                    <a:lnTo>
                      <a:pt x="184" y="1056"/>
                    </a:lnTo>
                    <a:lnTo>
                      <a:pt x="210" y="1076"/>
                    </a:lnTo>
                    <a:lnTo>
                      <a:pt x="238" y="1096"/>
                    </a:lnTo>
                    <a:lnTo>
                      <a:pt x="238" y="1096"/>
                    </a:lnTo>
                    <a:lnTo>
                      <a:pt x="232" y="1130"/>
                    </a:lnTo>
                    <a:lnTo>
                      <a:pt x="222" y="1164"/>
                    </a:lnTo>
                    <a:lnTo>
                      <a:pt x="212" y="1200"/>
                    </a:lnTo>
                    <a:lnTo>
                      <a:pt x="202" y="1234"/>
                    </a:lnTo>
                    <a:lnTo>
                      <a:pt x="188" y="1266"/>
                    </a:lnTo>
                    <a:lnTo>
                      <a:pt x="172" y="1294"/>
                    </a:lnTo>
                    <a:lnTo>
                      <a:pt x="162" y="1306"/>
                    </a:lnTo>
                    <a:lnTo>
                      <a:pt x="152" y="1316"/>
                    </a:lnTo>
                    <a:lnTo>
                      <a:pt x="142" y="1324"/>
                    </a:lnTo>
                    <a:lnTo>
                      <a:pt x="132" y="1330"/>
                    </a:lnTo>
                    <a:lnTo>
                      <a:pt x="132" y="1330"/>
                    </a:lnTo>
                    <a:lnTo>
                      <a:pt x="130" y="1332"/>
                    </a:lnTo>
                    <a:lnTo>
                      <a:pt x="126" y="1334"/>
                    </a:lnTo>
                    <a:lnTo>
                      <a:pt x="126" y="1338"/>
                    </a:lnTo>
                    <a:lnTo>
                      <a:pt x="130" y="1344"/>
                    </a:lnTo>
                    <a:lnTo>
                      <a:pt x="130" y="1344"/>
                    </a:lnTo>
                    <a:lnTo>
                      <a:pt x="134" y="1348"/>
                    </a:lnTo>
                    <a:lnTo>
                      <a:pt x="146" y="1356"/>
                    </a:lnTo>
                    <a:lnTo>
                      <a:pt x="154" y="1358"/>
                    </a:lnTo>
                    <a:lnTo>
                      <a:pt x="162" y="1358"/>
                    </a:lnTo>
                    <a:lnTo>
                      <a:pt x="172" y="1358"/>
                    </a:lnTo>
                    <a:lnTo>
                      <a:pt x="184" y="1354"/>
                    </a:lnTo>
                    <a:lnTo>
                      <a:pt x="184" y="1354"/>
                    </a:lnTo>
                    <a:lnTo>
                      <a:pt x="190" y="1352"/>
                    </a:lnTo>
                    <a:lnTo>
                      <a:pt x="194" y="1352"/>
                    </a:lnTo>
                    <a:lnTo>
                      <a:pt x="200" y="1350"/>
                    </a:lnTo>
                    <a:lnTo>
                      <a:pt x="206" y="1344"/>
                    </a:lnTo>
                    <a:lnTo>
                      <a:pt x="206" y="1344"/>
                    </a:lnTo>
                    <a:lnTo>
                      <a:pt x="214" y="1330"/>
                    </a:lnTo>
                    <a:lnTo>
                      <a:pt x="224" y="1312"/>
                    </a:lnTo>
                    <a:lnTo>
                      <a:pt x="232" y="1290"/>
                    </a:lnTo>
                    <a:lnTo>
                      <a:pt x="242" y="1264"/>
                    </a:lnTo>
                    <a:lnTo>
                      <a:pt x="262" y="1194"/>
                    </a:lnTo>
                    <a:lnTo>
                      <a:pt x="282" y="1102"/>
                    </a:lnTo>
                    <a:lnTo>
                      <a:pt x="282" y="1102"/>
                    </a:lnTo>
                    <a:lnTo>
                      <a:pt x="298" y="1102"/>
                    </a:lnTo>
                    <a:lnTo>
                      <a:pt x="318" y="1100"/>
                    </a:lnTo>
                    <a:lnTo>
                      <a:pt x="338" y="1098"/>
                    </a:lnTo>
                    <a:lnTo>
                      <a:pt x="360" y="1092"/>
                    </a:lnTo>
                    <a:lnTo>
                      <a:pt x="382" y="1086"/>
                    </a:lnTo>
                    <a:lnTo>
                      <a:pt x="404" y="1074"/>
                    </a:lnTo>
                    <a:lnTo>
                      <a:pt x="426" y="1062"/>
                    </a:lnTo>
                    <a:lnTo>
                      <a:pt x="450" y="1044"/>
                    </a:lnTo>
                    <a:lnTo>
                      <a:pt x="472" y="1024"/>
                    </a:lnTo>
                    <a:lnTo>
                      <a:pt x="492" y="998"/>
                    </a:lnTo>
                    <a:lnTo>
                      <a:pt x="512" y="968"/>
                    </a:lnTo>
                    <a:lnTo>
                      <a:pt x="528" y="934"/>
                    </a:lnTo>
                    <a:lnTo>
                      <a:pt x="544" y="894"/>
                    </a:lnTo>
                    <a:lnTo>
                      <a:pt x="556" y="846"/>
                    </a:lnTo>
                    <a:lnTo>
                      <a:pt x="566" y="794"/>
                    </a:lnTo>
                    <a:lnTo>
                      <a:pt x="574" y="736"/>
                    </a:lnTo>
                    <a:lnTo>
                      <a:pt x="574" y="736"/>
                    </a:lnTo>
                    <a:lnTo>
                      <a:pt x="574" y="712"/>
                    </a:lnTo>
                    <a:lnTo>
                      <a:pt x="572" y="686"/>
                    </a:lnTo>
                    <a:lnTo>
                      <a:pt x="568" y="652"/>
                    </a:lnTo>
                    <a:lnTo>
                      <a:pt x="562" y="612"/>
                    </a:lnTo>
                    <a:lnTo>
                      <a:pt x="552" y="566"/>
                    </a:lnTo>
                    <a:lnTo>
                      <a:pt x="538" y="518"/>
                    </a:lnTo>
                    <a:lnTo>
                      <a:pt x="528" y="494"/>
                    </a:lnTo>
                    <a:lnTo>
                      <a:pt x="518" y="468"/>
                    </a:lnTo>
                    <a:lnTo>
                      <a:pt x="518" y="468"/>
                    </a:lnTo>
                    <a:close/>
                  </a:path>
                </a:pathLst>
              </a:custGeom>
              <a:solidFill>
                <a:srgbClr val="ed4600">
                  <a:alpha val="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6"/>
              <p:cNvSpPr/>
              <p:nvPr/>
            </p:nvSpPr>
            <p:spPr>
              <a:xfrm rot="6532800">
                <a:off x="7960320" y="4914360"/>
                <a:ext cx="854640" cy="1306440"/>
              </a:xfrm>
              <a:custGeom>
                <a:avLst/>
                <a:gdLst>
                  <a:gd name="textAreaLeft" fmla="*/ 0 w 854640"/>
                  <a:gd name="textAreaRight" fmla="*/ 855000 w 854640"/>
                  <a:gd name="textAreaTop" fmla="*/ 0 h 1306440"/>
                  <a:gd name="textAreaBottom" fmla="*/ 1306800 h 1306440"/>
                </a:gdLst>
                <a:ahLst/>
                <a:rect l="textAreaLeft" t="textAreaTop" r="textAreaRight" b="textAreaBottom"/>
                <a:pathLst>
                  <a:path w="944" h="1444">
                    <a:moveTo>
                      <a:pt x="924" y="732"/>
                    </a:moveTo>
                    <a:lnTo>
                      <a:pt x="924" y="732"/>
                    </a:lnTo>
                    <a:lnTo>
                      <a:pt x="932" y="706"/>
                    </a:lnTo>
                    <a:lnTo>
                      <a:pt x="938" y="678"/>
                    </a:lnTo>
                    <a:lnTo>
                      <a:pt x="942" y="650"/>
                    </a:lnTo>
                    <a:lnTo>
                      <a:pt x="944" y="622"/>
                    </a:lnTo>
                    <a:lnTo>
                      <a:pt x="942" y="598"/>
                    </a:lnTo>
                    <a:lnTo>
                      <a:pt x="938" y="578"/>
                    </a:lnTo>
                    <a:lnTo>
                      <a:pt x="934" y="570"/>
                    </a:lnTo>
                    <a:lnTo>
                      <a:pt x="932" y="564"/>
                    </a:lnTo>
                    <a:lnTo>
                      <a:pt x="926" y="558"/>
                    </a:lnTo>
                    <a:lnTo>
                      <a:pt x="922" y="556"/>
                    </a:lnTo>
                    <a:lnTo>
                      <a:pt x="922" y="556"/>
                    </a:lnTo>
                    <a:lnTo>
                      <a:pt x="916" y="554"/>
                    </a:lnTo>
                    <a:lnTo>
                      <a:pt x="906" y="552"/>
                    </a:lnTo>
                    <a:lnTo>
                      <a:pt x="886" y="554"/>
                    </a:lnTo>
                    <a:lnTo>
                      <a:pt x="862" y="558"/>
                    </a:lnTo>
                    <a:lnTo>
                      <a:pt x="838" y="566"/>
                    </a:lnTo>
                    <a:lnTo>
                      <a:pt x="788" y="582"/>
                    </a:lnTo>
                    <a:lnTo>
                      <a:pt x="752" y="596"/>
                    </a:lnTo>
                    <a:lnTo>
                      <a:pt x="752" y="596"/>
                    </a:lnTo>
                    <a:lnTo>
                      <a:pt x="750" y="596"/>
                    </a:lnTo>
                    <a:lnTo>
                      <a:pt x="750" y="596"/>
                    </a:lnTo>
                    <a:lnTo>
                      <a:pt x="726" y="608"/>
                    </a:lnTo>
                    <a:lnTo>
                      <a:pt x="706" y="618"/>
                    </a:lnTo>
                    <a:lnTo>
                      <a:pt x="692" y="630"/>
                    </a:lnTo>
                    <a:lnTo>
                      <a:pt x="678" y="638"/>
                    </a:lnTo>
                    <a:lnTo>
                      <a:pt x="662" y="654"/>
                    </a:lnTo>
                    <a:lnTo>
                      <a:pt x="658" y="658"/>
                    </a:lnTo>
                    <a:lnTo>
                      <a:pt x="654" y="660"/>
                    </a:lnTo>
                    <a:lnTo>
                      <a:pt x="654" y="660"/>
                    </a:lnTo>
                    <a:lnTo>
                      <a:pt x="650" y="660"/>
                    </a:lnTo>
                    <a:lnTo>
                      <a:pt x="648" y="658"/>
                    </a:lnTo>
                    <a:lnTo>
                      <a:pt x="650" y="654"/>
                    </a:lnTo>
                    <a:lnTo>
                      <a:pt x="650" y="654"/>
                    </a:lnTo>
                    <a:lnTo>
                      <a:pt x="660" y="638"/>
                    </a:lnTo>
                    <a:lnTo>
                      <a:pt x="724" y="548"/>
                    </a:lnTo>
                    <a:lnTo>
                      <a:pt x="724" y="548"/>
                    </a:lnTo>
                    <a:lnTo>
                      <a:pt x="736" y="528"/>
                    </a:lnTo>
                    <a:lnTo>
                      <a:pt x="744" y="506"/>
                    </a:lnTo>
                    <a:lnTo>
                      <a:pt x="748" y="484"/>
                    </a:lnTo>
                    <a:lnTo>
                      <a:pt x="750" y="462"/>
                    </a:lnTo>
                    <a:lnTo>
                      <a:pt x="750" y="438"/>
                    </a:lnTo>
                    <a:lnTo>
                      <a:pt x="748" y="414"/>
                    </a:lnTo>
                    <a:lnTo>
                      <a:pt x="744" y="390"/>
                    </a:lnTo>
                    <a:lnTo>
                      <a:pt x="740" y="368"/>
                    </a:lnTo>
                    <a:lnTo>
                      <a:pt x="728" y="328"/>
                    </a:lnTo>
                    <a:lnTo>
                      <a:pt x="716" y="294"/>
                    </a:lnTo>
                    <a:lnTo>
                      <a:pt x="702" y="264"/>
                    </a:lnTo>
                    <a:lnTo>
                      <a:pt x="702" y="264"/>
                    </a:lnTo>
                    <a:lnTo>
                      <a:pt x="680" y="260"/>
                    </a:lnTo>
                    <a:lnTo>
                      <a:pt x="660" y="254"/>
                    </a:lnTo>
                    <a:lnTo>
                      <a:pt x="642" y="248"/>
                    </a:lnTo>
                    <a:lnTo>
                      <a:pt x="624" y="240"/>
                    </a:lnTo>
                    <a:lnTo>
                      <a:pt x="594" y="224"/>
                    </a:lnTo>
                    <a:lnTo>
                      <a:pt x="566" y="204"/>
                    </a:lnTo>
                    <a:lnTo>
                      <a:pt x="544" y="184"/>
                    </a:lnTo>
                    <a:lnTo>
                      <a:pt x="526" y="162"/>
                    </a:lnTo>
                    <a:lnTo>
                      <a:pt x="510" y="138"/>
                    </a:lnTo>
                    <a:lnTo>
                      <a:pt x="498" y="116"/>
                    </a:lnTo>
                    <a:lnTo>
                      <a:pt x="490" y="92"/>
                    </a:lnTo>
                    <a:lnTo>
                      <a:pt x="482" y="72"/>
                    </a:lnTo>
                    <a:lnTo>
                      <a:pt x="478" y="52"/>
                    </a:lnTo>
                    <a:lnTo>
                      <a:pt x="474" y="34"/>
                    </a:lnTo>
                    <a:lnTo>
                      <a:pt x="472" y="8"/>
                    </a:lnTo>
                    <a:lnTo>
                      <a:pt x="472" y="0"/>
                    </a:lnTo>
                    <a:lnTo>
                      <a:pt x="472" y="2"/>
                    </a:lnTo>
                    <a:lnTo>
                      <a:pt x="472" y="0"/>
                    </a:lnTo>
                    <a:lnTo>
                      <a:pt x="472" y="0"/>
                    </a:lnTo>
                    <a:lnTo>
                      <a:pt x="470" y="8"/>
                    </a:lnTo>
                    <a:lnTo>
                      <a:pt x="468" y="34"/>
                    </a:lnTo>
                    <a:lnTo>
                      <a:pt x="466" y="52"/>
                    </a:lnTo>
                    <a:lnTo>
                      <a:pt x="460" y="72"/>
                    </a:lnTo>
                    <a:lnTo>
                      <a:pt x="454" y="92"/>
                    </a:lnTo>
                    <a:lnTo>
                      <a:pt x="444" y="116"/>
                    </a:lnTo>
                    <a:lnTo>
                      <a:pt x="432" y="138"/>
                    </a:lnTo>
                    <a:lnTo>
                      <a:pt x="418" y="162"/>
                    </a:lnTo>
                    <a:lnTo>
                      <a:pt x="398" y="184"/>
                    </a:lnTo>
                    <a:lnTo>
                      <a:pt x="376" y="204"/>
                    </a:lnTo>
                    <a:lnTo>
                      <a:pt x="350" y="224"/>
                    </a:lnTo>
                    <a:lnTo>
                      <a:pt x="318" y="240"/>
                    </a:lnTo>
                    <a:lnTo>
                      <a:pt x="300" y="248"/>
                    </a:lnTo>
                    <a:lnTo>
                      <a:pt x="282" y="254"/>
                    </a:lnTo>
                    <a:lnTo>
                      <a:pt x="262" y="260"/>
                    </a:lnTo>
                    <a:lnTo>
                      <a:pt x="240" y="264"/>
                    </a:lnTo>
                    <a:lnTo>
                      <a:pt x="240" y="264"/>
                    </a:lnTo>
                    <a:lnTo>
                      <a:pt x="226" y="294"/>
                    </a:lnTo>
                    <a:lnTo>
                      <a:pt x="214" y="328"/>
                    </a:lnTo>
                    <a:lnTo>
                      <a:pt x="202" y="368"/>
                    </a:lnTo>
                    <a:lnTo>
                      <a:pt x="198" y="390"/>
                    </a:lnTo>
                    <a:lnTo>
                      <a:pt x="194" y="414"/>
                    </a:lnTo>
                    <a:lnTo>
                      <a:pt x="192" y="438"/>
                    </a:lnTo>
                    <a:lnTo>
                      <a:pt x="192" y="462"/>
                    </a:lnTo>
                    <a:lnTo>
                      <a:pt x="194" y="484"/>
                    </a:lnTo>
                    <a:lnTo>
                      <a:pt x="198" y="506"/>
                    </a:lnTo>
                    <a:lnTo>
                      <a:pt x="208" y="528"/>
                    </a:lnTo>
                    <a:lnTo>
                      <a:pt x="218" y="548"/>
                    </a:lnTo>
                    <a:lnTo>
                      <a:pt x="218" y="548"/>
                    </a:lnTo>
                    <a:lnTo>
                      <a:pt x="282" y="638"/>
                    </a:lnTo>
                    <a:lnTo>
                      <a:pt x="292" y="654"/>
                    </a:lnTo>
                    <a:lnTo>
                      <a:pt x="292" y="654"/>
                    </a:lnTo>
                    <a:lnTo>
                      <a:pt x="294" y="658"/>
                    </a:lnTo>
                    <a:lnTo>
                      <a:pt x="292" y="660"/>
                    </a:lnTo>
                    <a:lnTo>
                      <a:pt x="288" y="660"/>
                    </a:lnTo>
                    <a:lnTo>
                      <a:pt x="288" y="660"/>
                    </a:lnTo>
                    <a:lnTo>
                      <a:pt x="284" y="658"/>
                    </a:lnTo>
                    <a:lnTo>
                      <a:pt x="280" y="654"/>
                    </a:lnTo>
                    <a:lnTo>
                      <a:pt x="266" y="640"/>
                    </a:lnTo>
                    <a:lnTo>
                      <a:pt x="254" y="632"/>
                    </a:lnTo>
                    <a:lnTo>
                      <a:pt x="240" y="622"/>
                    </a:lnTo>
                    <a:lnTo>
                      <a:pt x="224" y="612"/>
                    </a:lnTo>
                    <a:lnTo>
                      <a:pt x="202" y="602"/>
                    </a:lnTo>
                    <a:lnTo>
                      <a:pt x="202" y="600"/>
                    </a:lnTo>
                    <a:lnTo>
                      <a:pt x="202" y="600"/>
                    </a:lnTo>
                    <a:lnTo>
                      <a:pt x="180" y="592"/>
                    </a:lnTo>
                    <a:lnTo>
                      <a:pt x="126" y="572"/>
                    </a:lnTo>
                    <a:lnTo>
                      <a:pt x="96" y="562"/>
                    </a:lnTo>
                    <a:lnTo>
                      <a:pt x="66" y="556"/>
                    </a:lnTo>
                    <a:lnTo>
                      <a:pt x="42" y="552"/>
                    </a:lnTo>
                    <a:lnTo>
                      <a:pt x="30" y="552"/>
                    </a:lnTo>
                    <a:lnTo>
                      <a:pt x="22" y="556"/>
                    </a:lnTo>
                    <a:lnTo>
                      <a:pt x="22" y="556"/>
                    </a:lnTo>
                    <a:lnTo>
                      <a:pt x="18" y="558"/>
                    </a:lnTo>
                    <a:lnTo>
                      <a:pt x="14" y="562"/>
                    </a:lnTo>
                    <a:lnTo>
                      <a:pt x="8" y="576"/>
                    </a:lnTo>
                    <a:lnTo>
                      <a:pt x="2" y="594"/>
                    </a:lnTo>
                    <a:lnTo>
                      <a:pt x="0" y="616"/>
                    </a:lnTo>
                    <a:lnTo>
                      <a:pt x="2" y="640"/>
                    </a:lnTo>
                    <a:lnTo>
                      <a:pt x="4" y="666"/>
                    </a:lnTo>
                    <a:lnTo>
                      <a:pt x="8" y="692"/>
                    </a:lnTo>
                    <a:lnTo>
                      <a:pt x="16" y="718"/>
                    </a:lnTo>
                    <a:lnTo>
                      <a:pt x="16" y="718"/>
                    </a:lnTo>
                    <a:lnTo>
                      <a:pt x="16" y="726"/>
                    </a:lnTo>
                    <a:lnTo>
                      <a:pt x="16" y="726"/>
                    </a:lnTo>
                    <a:lnTo>
                      <a:pt x="22" y="740"/>
                    </a:lnTo>
                    <a:lnTo>
                      <a:pt x="30" y="754"/>
                    </a:lnTo>
                    <a:lnTo>
                      <a:pt x="38" y="768"/>
                    </a:lnTo>
                    <a:lnTo>
                      <a:pt x="50" y="782"/>
                    </a:lnTo>
                    <a:lnTo>
                      <a:pt x="50" y="782"/>
                    </a:lnTo>
                    <a:lnTo>
                      <a:pt x="52" y="782"/>
                    </a:lnTo>
                    <a:lnTo>
                      <a:pt x="52" y="782"/>
                    </a:lnTo>
                    <a:lnTo>
                      <a:pt x="60" y="790"/>
                    </a:lnTo>
                    <a:lnTo>
                      <a:pt x="70" y="796"/>
                    </a:lnTo>
                    <a:lnTo>
                      <a:pt x="78" y="800"/>
                    </a:lnTo>
                    <a:lnTo>
                      <a:pt x="88" y="804"/>
                    </a:lnTo>
                    <a:lnTo>
                      <a:pt x="88" y="804"/>
                    </a:lnTo>
                    <a:lnTo>
                      <a:pt x="104" y="808"/>
                    </a:lnTo>
                    <a:lnTo>
                      <a:pt x="128" y="822"/>
                    </a:lnTo>
                    <a:lnTo>
                      <a:pt x="138" y="830"/>
                    </a:lnTo>
                    <a:lnTo>
                      <a:pt x="150" y="840"/>
                    </a:lnTo>
                    <a:lnTo>
                      <a:pt x="160" y="852"/>
                    </a:lnTo>
                    <a:lnTo>
                      <a:pt x="168" y="866"/>
                    </a:lnTo>
                    <a:lnTo>
                      <a:pt x="176" y="880"/>
                    </a:lnTo>
                    <a:lnTo>
                      <a:pt x="178" y="896"/>
                    </a:lnTo>
                    <a:lnTo>
                      <a:pt x="178" y="912"/>
                    </a:lnTo>
                    <a:lnTo>
                      <a:pt x="174" y="930"/>
                    </a:lnTo>
                    <a:lnTo>
                      <a:pt x="166" y="948"/>
                    </a:lnTo>
                    <a:lnTo>
                      <a:pt x="152" y="968"/>
                    </a:lnTo>
                    <a:lnTo>
                      <a:pt x="132" y="988"/>
                    </a:lnTo>
                    <a:lnTo>
                      <a:pt x="106" y="1008"/>
                    </a:lnTo>
                    <a:lnTo>
                      <a:pt x="106" y="1008"/>
                    </a:lnTo>
                    <a:lnTo>
                      <a:pt x="118" y="1008"/>
                    </a:lnTo>
                    <a:lnTo>
                      <a:pt x="132" y="1008"/>
                    </a:lnTo>
                    <a:lnTo>
                      <a:pt x="152" y="1012"/>
                    </a:lnTo>
                    <a:lnTo>
                      <a:pt x="174" y="1016"/>
                    </a:lnTo>
                    <a:lnTo>
                      <a:pt x="202" y="1024"/>
                    </a:lnTo>
                    <a:lnTo>
                      <a:pt x="230" y="1034"/>
                    </a:lnTo>
                    <a:lnTo>
                      <a:pt x="260" y="1050"/>
                    </a:lnTo>
                    <a:lnTo>
                      <a:pt x="260" y="1050"/>
                    </a:lnTo>
                    <a:lnTo>
                      <a:pt x="274" y="1056"/>
                    </a:lnTo>
                    <a:lnTo>
                      <a:pt x="288" y="1060"/>
                    </a:lnTo>
                    <a:lnTo>
                      <a:pt x="304" y="1064"/>
                    </a:lnTo>
                    <a:lnTo>
                      <a:pt x="318" y="1064"/>
                    </a:lnTo>
                    <a:lnTo>
                      <a:pt x="332" y="1064"/>
                    </a:lnTo>
                    <a:lnTo>
                      <a:pt x="346" y="1062"/>
                    </a:lnTo>
                    <a:lnTo>
                      <a:pt x="372" y="1056"/>
                    </a:lnTo>
                    <a:lnTo>
                      <a:pt x="396" y="1046"/>
                    </a:lnTo>
                    <a:lnTo>
                      <a:pt x="418" y="1036"/>
                    </a:lnTo>
                    <a:lnTo>
                      <a:pt x="444" y="1020"/>
                    </a:lnTo>
                    <a:lnTo>
                      <a:pt x="444" y="1020"/>
                    </a:lnTo>
                    <a:lnTo>
                      <a:pt x="444" y="1050"/>
                    </a:lnTo>
                    <a:lnTo>
                      <a:pt x="444" y="1096"/>
                    </a:lnTo>
                    <a:lnTo>
                      <a:pt x="442" y="1152"/>
                    </a:lnTo>
                    <a:lnTo>
                      <a:pt x="436" y="1214"/>
                    </a:lnTo>
                    <a:lnTo>
                      <a:pt x="430" y="1246"/>
                    </a:lnTo>
                    <a:lnTo>
                      <a:pt x="424" y="1276"/>
                    </a:lnTo>
                    <a:lnTo>
                      <a:pt x="418" y="1306"/>
                    </a:lnTo>
                    <a:lnTo>
                      <a:pt x="408" y="1334"/>
                    </a:lnTo>
                    <a:lnTo>
                      <a:pt x="398" y="1360"/>
                    </a:lnTo>
                    <a:lnTo>
                      <a:pt x="386" y="1382"/>
                    </a:lnTo>
                    <a:lnTo>
                      <a:pt x="372" y="1400"/>
                    </a:lnTo>
                    <a:lnTo>
                      <a:pt x="364" y="1408"/>
                    </a:lnTo>
                    <a:lnTo>
                      <a:pt x="356" y="1414"/>
                    </a:lnTo>
                    <a:lnTo>
                      <a:pt x="356" y="1414"/>
                    </a:lnTo>
                    <a:lnTo>
                      <a:pt x="352" y="1416"/>
                    </a:lnTo>
                    <a:lnTo>
                      <a:pt x="350" y="1420"/>
                    </a:lnTo>
                    <a:lnTo>
                      <a:pt x="348" y="1422"/>
                    </a:lnTo>
                    <a:lnTo>
                      <a:pt x="350" y="1426"/>
                    </a:lnTo>
                    <a:lnTo>
                      <a:pt x="352" y="1428"/>
                    </a:lnTo>
                    <a:lnTo>
                      <a:pt x="354" y="1432"/>
                    </a:lnTo>
                    <a:lnTo>
                      <a:pt x="354" y="1432"/>
                    </a:lnTo>
                    <a:lnTo>
                      <a:pt x="362" y="1438"/>
                    </a:lnTo>
                    <a:lnTo>
                      <a:pt x="368" y="1440"/>
                    </a:lnTo>
                    <a:lnTo>
                      <a:pt x="376" y="1444"/>
                    </a:lnTo>
                    <a:lnTo>
                      <a:pt x="386" y="1444"/>
                    </a:lnTo>
                    <a:lnTo>
                      <a:pt x="398" y="1444"/>
                    </a:lnTo>
                    <a:lnTo>
                      <a:pt x="410" y="1440"/>
                    </a:lnTo>
                    <a:lnTo>
                      <a:pt x="422" y="1434"/>
                    </a:lnTo>
                    <a:lnTo>
                      <a:pt x="422" y="1434"/>
                    </a:lnTo>
                    <a:lnTo>
                      <a:pt x="428" y="1430"/>
                    </a:lnTo>
                    <a:lnTo>
                      <a:pt x="434" y="1430"/>
                    </a:lnTo>
                    <a:lnTo>
                      <a:pt x="442" y="1428"/>
                    </a:lnTo>
                    <a:lnTo>
                      <a:pt x="444" y="1424"/>
                    </a:lnTo>
                    <a:lnTo>
                      <a:pt x="448" y="1418"/>
                    </a:lnTo>
                    <a:lnTo>
                      <a:pt x="448" y="1418"/>
                    </a:lnTo>
                    <a:lnTo>
                      <a:pt x="458" y="1398"/>
                    </a:lnTo>
                    <a:lnTo>
                      <a:pt x="466" y="1370"/>
                    </a:lnTo>
                    <a:lnTo>
                      <a:pt x="474" y="1334"/>
                    </a:lnTo>
                    <a:lnTo>
                      <a:pt x="482" y="1288"/>
                    </a:lnTo>
                    <a:lnTo>
                      <a:pt x="488" y="1236"/>
                    </a:lnTo>
                    <a:lnTo>
                      <a:pt x="494" y="1174"/>
                    </a:lnTo>
                    <a:lnTo>
                      <a:pt x="498" y="1104"/>
                    </a:lnTo>
                    <a:lnTo>
                      <a:pt x="502" y="1022"/>
                    </a:lnTo>
                    <a:lnTo>
                      <a:pt x="502" y="1022"/>
                    </a:lnTo>
                    <a:lnTo>
                      <a:pt x="516" y="1030"/>
                    </a:lnTo>
                    <a:lnTo>
                      <a:pt x="532" y="1040"/>
                    </a:lnTo>
                    <a:lnTo>
                      <a:pt x="552" y="1050"/>
                    </a:lnTo>
                    <a:lnTo>
                      <a:pt x="576" y="1058"/>
                    </a:lnTo>
                    <a:lnTo>
                      <a:pt x="602" y="1062"/>
                    </a:lnTo>
                    <a:lnTo>
                      <a:pt x="616" y="1064"/>
                    </a:lnTo>
                    <a:lnTo>
                      <a:pt x="628" y="1064"/>
                    </a:lnTo>
                    <a:lnTo>
                      <a:pt x="642" y="1064"/>
                    </a:lnTo>
                    <a:lnTo>
                      <a:pt x="656" y="1060"/>
                    </a:lnTo>
                    <a:lnTo>
                      <a:pt x="668" y="1056"/>
                    </a:lnTo>
                    <a:lnTo>
                      <a:pt x="682" y="1050"/>
                    </a:lnTo>
                    <a:lnTo>
                      <a:pt x="682" y="1050"/>
                    </a:lnTo>
                    <a:lnTo>
                      <a:pt x="712" y="1034"/>
                    </a:lnTo>
                    <a:lnTo>
                      <a:pt x="742" y="1024"/>
                    </a:lnTo>
                    <a:lnTo>
                      <a:pt x="768" y="1016"/>
                    </a:lnTo>
                    <a:lnTo>
                      <a:pt x="790" y="1012"/>
                    </a:lnTo>
                    <a:lnTo>
                      <a:pt x="810" y="1008"/>
                    </a:lnTo>
                    <a:lnTo>
                      <a:pt x="824" y="1008"/>
                    </a:lnTo>
                    <a:lnTo>
                      <a:pt x="836" y="1008"/>
                    </a:lnTo>
                    <a:lnTo>
                      <a:pt x="836" y="1008"/>
                    </a:lnTo>
                    <a:lnTo>
                      <a:pt x="810" y="988"/>
                    </a:lnTo>
                    <a:lnTo>
                      <a:pt x="790" y="968"/>
                    </a:lnTo>
                    <a:lnTo>
                      <a:pt x="776" y="948"/>
                    </a:lnTo>
                    <a:lnTo>
                      <a:pt x="768" y="930"/>
                    </a:lnTo>
                    <a:lnTo>
                      <a:pt x="764" y="912"/>
                    </a:lnTo>
                    <a:lnTo>
                      <a:pt x="764" y="896"/>
                    </a:lnTo>
                    <a:lnTo>
                      <a:pt x="768" y="880"/>
                    </a:lnTo>
                    <a:lnTo>
                      <a:pt x="774" y="866"/>
                    </a:lnTo>
                    <a:lnTo>
                      <a:pt x="782" y="852"/>
                    </a:lnTo>
                    <a:lnTo>
                      <a:pt x="792" y="840"/>
                    </a:lnTo>
                    <a:lnTo>
                      <a:pt x="804" y="830"/>
                    </a:lnTo>
                    <a:lnTo>
                      <a:pt x="816" y="822"/>
                    </a:lnTo>
                    <a:lnTo>
                      <a:pt x="838" y="808"/>
                    </a:lnTo>
                    <a:lnTo>
                      <a:pt x="854" y="804"/>
                    </a:lnTo>
                    <a:lnTo>
                      <a:pt x="854" y="804"/>
                    </a:lnTo>
                    <a:lnTo>
                      <a:pt x="868" y="798"/>
                    </a:lnTo>
                    <a:lnTo>
                      <a:pt x="882" y="790"/>
                    </a:lnTo>
                    <a:lnTo>
                      <a:pt x="882" y="790"/>
                    </a:lnTo>
                    <a:lnTo>
                      <a:pt x="882" y="790"/>
                    </a:lnTo>
                    <a:lnTo>
                      <a:pt x="892" y="782"/>
                    </a:lnTo>
                    <a:lnTo>
                      <a:pt x="902" y="772"/>
                    </a:lnTo>
                    <a:lnTo>
                      <a:pt x="910" y="762"/>
                    </a:lnTo>
                    <a:lnTo>
                      <a:pt x="918" y="748"/>
                    </a:lnTo>
                    <a:lnTo>
                      <a:pt x="918" y="748"/>
                    </a:lnTo>
                    <a:lnTo>
                      <a:pt x="924" y="732"/>
                    </a:lnTo>
                    <a:lnTo>
                      <a:pt x="924" y="732"/>
                    </a:lnTo>
                    <a:close/>
                  </a:path>
                </a:pathLst>
              </a:custGeom>
              <a:solidFill>
                <a:srgbClr val="ed4600">
                  <a:alpha val="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20"/>
              <p:cNvSpPr/>
              <p:nvPr/>
            </p:nvSpPr>
            <p:spPr>
              <a:xfrm rot="7603800">
                <a:off x="7427520" y="5451480"/>
                <a:ext cx="795960" cy="1523520"/>
              </a:xfrm>
              <a:custGeom>
                <a:avLst/>
                <a:gdLst>
                  <a:gd name="textAreaLeft" fmla="*/ 0 w 795960"/>
                  <a:gd name="textAreaRight" fmla="*/ 796320 w 795960"/>
                  <a:gd name="textAreaTop" fmla="*/ 0 h 1523520"/>
                  <a:gd name="textAreaBottom" fmla="*/ 1523880 h 1523520"/>
                </a:gdLst>
                <a:ahLst/>
                <a:rect l="textAreaLeft" t="textAreaTop" r="textAreaRight" b="textAreaBottom"/>
                <a:pathLst>
                  <a:path w="898" h="1720">
                    <a:moveTo>
                      <a:pt x="898" y="476"/>
                    </a:moveTo>
                    <a:lnTo>
                      <a:pt x="898" y="476"/>
                    </a:lnTo>
                    <a:lnTo>
                      <a:pt x="872" y="492"/>
                    </a:lnTo>
                    <a:lnTo>
                      <a:pt x="846" y="504"/>
                    </a:lnTo>
                    <a:lnTo>
                      <a:pt x="824" y="512"/>
                    </a:lnTo>
                    <a:lnTo>
                      <a:pt x="802" y="518"/>
                    </a:lnTo>
                    <a:lnTo>
                      <a:pt x="782" y="520"/>
                    </a:lnTo>
                    <a:lnTo>
                      <a:pt x="764" y="522"/>
                    </a:lnTo>
                    <a:lnTo>
                      <a:pt x="746" y="520"/>
                    </a:lnTo>
                    <a:lnTo>
                      <a:pt x="730" y="514"/>
                    </a:lnTo>
                    <a:lnTo>
                      <a:pt x="716" y="508"/>
                    </a:lnTo>
                    <a:lnTo>
                      <a:pt x="702" y="500"/>
                    </a:lnTo>
                    <a:lnTo>
                      <a:pt x="690" y="490"/>
                    </a:lnTo>
                    <a:lnTo>
                      <a:pt x="680" y="480"/>
                    </a:lnTo>
                    <a:lnTo>
                      <a:pt x="670" y="466"/>
                    </a:lnTo>
                    <a:lnTo>
                      <a:pt x="660" y="452"/>
                    </a:lnTo>
                    <a:lnTo>
                      <a:pt x="646" y="422"/>
                    </a:lnTo>
                    <a:lnTo>
                      <a:pt x="634" y="390"/>
                    </a:lnTo>
                    <a:lnTo>
                      <a:pt x="626" y="358"/>
                    </a:lnTo>
                    <a:lnTo>
                      <a:pt x="620" y="326"/>
                    </a:lnTo>
                    <a:lnTo>
                      <a:pt x="616" y="296"/>
                    </a:lnTo>
                    <a:lnTo>
                      <a:pt x="612" y="250"/>
                    </a:lnTo>
                    <a:lnTo>
                      <a:pt x="612" y="232"/>
                    </a:lnTo>
                    <a:lnTo>
                      <a:pt x="612" y="232"/>
                    </a:lnTo>
                    <a:lnTo>
                      <a:pt x="598" y="228"/>
                    </a:lnTo>
                    <a:lnTo>
                      <a:pt x="584" y="222"/>
                    </a:lnTo>
                    <a:lnTo>
                      <a:pt x="570" y="210"/>
                    </a:lnTo>
                    <a:lnTo>
                      <a:pt x="556" y="198"/>
                    </a:lnTo>
                    <a:lnTo>
                      <a:pt x="540" y="184"/>
                    </a:lnTo>
                    <a:lnTo>
                      <a:pt x="526" y="168"/>
                    </a:lnTo>
                    <a:lnTo>
                      <a:pt x="498" y="132"/>
                    </a:lnTo>
                    <a:lnTo>
                      <a:pt x="474" y="96"/>
                    </a:lnTo>
                    <a:lnTo>
                      <a:pt x="452" y="62"/>
                    </a:lnTo>
                    <a:lnTo>
                      <a:pt x="424" y="14"/>
                    </a:lnTo>
                    <a:lnTo>
                      <a:pt x="424" y="14"/>
                    </a:lnTo>
                    <a:lnTo>
                      <a:pt x="422" y="0"/>
                    </a:lnTo>
                    <a:lnTo>
                      <a:pt x="422" y="0"/>
                    </a:lnTo>
                    <a:lnTo>
                      <a:pt x="406" y="34"/>
                    </a:lnTo>
                    <a:lnTo>
                      <a:pt x="390" y="70"/>
                    </a:lnTo>
                    <a:lnTo>
                      <a:pt x="368" y="114"/>
                    </a:lnTo>
                    <a:lnTo>
                      <a:pt x="342" y="156"/>
                    </a:lnTo>
                    <a:lnTo>
                      <a:pt x="328" y="178"/>
                    </a:lnTo>
                    <a:lnTo>
                      <a:pt x="314" y="196"/>
                    </a:lnTo>
                    <a:lnTo>
                      <a:pt x="300" y="214"/>
                    </a:lnTo>
                    <a:lnTo>
                      <a:pt x="286" y="228"/>
                    </a:lnTo>
                    <a:lnTo>
                      <a:pt x="270" y="238"/>
                    </a:lnTo>
                    <a:lnTo>
                      <a:pt x="256" y="244"/>
                    </a:lnTo>
                    <a:lnTo>
                      <a:pt x="256" y="244"/>
                    </a:lnTo>
                    <a:lnTo>
                      <a:pt x="258" y="262"/>
                    </a:lnTo>
                    <a:lnTo>
                      <a:pt x="260" y="308"/>
                    </a:lnTo>
                    <a:lnTo>
                      <a:pt x="260" y="338"/>
                    </a:lnTo>
                    <a:lnTo>
                      <a:pt x="256" y="370"/>
                    </a:lnTo>
                    <a:lnTo>
                      <a:pt x="252" y="404"/>
                    </a:lnTo>
                    <a:lnTo>
                      <a:pt x="244" y="438"/>
                    </a:lnTo>
                    <a:lnTo>
                      <a:pt x="234" y="468"/>
                    </a:lnTo>
                    <a:lnTo>
                      <a:pt x="226" y="484"/>
                    </a:lnTo>
                    <a:lnTo>
                      <a:pt x="218" y="496"/>
                    </a:lnTo>
                    <a:lnTo>
                      <a:pt x="208" y="510"/>
                    </a:lnTo>
                    <a:lnTo>
                      <a:pt x="198" y="520"/>
                    </a:lnTo>
                    <a:lnTo>
                      <a:pt x="184" y="530"/>
                    </a:lnTo>
                    <a:lnTo>
                      <a:pt x="172" y="538"/>
                    </a:lnTo>
                    <a:lnTo>
                      <a:pt x="156" y="544"/>
                    </a:lnTo>
                    <a:lnTo>
                      <a:pt x="140" y="548"/>
                    </a:lnTo>
                    <a:lnTo>
                      <a:pt x="120" y="550"/>
                    </a:lnTo>
                    <a:lnTo>
                      <a:pt x="100" y="550"/>
                    </a:lnTo>
                    <a:lnTo>
                      <a:pt x="78" y="546"/>
                    </a:lnTo>
                    <a:lnTo>
                      <a:pt x="54" y="540"/>
                    </a:lnTo>
                    <a:lnTo>
                      <a:pt x="28" y="530"/>
                    </a:lnTo>
                    <a:lnTo>
                      <a:pt x="0" y="518"/>
                    </a:lnTo>
                    <a:lnTo>
                      <a:pt x="0" y="518"/>
                    </a:lnTo>
                    <a:lnTo>
                      <a:pt x="18" y="542"/>
                    </a:lnTo>
                    <a:lnTo>
                      <a:pt x="60" y="602"/>
                    </a:lnTo>
                    <a:lnTo>
                      <a:pt x="88" y="640"/>
                    </a:lnTo>
                    <a:lnTo>
                      <a:pt x="116" y="682"/>
                    </a:lnTo>
                    <a:lnTo>
                      <a:pt x="142" y="728"/>
                    </a:lnTo>
                    <a:lnTo>
                      <a:pt x="166" y="772"/>
                    </a:lnTo>
                    <a:lnTo>
                      <a:pt x="186" y="816"/>
                    </a:lnTo>
                    <a:lnTo>
                      <a:pt x="194" y="836"/>
                    </a:lnTo>
                    <a:lnTo>
                      <a:pt x="200" y="856"/>
                    </a:lnTo>
                    <a:lnTo>
                      <a:pt x="204" y="874"/>
                    </a:lnTo>
                    <a:lnTo>
                      <a:pt x="206" y="892"/>
                    </a:lnTo>
                    <a:lnTo>
                      <a:pt x="204" y="906"/>
                    </a:lnTo>
                    <a:lnTo>
                      <a:pt x="202" y="920"/>
                    </a:lnTo>
                    <a:lnTo>
                      <a:pt x="194" y="930"/>
                    </a:lnTo>
                    <a:lnTo>
                      <a:pt x="186" y="940"/>
                    </a:lnTo>
                    <a:lnTo>
                      <a:pt x="172" y="946"/>
                    </a:lnTo>
                    <a:lnTo>
                      <a:pt x="156" y="948"/>
                    </a:lnTo>
                    <a:lnTo>
                      <a:pt x="136" y="948"/>
                    </a:lnTo>
                    <a:lnTo>
                      <a:pt x="112" y="946"/>
                    </a:lnTo>
                    <a:lnTo>
                      <a:pt x="82" y="940"/>
                    </a:lnTo>
                    <a:lnTo>
                      <a:pt x="50" y="928"/>
                    </a:lnTo>
                    <a:lnTo>
                      <a:pt x="50" y="928"/>
                    </a:lnTo>
                    <a:lnTo>
                      <a:pt x="48" y="932"/>
                    </a:lnTo>
                    <a:lnTo>
                      <a:pt x="46" y="938"/>
                    </a:lnTo>
                    <a:lnTo>
                      <a:pt x="44" y="948"/>
                    </a:lnTo>
                    <a:lnTo>
                      <a:pt x="48" y="964"/>
                    </a:lnTo>
                    <a:lnTo>
                      <a:pt x="52" y="972"/>
                    </a:lnTo>
                    <a:lnTo>
                      <a:pt x="56" y="982"/>
                    </a:lnTo>
                    <a:lnTo>
                      <a:pt x="64" y="994"/>
                    </a:lnTo>
                    <a:lnTo>
                      <a:pt x="74" y="1006"/>
                    </a:lnTo>
                    <a:lnTo>
                      <a:pt x="86" y="1018"/>
                    </a:lnTo>
                    <a:lnTo>
                      <a:pt x="102" y="1032"/>
                    </a:lnTo>
                    <a:lnTo>
                      <a:pt x="122" y="1046"/>
                    </a:lnTo>
                    <a:lnTo>
                      <a:pt x="144" y="1062"/>
                    </a:lnTo>
                    <a:lnTo>
                      <a:pt x="144" y="1062"/>
                    </a:lnTo>
                    <a:lnTo>
                      <a:pt x="192" y="1094"/>
                    </a:lnTo>
                    <a:lnTo>
                      <a:pt x="240" y="1130"/>
                    </a:lnTo>
                    <a:lnTo>
                      <a:pt x="290" y="1168"/>
                    </a:lnTo>
                    <a:lnTo>
                      <a:pt x="336" y="1208"/>
                    </a:lnTo>
                    <a:lnTo>
                      <a:pt x="380" y="1252"/>
                    </a:lnTo>
                    <a:lnTo>
                      <a:pt x="400" y="1274"/>
                    </a:lnTo>
                    <a:lnTo>
                      <a:pt x="418" y="1298"/>
                    </a:lnTo>
                    <a:lnTo>
                      <a:pt x="436" y="1320"/>
                    </a:lnTo>
                    <a:lnTo>
                      <a:pt x="450" y="1344"/>
                    </a:lnTo>
                    <a:lnTo>
                      <a:pt x="464" y="1370"/>
                    </a:lnTo>
                    <a:lnTo>
                      <a:pt x="474" y="1394"/>
                    </a:lnTo>
                    <a:lnTo>
                      <a:pt x="474" y="1394"/>
                    </a:lnTo>
                    <a:lnTo>
                      <a:pt x="474" y="1428"/>
                    </a:lnTo>
                    <a:lnTo>
                      <a:pt x="472" y="1470"/>
                    </a:lnTo>
                    <a:lnTo>
                      <a:pt x="468" y="1514"/>
                    </a:lnTo>
                    <a:lnTo>
                      <a:pt x="462" y="1558"/>
                    </a:lnTo>
                    <a:lnTo>
                      <a:pt x="452" y="1602"/>
                    </a:lnTo>
                    <a:lnTo>
                      <a:pt x="446" y="1622"/>
                    </a:lnTo>
                    <a:lnTo>
                      <a:pt x="438" y="1640"/>
                    </a:lnTo>
                    <a:lnTo>
                      <a:pt x="430" y="1658"/>
                    </a:lnTo>
                    <a:lnTo>
                      <a:pt x="422" y="1672"/>
                    </a:lnTo>
                    <a:lnTo>
                      <a:pt x="410" y="1686"/>
                    </a:lnTo>
                    <a:lnTo>
                      <a:pt x="398" y="1694"/>
                    </a:lnTo>
                    <a:lnTo>
                      <a:pt x="398" y="1694"/>
                    </a:lnTo>
                    <a:lnTo>
                      <a:pt x="396" y="1696"/>
                    </a:lnTo>
                    <a:lnTo>
                      <a:pt x="394" y="1700"/>
                    </a:lnTo>
                    <a:lnTo>
                      <a:pt x="394" y="1704"/>
                    </a:lnTo>
                    <a:lnTo>
                      <a:pt x="398" y="1710"/>
                    </a:lnTo>
                    <a:lnTo>
                      <a:pt x="398" y="1710"/>
                    </a:lnTo>
                    <a:lnTo>
                      <a:pt x="404" y="1714"/>
                    </a:lnTo>
                    <a:lnTo>
                      <a:pt x="416" y="1718"/>
                    </a:lnTo>
                    <a:lnTo>
                      <a:pt x="424" y="1720"/>
                    </a:lnTo>
                    <a:lnTo>
                      <a:pt x="434" y="1720"/>
                    </a:lnTo>
                    <a:lnTo>
                      <a:pt x="444" y="1718"/>
                    </a:lnTo>
                    <a:lnTo>
                      <a:pt x="456" y="1712"/>
                    </a:lnTo>
                    <a:lnTo>
                      <a:pt x="456" y="1712"/>
                    </a:lnTo>
                    <a:lnTo>
                      <a:pt x="460" y="1708"/>
                    </a:lnTo>
                    <a:lnTo>
                      <a:pt x="466" y="1708"/>
                    </a:lnTo>
                    <a:lnTo>
                      <a:pt x="472" y="1706"/>
                    </a:lnTo>
                    <a:lnTo>
                      <a:pt x="478" y="1698"/>
                    </a:lnTo>
                    <a:lnTo>
                      <a:pt x="478" y="1698"/>
                    </a:lnTo>
                    <a:lnTo>
                      <a:pt x="484" y="1684"/>
                    </a:lnTo>
                    <a:lnTo>
                      <a:pt x="492" y="1662"/>
                    </a:lnTo>
                    <a:lnTo>
                      <a:pt x="498" y="1638"/>
                    </a:lnTo>
                    <a:lnTo>
                      <a:pt x="502" y="1606"/>
                    </a:lnTo>
                    <a:lnTo>
                      <a:pt x="508" y="1570"/>
                    </a:lnTo>
                    <a:lnTo>
                      <a:pt x="512" y="1528"/>
                    </a:lnTo>
                    <a:lnTo>
                      <a:pt x="520" y="1426"/>
                    </a:lnTo>
                    <a:lnTo>
                      <a:pt x="520" y="1426"/>
                    </a:lnTo>
                    <a:lnTo>
                      <a:pt x="526" y="1398"/>
                    </a:lnTo>
                    <a:lnTo>
                      <a:pt x="536" y="1370"/>
                    </a:lnTo>
                    <a:lnTo>
                      <a:pt x="546" y="1344"/>
                    </a:lnTo>
                    <a:lnTo>
                      <a:pt x="560" y="1316"/>
                    </a:lnTo>
                    <a:lnTo>
                      <a:pt x="576" y="1290"/>
                    </a:lnTo>
                    <a:lnTo>
                      <a:pt x="594" y="1262"/>
                    </a:lnTo>
                    <a:lnTo>
                      <a:pt x="612" y="1236"/>
                    </a:lnTo>
                    <a:lnTo>
                      <a:pt x="632" y="1212"/>
                    </a:lnTo>
                    <a:lnTo>
                      <a:pt x="676" y="1162"/>
                    </a:lnTo>
                    <a:lnTo>
                      <a:pt x="724" y="1116"/>
                    </a:lnTo>
                    <a:lnTo>
                      <a:pt x="770" y="1072"/>
                    </a:lnTo>
                    <a:lnTo>
                      <a:pt x="816" y="1032"/>
                    </a:lnTo>
                    <a:lnTo>
                      <a:pt x="816" y="1032"/>
                    </a:lnTo>
                    <a:lnTo>
                      <a:pt x="838" y="1014"/>
                    </a:lnTo>
                    <a:lnTo>
                      <a:pt x="854" y="996"/>
                    </a:lnTo>
                    <a:lnTo>
                      <a:pt x="866" y="978"/>
                    </a:lnTo>
                    <a:lnTo>
                      <a:pt x="876" y="960"/>
                    </a:lnTo>
                    <a:lnTo>
                      <a:pt x="884" y="942"/>
                    </a:lnTo>
                    <a:lnTo>
                      <a:pt x="888" y="926"/>
                    </a:lnTo>
                    <a:lnTo>
                      <a:pt x="890" y="910"/>
                    </a:lnTo>
                    <a:lnTo>
                      <a:pt x="890" y="896"/>
                    </a:lnTo>
                    <a:lnTo>
                      <a:pt x="890" y="884"/>
                    </a:lnTo>
                    <a:lnTo>
                      <a:pt x="888" y="872"/>
                    </a:lnTo>
                    <a:lnTo>
                      <a:pt x="882" y="852"/>
                    </a:lnTo>
                    <a:lnTo>
                      <a:pt x="876" y="840"/>
                    </a:lnTo>
                    <a:lnTo>
                      <a:pt x="874" y="836"/>
                    </a:lnTo>
                    <a:lnTo>
                      <a:pt x="874" y="836"/>
                    </a:lnTo>
                    <a:lnTo>
                      <a:pt x="842" y="850"/>
                    </a:lnTo>
                    <a:lnTo>
                      <a:pt x="816" y="860"/>
                    </a:lnTo>
                    <a:lnTo>
                      <a:pt x="792" y="866"/>
                    </a:lnTo>
                    <a:lnTo>
                      <a:pt x="772" y="870"/>
                    </a:lnTo>
                    <a:lnTo>
                      <a:pt x="756" y="870"/>
                    </a:lnTo>
                    <a:lnTo>
                      <a:pt x="742" y="866"/>
                    </a:lnTo>
                    <a:lnTo>
                      <a:pt x="732" y="860"/>
                    </a:lnTo>
                    <a:lnTo>
                      <a:pt x="726" y="852"/>
                    </a:lnTo>
                    <a:lnTo>
                      <a:pt x="722" y="842"/>
                    </a:lnTo>
                    <a:lnTo>
                      <a:pt x="720" y="828"/>
                    </a:lnTo>
                    <a:lnTo>
                      <a:pt x="720" y="814"/>
                    </a:lnTo>
                    <a:lnTo>
                      <a:pt x="724" y="798"/>
                    </a:lnTo>
                    <a:lnTo>
                      <a:pt x="728" y="780"/>
                    </a:lnTo>
                    <a:lnTo>
                      <a:pt x="734" y="760"/>
                    </a:lnTo>
                    <a:lnTo>
                      <a:pt x="752" y="720"/>
                    </a:lnTo>
                    <a:lnTo>
                      <a:pt x="772" y="678"/>
                    </a:lnTo>
                    <a:lnTo>
                      <a:pt x="796" y="636"/>
                    </a:lnTo>
                    <a:lnTo>
                      <a:pt x="820" y="594"/>
                    </a:lnTo>
                    <a:lnTo>
                      <a:pt x="844" y="556"/>
                    </a:lnTo>
                    <a:lnTo>
                      <a:pt x="882" y="498"/>
                    </a:lnTo>
                    <a:lnTo>
                      <a:pt x="898" y="476"/>
                    </a:lnTo>
                    <a:lnTo>
                      <a:pt x="898" y="476"/>
                    </a:lnTo>
                    <a:close/>
                  </a:path>
                </a:pathLst>
              </a:custGeom>
              <a:solidFill>
                <a:srgbClr val="ed4600">
                  <a:alpha val="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6480" y="91440"/>
              <a:ext cx="9137520" cy="6766560"/>
              <a:chOff x="6480" y="91440"/>
              <a:chExt cx="9137520" cy="6766560"/>
            </a:xfrm>
          </p:grpSpPr>
          <p:sp>
            <p:nvSpPr>
              <p:cNvPr id="14" name="Freeform 12"/>
              <p:cNvSpPr/>
              <p:nvPr/>
            </p:nvSpPr>
            <p:spPr>
              <a:xfrm rot="19953600">
                <a:off x="7723800" y="3726000"/>
                <a:ext cx="933480" cy="972720"/>
              </a:xfrm>
              <a:custGeom>
                <a:avLst/>
                <a:gdLst>
                  <a:gd name="textAreaLeft" fmla="*/ 0 w 933480"/>
                  <a:gd name="textAreaRight" fmla="*/ 933840 w 933480"/>
                  <a:gd name="textAreaTop" fmla="*/ 0 h 972720"/>
                  <a:gd name="textAreaBottom" fmla="*/ 973080 h 972720"/>
                </a:gdLst>
                <a:ahLst/>
                <a:rect l="textAreaLeft" t="textAreaTop" r="textAreaRight" b="textAreaBottom"/>
                <a:pathLst>
                  <a:path w="1356" h="1412">
                    <a:moveTo>
                      <a:pt x="1306" y="704"/>
                    </a:moveTo>
                    <a:lnTo>
                      <a:pt x="1306" y="704"/>
                    </a:lnTo>
                    <a:lnTo>
                      <a:pt x="1272" y="698"/>
                    </a:lnTo>
                    <a:lnTo>
                      <a:pt x="1246" y="690"/>
                    </a:lnTo>
                    <a:lnTo>
                      <a:pt x="1236" y="684"/>
                    </a:lnTo>
                    <a:lnTo>
                      <a:pt x="1226" y="680"/>
                    </a:lnTo>
                    <a:lnTo>
                      <a:pt x="1218" y="674"/>
                    </a:lnTo>
                    <a:lnTo>
                      <a:pt x="1212" y="666"/>
                    </a:lnTo>
                    <a:lnTo>
                      <a:pt x="1208" y="660"/>
                    </a:lnTo>
                    <a:lnTo>
                      <a:pt x="1204" y="652"/>
                    </a:lnTo>
                    <a:lnTo>
                      <a:pt x="1200" y="638"/>
                    </a:lnTo>
                    <a:lnTo>
                      <a:pt x="1198" y="622"/>
                    </a:lnTo>
                    <a:lnTo>
                      <a:pt x="1202" y="606"/>
                    </a:lnTo>
                    <a:lnTo>
                      <a:pt x="1206" y="592"/>
                    </a:lnTo>
                    <a:lnTo>
                      <a:pt x="1214" y="576"/>
                    </a:lnTo>
                    <a:lnTo>
                      <a:pt x="1230" y="552"/>
                    </a:lnTo>
                    <a:lnTo>
                      <a:pt x="1242" y="534"/>
                    </a:lnTo>
                    <a:lnTo>
                      <a:pt x="1248" y="526"/>
                    </a:lnTo>
                    <a:lnTo>
                      <a:pt x="1248" y="526"/>
                    </a:lnTo>
                    <a:lnTo>
                      <a:pt x="1240" y="526"/>
                    </a:lnTo>
                    <a:lnTo>
                      <a:pt x="1234" y="524"/>
                    </a:lnTo>
                    <a:lnTo>
                      <a:pt x="1228" y="522"/>
                    </a:lnTo>
                    <a:lnTo>
                      <a:pt x="1224" y="518"/>
                    </a:lnTo>
                    <a:lnTo>
                      <a:pt x="1220" y="512"/>
                    </a:lnTo>
                    <a:lnTo>
                      <a:pt x="1218" y="506"/>
                    </a:lnTo>
                    <a:lnTo>
                      <a:pt x="1214" y="494"/>
                    </a:lnTo>
                    <a:lnTo>
                      <a:pt x="1214" y="478"/>
                    </a:lnTo>
                    <a:lnTo>
                      <a:pt x="1216" y="460"/>
                    </a:lnTo>
                    <a:lnTo>
                      <a:pt x="1218" y="440"/>
                    </a:lnTo>
                    <a:lnTo>
                      <a:pt x="1224" y="420"/>
                    </a:lnTo>
                    <a:lnTo>
                      <a:pt x="1236" y="380"/>
                    </a:lnTo>
                    <a:lnTo>
                      <a:pt x="1250" y="346"/>
                    </a:lnTo>
                    <a:lnTo>
                      <a:pt x="1266" y="312"/>
                    </a:lnTo>
                    <a:lnTo>
                      <a:pt x="1266" y="312"/>
                    </a:lnTo>
                    <a:lnTo>
                      <a:pt x="1238" y="340"/>
                    </a:lnTo>
                    <a:lnTo>
                      <a:pt x="1210" y="362"/>
                    </a:lnTo>
                    <a:lnTo>
                      <a:pt x="1184" y="380"/>
                    </a:lnTo>
                    <a:lnTo>
                      <a:pt x="1160" y="394"/>
                    </a:lnTo>
                    <a:lnTo>
                      <a:pt x="1138" y="404"/>
                    </a:lnTo>
                    <a:lnTo>
                      <a:pt x="1118" y="410"/>
                    </a:lnTo>
                    <a:lnTo>
                      <a:pt x="1098" y="414"/>
                    </a:lnTo>
                    <a:lnTo>
                      <a:pt x="1082" y="416"/>
                    </a:lnTo>
                    <a:lnTo>
                      <a:pt x="1066" y="416"/>
                    </a:lnTo>
                    <a:lnTo>
                      <a:pt x="1052" y="414"/>
                    </a:lnTo>
                    <a:lnTo>
                      <a:pt x="1030" y="410"/>
                    </a:lnTo>
                    <a:lnTo>
                      <a:pt x="1016" y="404"/>
                    </a:lnTo>
                    <a:lnTo>
                      <a:pt x="1012" y="402"/>
                    </a:lnTo>
                    <a:lnTo>
                      <a:pt x="1012" y="402"/>
                    </a:lnTo>
                    <a:lnTo>
                      <a:pt x="1006" y="414"/>
                    </a:lnTo>
                    <a:lnTo>
                      <a:pt x="996" y="430"/>
                    </a:lnTo>
                    <a:lnTo>
                      <a:pt x="964" y="468"/>
                    </a:lnTo>
                    <a:lnTo>
                      <a:pt x="928" y="506"/>
                    </a:lnTo>
                    <a:lnTo>
                      <a:pt x="902" y="532"/>
                    </a:lnTo>
                    <a:lnTo>
                      <a:pt x="902" y="532"/>
                    </a:lnTo>
                    <a:lnTo>
                      <a:pt x="894" y="538"/>
                    </a:lnTo>
                    <a:lnTo>
                      <a:pt x="888" y="540"/>
                    </a:lnTo>
                    <a:lnTo>
                      <a:pt x="886" y="538"/>
                    </a:lnTo>
                    <a:lnTo>
                      <a:pt x="884" y="532"/>
                    </a:lnTo>
                    <a:lnTo>
                      <a:pt x="882" y="522"/>
                    </a:lnTo>
                    <a:lnTo>
                      <a:pt x="882" y="516"/>
                    </a:lnTo>
                    <a:lnTo>
                      <a:pt x="882" y="516"/>
                    </a:lnTo>
                    <a:lnTo>
                      <a:pt x="890" y="502"/>
                    </a:lnTo>
                    <a:lnTo>
                      <a:pt x="898" y="486"/>
                    </a:lnTo>
                    <a:lnTo>
                      <a:pt x="910" y="448"/>
                    </a:lnTo>
                    <a:lnTo>
                      <a:pt x="920" y="404"/>
                    </a:lnTo>
                    <a:lnTo>
                      <a:pt x="928" y="360"/>
                    </a:lnTo>
                    <a:lnTo>
                      <a:pt x="938" y="282"/>
                    </a:lnTo>
                    <a:lnTo>
                      <a:pt x="942" y="250"/>
                    </a:lnTo>
                    <a:lnTo>
                      <a:pt x="942" y="250"/>
                    </a:lnTo>
                    <a:lnTo>
                      <a:pt x="904" y="278"/>
                    </a:lnTo>
                    <a:lnTo>
                      <a:pt x="874" y="298"/>
                    </a:lnTo>
                    <a:lnTo>
                      <a:pt x="850" y="310"/>
                    </a:lnTo>
                    <a:lnTo>
                      <a:pt x="840" y="312"/>
                    </a:lnTo>
                    <a:lnTo>
                      <a:pt x="830" y="314"/>
                    </a:lnTo>
                    <a:lnTo>
                      <a:pt x="822" y="314"/>
                    </a:lnTo>
                    <a:lnTo>
                      <a:pt x="816" y="312"/>
                    </a:lnTo>
                    <a:lnTo>
                      <a:pt x="810" y="310"/>
                    </a:lnTo>
                    <a:lnTo>
                      <a:pt x="804" y="306"/>
                    </a:lnTo>
                    <a:lnTo>
                      <a:pt x="800" y="300"/>
                    </a:lnTo>
                    <a:lnTo>
                      <a:pt x="796" y="294"/>
                    </a:lnTo>
                    <a:lnTo>
                      <a:pt x="792" y="280"/>
                    </a:lnTo>
                    <a:lnTo>
                      <a:pt x="790" y="264"/>
                    </a:lnTo>
                    <a:lnTo>
                      <a:pt x="790" y="246"/>
                    </a:lnTo>
                    <a:lnTo>
                      <a:pt x="792" y="212"/>
                    </a:lnTo>
                    <a:lnTo>
                      <a:pt x="798" y="186"/>
                    </a:lnTo>
                    <a:lnTo>
                      <a:pt x="800" y="176"/>
                    </a:lnTo>
                    <a:lnTo>
                      <a:pt x="800" y="176"/>
                    </a:lnTo>
                    <a:lnTo>
                      <a:pt x="792" y="184"/>
                    </a:lnTo>
                    <a:lnTo>
                      <a:pt x="782" y="190"/>
                    </a:lnTo>
                    <a:lnTo>
                      <a:pt x="774" y="194"/>
                    </a:lnTo>
                    <a:lnTo>
                      <a:pt x="766" y="198"/>
                    </a:lnTo>
                    <a:lnTo>
                      <a:pt x="758" y="198"/>
                    </a:lnTo>
                    <a:lnTo>
                      <a:pt x="750" y="196"/>
                    </a:lnTo>
                    <a:lnTo>
                      <a:pt x="744" y="194"/>
                    </a:lnTo>
                    <a:lnTo>
                      <a:pt x="738" y="190"/>
                    </a:lnTo>
                    <a:lnTo>
                      <a:pt x="726" y="180"/>
                    </a:lnTo>
                    <a:lnTo>
                      <a:pt x="716" y="164"/>
                    </a:lnTo>
                    <a:lnTo>
                      <a:pt x="708" y="146"/>
                    </a:lnTo>
                    <a:lnTo>
                      <a:pt x="700" y="126"/>
                    </a:lnTo>
                    <a:lnTo>
                      <a:pt x="694" y="104"/>
                    </a:lnTo>
                    <a:lnTo>
                      <a:pt x="690" y="82"/>
                    </a:lnTo>
                    <a:lnTo>
                      <a:pt x="684" y="42"/>
                    </a:lnTo>
                    <a:lnTo>
                      <a:pt x="678" y="0"/>
                    </a:lnTo>
                    <a:lnTo>
                      <a:pt x="678" y="0"/>
                    </a:lnTo>
                    <a:lnTo>
                      <a:pt x="678" y="8"/>
                    </a:lnTo>
                    <a:lnTo>
                      <a:pt x="678" y="8"/>
                    </a:lnTo>
                    <a:lnTo>
                      <a:pt x="678" y="0"/>
                    </a:lnTo>
                    <a:lnTo>
                      <a:pt x="678" y="0"/>
                    </a:lnTo>
                    <a:lnTo>
                      <a:pt x="672" y="42"/>
                    </a:lnTo>
                    <a:lnTo>
                      <a:pt x="666" y="82"/>
                    </a:lnTo>
                    <a:lnTo>
                      <a:pt x="662" y="104"/>
                    </a:lnTo>
                    <a:lnTo>
                      <a:pt x="656" y="126"/>
                    </a:lnTo>
                    <a:lnTo>
                      <a:pt x="648" y="146"/>
                    </a:lnTo>
                    <a:lnTo>
                      <a:pt x="640" y="164"/>
                    </a:lnTo>
                    <a:lnTo>
                      <a:pt x="630" y="180"/>
                    </a:lnTo>
                    <a:lnTo>
                      <a:pt x="618" y="190"/>
                    </a:lnTo>
                    <a:lnTo>
                      <a:pt x="612" y="194"/>
                    </a:lnTo>
                    <a:lnTo>
                      <a:pt x="606" y="196"/>
                    </a:lnTo>
                    <a:lnTo>
                      <a:pt x="598" y="198"/>
                    </a:lnTo>
                    <a:lnTo>
                      <a:pt x="590" y="198"/>
                    </a:lnTo>
                    <a:lnTo>
                      <a:pt x="582" y="194"/>
                    </a:lnTo>
                    <a:lnTo>
                      <a:pt x="574" y="190"/>
                    </a:lnTo>
                    <a:lnTo>
                      <a:pt x="564" y="184"/>
                    </a:lnTo>
                    <a:lnTo>
                      <a:pt x="556" y="176"/>
                    </a:lnTo>
                    <a:lnTo>
                      <a:pt x="556" y="176"/>
                    </a:lnTo>
                    <a:lnTo>
                      <a:pt x="558" y="186"/>
                    </a:lnTo>
                    <a:lnTo>
                      <a:pt x="564" y="212"/>
                    </a:lnTo>
                    <a:lnTo>
                      <a:pt x="566" y="246"/>
                    </a:lnTo>
                    <a:lnTo>
                      <a:pt x="566" y="264"/>
                    </a:lnTo>
                    <a:lnTo>
                      <a:pt x="564" y="280"/>
                    </a:lnTo>
                    <a:lnTo>
                      <a:pt x="560" y="294"/>
                    </a:lnTo>
                    <a:lnTo>
                      <a:pt x="556" y="300"/>
                    </a:lnTo>
                    <a:lnTo>
                      <a:pt x="552" y="306"/>
                    </a:lnTo>
                    <a:lnTo>
                      <a:pt x="546" y="310"/>
                    </a:lnTo>
                    <a:lnTo>
                      <a:pt x="540" y="312"/>
                    </a:lnTo>
                    <a:lnTo>
                      <a:pt x="534" y="314"/>
                    </a:lnTo>
                    <a:lnTo>
                      <a:pt x="526" y="314"/>
                    </a:lnTo>
                    <a:lnTo>
                      <a:pt x="516" y="312"/>
                    </a:lnTo>
                    <a:lnTo>
                      <a:pt x="506" y="310"/>
                    </a:lnTo>
                    <a:lnTo>
                      <a:pt x="482" y="298"/>
                    </a:lnTo>
                    <a:lnTo>
                      <a:pt x="452" y="278"/>
                    </a:lnTo>
                    <a:lnTo>
                      <a:pt x="414" y="250"/>
                    </a:lnTo>
                    <a:lnTo>
                      <a:pt x="414" y="250"/>
                    </a:lnTo>
                    <a:lnTo>
                      <a:pt x="418" y="282"/>
                    </a:lnTo>
                    <a:lnTo>
                      <a:pt x="428" y="360"/>
                    </a:lnTo>
                    <a:lnTo>
                      <a:pt x="436" y="404"/>
                    </a:lnTo>
                    <a:lnTo>
                      <a:pt x="446" y="448"/>
                    </a:lnTo>
                    <a:lnTo>
                      <a:pt x="458" y="486"/>
                    </a:lnTo>
                    <a:lnTo>
                      <a:pt x="466" y="502"/>
                    </a:lnTo>
                    <a:lnTo>
                      <a:pt x="474" y="516"/>
                    </a:lnTo>
                    <a:lnTo>
                      <a:pt x="474" y="516"/>
                    </a:lnTo>
                    <a:lnTo>
                      <a:pt x="474" y="522"/>
                    </a:lnTo>
                    <a:lnTo>
                      <a:pt x="472" y="532"/>
                    </a:lnTo>
                    <a:lnTo>
                      <a:pt x="470" y="538"/>
                    </a:lnTo>
                    <a:lnTo>
                      <a:pt x="468" y="540"/>
                    </a:lnTo>
                    <a:lnTo>
                      <a:pt x="462" y="538"/>
                    </a:lnTo>
                    <a:lnTo>
                      <a:pt x="454" y="532"/>
                    </a:lnTo>
                    <a:lnTo>
                      <a:pt x="454" y="532"/>
                    </a:lnTo>
                    <a:lnTo>
                      <a:pt x="428" y="506"/>
                    </a:lnTo>
                    <a:lnTo>
                      <a:pt x="392" y="468"/>
                    </a:lnTo>
                    <a:lnTo>
                      <a:pt x="360" y="430"/>
                    </a:lnTo>
                    <a:lnTo>
                      <a:pt x="350" y="414"/>
                    </a:lnTo>
                    <a:lnTo>
                      <a:pt x="344" y="402"/>
                    </a:lnTo>
                    <a:lnTo>
                      <a:pt x="344" y="402"/>
                    </a:lnTo>
                    <a:lnTo>
                      <a:pt x="340" y="404"/>
                    </a:lnTo>
                    <a:lnTo>
                      <a:pt x="326" y="410"/>
                    </a:lnTo>
                    <a:lnTo>
                      <a:pt x="304" y="414"/>
                    </a:lnTo>
                    <a:lnTo>
                      <a:pt x="290" y="416"/>
                    </a:lnTo>
                    <a:lnTo>
                      <a:pt x="274" y="416"/>
                    </a:lnTo>
                    <a:lnTo>
                      <a:pt x="258" y="414"/>
                    </a:lnTo>
                    <a:lnTo>
                      <a:pt x="238" y="410"/>
                    </a:lnTo>
                    <a:lnTo>
                      <a:pt x="218" y="404"/>
                    </a:lnTo>
                    <a:lnTo>
                      <a:pt x="196" y="394"/>
                    </a:lnTo>
                    <a:lnTo>
                      <a:pt x="172" y="380"/>
                    </a:lnTo>
                    <a:lnTo>
                      <a:pt x="146" y="362"/>
                    </a:lnTo>
                    <a:lnTo>
                      <a:pt x="118" y="340"/>
                    </a:lnTo>
                    <a:lnTo>
                      <a:pt x="90" y="312"/>
                    </a:lnTo>
                    <a:lnTo>
                      <a:pt x="90" y="312"/>
                    </a:lnTo>
                    <a:lnTo>
                      <a:pt x="106" y="346"/>
                    </a:lnTo>
                    <a:lnTo>
                      <a:pt x="120" y="380"/>
                    </a:lnTo>
                    <a:lnTo>
                      <a:pt x="132" y="420"/>
                    </a:lnTo>
                    <a:lnTo>
                      <a:pt x="138" y="440"/>
                    </a:lnTo>
                    <a:lnTo>
                      <a:pt x="140" y="460"/>
                    </a:lnTo>
                    <a:lnTo>
                      <a:pt x="142" y="478"/>
                    </a:lnTo>
                    <a:lnTo>
                      <a:pt x="142" y="494"/>
                    </a:lnTo>
                    <a:lnTo>
                      <a:pt x="138" y="506"/>
                    </a:lnTo>
                    <a:lnTo>
                      <a:pt x="136" y="512"/>
                    </a:lnTo>
                    <a:lnTo>
                      <a:pt x="132" y="518"/>
                    </a:lnTo>
                    <a:lnTo>
                      <a:pt x="128" y="522"/>
                    </a:lnTo>
                    <a:lnTo>
                      <a:pt x="122" y="524"/>
                    </a:lnTo>
                    <a:lnTo>
                      <a:pt x="116" y="526"/>
                    </a:lnTo>
                    <a:lnTo>
                      <a:pt x="108" y="526"/>
                    </a:lnTo>
                    <a:lnTo>
                      <a:pt x="108" y="526"/>
                    </a:lnTo>
                    <a:lnTo>
                      <a:pt x="114" y="534"/>
                    </a:lnTo>
                    <a:lnTo>
                      <a:pt x="126" y="552"/>
                    </a:lnTo>
                    <a:lnTo>
                      <a:pt x="142" y="576"/>
                    </a:lnTo>
                    <a:lnTo>
                      <a:pt x="150" y="592"/>
                    </a:lnTo>
                    <a:lnTo>
                      <a:pt x="154" y="606"/>
                    </a:lnTo>
                    <a:lnTo>
                      <a:pt x="158" y="622"/>
                    </a:lnTo>
                    <a:lnTo>
                      <a:pt x="156" y="638"/>
                    </a:lnTo>
                    <a:lnTo>
                      <a:pt x="152" y="652"/>
                    </a:lnTo>
                    <a:lnTo>
                      <a:pt x="148" y="660"/>
                    </a:lnTo>
                    <a:lnTo>
                      <a:pt x="144" y="666"/>
                    </a:lnTo>
                    <a:lnTo>
                      <a:pt x="138" y="674"/>
                    </a:lnTo>
                    <a:lnTo>
                      <a:pt x="130" y="680"/>
                    </a:lnTo>
                    <a:lnTo>
                      <a:pt x="120" y="684"/>
                    </a:lnTo>
                    <a:lnTo>
                      <a:pt x="110" y="690"/>
                    </a:lnTo>
                    <a:lnTo>
                      <a:pt x="84" y="698"/>
                    </a:lnTo>
                    <a:lnTo>
                      <a:pt x="50" y="704"/>
                    </a:lnTo>
                    <a:lnTo>
                      <a:pt x="50" y="704"/>
                    </a:lnTo>
                    <a:lnTo>
                      <a:pt x="70" y="712"/>
                    </a:lnTo>
                    <a:lnTo>
                      <a:pt x="116" y="734"/>
                    </a:lnTo>
                    <a:lnTo>
                      <a:pt x="146" y="748"/>
                    </a:lnTo>
                    <a:lnTo>
                      <a:pt x="174" y="766"/>
                    </a:lnTo>
                    <a:lnTo>
                      <a:pt x="202" y="784"/>
                    </a:lnTo>
                    <a:lnTo>
                      <a:pt x="224" y="804"/>
                    </a:lnTo>
                    <a:lnTo>
                      <a:pt x="234" y="814"/>
                    </a:lnTo>
                    <a:lnTo>
                      <a:pt x="242" y="824"/>
                    </a:lnTo>
                    <a:lnTo>
                      <a:pt x="246" y="836"/>
                    </a:lnTo>
                    <a:lnTo>
                      <a:pt x="250" y="846"/>
                    </a:lnTo>
                    <a:lnTo>
                      <a:pt x="250" y="856"/>
                    </a:lnTo>
                    <a:lnTo>
                      <a:pt x="248" y="868"/>
                    </a:lnTo>
                    <a:lnTo>
                      <a:pt x="242" y="878"/>
                    </a:lnTo>
                    <a:lnTo>
                      <a:pt x="232" y="888"/>
                    </a:lnTo>
                    <a:lnTo>
                      <a:pt x="220" y="900"/>
                    </a:lnTo>
                    <a:lnTo>
                      <a:pt x="202" y="910"/>
                    </a:lnTo>
                    <a:lnTo>
                      <a:pt x="182" y="920"/>
                    </a:lnTo>
                    <a:lnTo>
                      <a:pt x="156" y="930"/>
                    </a:lnTo>
                    <a:lnTo>
                      <a:pt x="124" y="938"/>
                    </a:lnTo>
                    <a:lnTo>
                      <a:pt x="88" y="948"/>
                    </a:lnTo>
                    <a:lnTo>
                      <a:pt x="48" y="956"/>
                    </a:lnTo>
                    <a:lnTo>
                      <a:pt x="0" y="964"/>
                    </a:lnTo>
                    <a:lnTo>
                      <a:pt x="0" y="964"/>
                    </a:lnTo>
                    <a:lnTo>
                      <a:pt x="30" y="966"/>
                    </a:lnTo>
                    <a:lnTo>
                      <a:pt x="62" y="972"/>
                    </a:lnTo>
                    <a:lnTo>
                      <a:pt x="102" y="980"/>
                    </a:lnTo>
                    <a:lnTo>
                      <a:pt x="148" y="992"/>
                    </a:lnTo>
                    <a:lnTo>
                      <a:pt x="198" y="1010"/>
                    </a:lnTo>
                    <a:lnTo>
                      <a:pt x="224" y="1020"/>
                    </a:lnTo>
                    <a:lnTo>
                      <a:pt x="250" y="1032"/>
                    </a:lnTo>
                    <a:lnTo>
                      <a:pt x="274" y="1046"/>
                    </a:lnTo>
                    <a:lnTo>
                      <a:pt x="298" y="1060"/>
                    </a:lnTo>
                    <a:lnTo>
                      <a:pt x="298" y="1060"/>
                    </a:lnTo>
                    <a:lnTo>
                      <a:pt x="330" y="1060"/>
                    </a:lnTo>
                    <a:lnTo>
                      <a:pt x="358" y="1064"/>
                    </a:lnTo>
                    <a:lnTo>
                      <a:pt x="374" y="1066"/>
                    </a:lnTo>
                    <a:lnTo>
                      <a:pt x="388" y="1070"/>
                    </a:lnTo>
                    <a:lnTo>
                      <a:pt x="402" y="1074"/>
                    </a:lnTo>
                    <a:lnTo>
                      <a:pt x="412" y="1082"/>
                    </a:lnTo>
                    <a:lnTo>
                      <a:pt x="420" y="1090"/>
                    </a:lnTo>
                    <a:lnTo>
                      <a:pt x="422" y="1094"/>
                    </a:lnTo>
                    <a:lnTo>
                      <a:pt x="422" y="1100"/>
                    </a:lnTo>
                    <a:lnTo>
                      <a:pt x="422" y="1106"/>
                    </a:lnTo>
                    <a:lnTo>
                      <a:pt x="422" y="1114"/>
                    </a:lnTo>
                    <a:lnTo>
                      <a:pt x="414" y="1128"/>
                    </a:lnTo>
                    <a:lnTo>
                      <a:pt x="402" y="1146"/>
                    </a:lnTo>
                    <a:lnTo>
                      <a:pt x="382" y="1168"/>
                    </a:lnTo>
                    <a:lnTo>
                      <a:pt x="382" y="1168"/>
                    </a:lnTo>
                    <a:lnTo>
                      <a:pt x="410" y="1160"/>
                    </a:lnTo>
                    <a:lnTo>
                      <a:pt x="442" y="1152"/>
                    </a:lnTo>
                    <a:lnTo>
                      <a:pt x="482" y="1140"/>
                    </a:lnTo>
                    <a:lnTo>
                      <a:pt x="526" y="1126"/>
                    </a:lnTo>
                    <a:lnTo>
                      <a:pt x="572" y="1108"/>
                    </a:lnTo>
                    <a:lnTo>
                      <a:pt x="616" y="1088"/>
                    </a:lnTo>
                    <a:lnTo>
                      <a:pt x="636" y="1076"/>
                    </a:lnTo>
                    <a:lnTo>
                      <a:pt x="654" y="1064"/>
                    </a:lnTo>
                    <a:lnTo>
                      <a:pt x="654" y="1064"/>
                    </a:lnTo>
                    <a:lnTo>
                      <a:pt x="654" y="1128"/>
                    </a:lnTo>
                    <a:lnTo>
                      <a:pt x="652" y="1174"/>
                    </a:lnTo>
                    <a:lnTo>
                      <a:pt x="646" y="1224"/>
                    </a:lnTo>
                    <a:lnTo>
                      <a:pt x="638" y="1274"/>
                    </a:lnTo>
                    <a:lnTo>
                      <a:pt x="632" y="1298"/>
                    </a:lnTo>
                    <a:lnTo>
                      <a:pt x="626" y="1322"/>
                    </a:lnTo>
                    <a:lnTo>
                      <a:pt x="616" y="1342"/>
                    </a:lnTo>
                    <a:lnTo>
                      <a:pt x="606" y="1360"/>
                    </a:lnTo>
                    <a:lnTo>
                      <a:pt x="594" y="1374"/>
                    </a:lnTo>
                    <a:lnTo>
                      <a:pt x="582" y="1386"/>
                    </a:lnTo>
                    <a:lnTo>
                      <a:pt x="582" y="1386"/>
                    </a:lnTo>
                    <a:lnTo>
                      <a:pt x="580" y="1388"/>
                    </a:lnTo>
                    <a:lnTo>
                      <a:pt x="576" y="1392"/>
                    </a:lnTo>
                    <a:lnTo>
                      <a:pt x="576" y="1396"/>
                    </a:lnTo>
                    <a:lnTo>
                      <a:pt x="582" y="1400"/>
                    </a:lnTo>
                    <a:lnTo>
                      <a:pt x="582" y="1400"/>
                    </a:lnTo>
                    <a:lnTo>
                      <a:pt x="586" y="1404"/>
                    </a:lnTo>
                    <a:lnTo>
                      <a:pt x="600" y="1410"/>
                    </a:lnTo>
                    <a:lnTo>
                      <a:pt x="608" y="1412"/>
                    </a:lnTo>
                    <a:lnTo>
                      <a:pt x="616" y="1410"/>
                    </a:lnTo>
                    <a:lnTo>
                      <a:pt x="626" y="1408"/>
                    </a:lnTo>
                    <a:lnTo>
                      <a:pt x="636" y="1402"/>
                    </a:lnTo>
                    <a:lnTo>
                      <a:pt x="636" y="1402"/>
                    </a:lnTo>
                    <a:lnTo>
                      <a:pt x="642" y="1400"/>
                    </a:lnTo>
                    <a:lnTo>
                      <a:pt x="646" y="1400"/>
                    </a:lnTo>
                    <a:lnTo>
                      <a:pt x="652" y="1396"/>
                    </a:lnTo>
                    <a:lnTo>
                      <a:pt x="658" y="1390"/>
                    </a:lnTo>
                    <a:lnTo>
                      <a:pt x="658" y="1390"/>
                    </a:lnTo>
                    <a:lnTo>
                      <a:pt x="666" y="1372"/>
                    </a:lnTo>
                    <a:lnTo>
                      <a:pt x="672" y="1350"/>
                    </a:lnTo>
                    <a:lnTo>
                      <a:pt x="678" y="1320"/>
                    </a:lnTo>
                    <a:lnTo>
                      <a:pt x="684" y="1284"/>
                    </a:lnTo>
                    <a:lnTo>
                      <a:pt x="690" y="1240"/>
                    </a:lnTo>
                    <a:lnTo>
                      <a:pt x="694" y="1190"/>
                    </a:lnTo>
                    <a:lnTo>
                      <a:pt x="702" y="1064"/>
                    </a:lnTo>
                    <a:lnTo>
                      <a:pt x="702" y="1064"/>
                    </a:lnTo>
                    <a:lnTo>
                      <a:pt x="722" y="1076"/>
                    </a:lnTo>
                    <a:lnTo>
                      <a:pt x="742" y="1088"/>
                    </a:lnTo>
                    <a:lnTo>
                      <a:pt x="786" y="1108"/>
                    </a:lnTo>
                    <a:lnTo>
                      <a:pt x="830" y="1126"/>
                    </a:lnTo>
                    <a:lnTo>
                      <a:pt x="874" y="1140"/>
                    </a:lnTo>
                    <a:lnTo>
                      <a:pt x="914" y="1152"/>
                    </a:lnTo>
                    <a:lnTo>
                      <a:pt x="946" y="1160"/>
                    </a:lnTo>
                    <a:lnTo>
                      <a:pt x="974" y="1168"/>
                    </a:lnTo>
                    <a:lnTo>
                      <a:pt x="974" y="1168"/>
                    </a:lnTo>
                    <a:lnTo>
                      <a:pt x="954" y="1146"/>
                    </a:lnTo>
                    <a:lnTo>
                      <a:pt x="942" y="1128"/>
                    </a:lnTo>
                    <a:lnTo>
                      <a:pt x="934" y="1114"/>
                    </a:lnTo>
                    <a:lnTo>
                      <a:pt x="934" y="1106"/>
                    </a:lnTo>
                    <a:lnTo>
                      <a:pt x="934" y="1100"/>
                    </a:lnTo>
                    <a:lnTo>
                      <a:pt x="934" y="1094"/>
                    </a:lnTo>
                    <a:lnTo>
                      <a:pt x="936" y="1090"/>
                    </a:lnTo>
                    <a:lnTo>
                      <a:pt x="944" y="1082"/>
                    </a:lnTo>
                    <a:lnTo>
                      <a:pt x="954" y="1074"/>
                    </a:lnTo>
                    <a:lnTo>
                      <a:pt x="968" y="1070"/>
                    </a:lnTo>
                    <a:lnTo>
                      <a:pt x="982" y="1066"/>
                    </a:lnTo>
                    <a:lnTo>
                      <a:pt x="998" y="1064"/>
                    </a:lnTo>
                    <a:lnTo>
                      <a:pt x="1026" y="1060"/>
                    </a:lnTo>
                    <a:lnTo>
                      <a:pt x="1058" y="1060"/>
                    </a:lnTo>
                    <a:lnTo>
                      <a:pt x="1058" y="1060"/>
                    </a:lnTo>
                    <a:lnTo>
                      <a:pt x="1082" y="1046"/>
                    </a:lnTo>
                    <a:lnTo>
                      <a:pt x="1106" y="1032"/>
                    </a:lnTo>
                    <a:lnTo>
                      <a:pt x="1132" y="1020"/>
                    </a:lnTo>
                    <a:lnTo>
                      <a:pt x="1158" y="1010"/>
                    </a:lnTo>
                    <a:lnTo>
                      <a:pt x="1208" y="992"/>
                    </a:lnTo>
                    <a:lnTo>
                      <a:pt x="1254" y="980"/>
                    </a:lnTo>
                    <a:lnTo>
                      <a:pt x="1294" y="972"/>
                    </a:lnTo>
                    <a:lnTo>
                      <a:pt x="1326" y="966"/>
                    </a:lnTo>
                    <a:lnTo>
                      <a:pt x="1356" y="964"/>
                    </a:lnTo>
                    <a:lnTo>
                      <a:pt x="1356" y="964"/>
                    </a:lnTo>
                    <a:lnTo>
                      <a:pt x="1308" y="956"/>
                    </a:lnTo>
                    <a:lnTo>
                      <a:pt x="1268" y="948"/>
                    </a:lnTo>
                    <a:lnTo>
                      <a:pt x="1232" y="938"/>
                    </a:lnTo>
                    <a:lnTo>
                      <a:pt x="1200" y="930"/>
                    </a:lnTo>
                    <a:lnTo>
                      <a:pt x="1174" y="920"/>
                    </a:lnTo>
                    <a:lnTo>
                      <a:pt x="1154" y="910"/>
                    </a:lnTo>
                    <a:lnTo>
                      <a:pt x="1136" y="900"/>
                    </a:lnTo>
                    <a:lnTo>
                      <a:pt x="1124" y="888"/>
                    </a:lnTo>
                    <a:lnTo>
                      <a:pt x="1114" y="878"/>
                    </a:lnTo>
                    <a:lnTo>
                      <a:pt x="1108" y="868"/>
                    </a:lnTo>
                    <a:lnTo>
                      <a:pt x="1106" y="856"/>
                    </a:lnTo>
                    <a:lnTo>
                      <a:pt x="1106" y="846"/>
                    </a:lnTo>
                    <a:lnTo>
                      <a:pt x="1108" y="836"/>
                    </a:lnTo>
                    <a:lnTo>
                      <a:pt x="1114" y="824"/>
                    </a:lnTo>
                    <a:lnTo>
                      <a:pt x="1122" y="814"/>
                    </a:lnTo>
                    <a:lnTo>
                      <a:pt x="1132" y="804"/>
                    </a:lnTo>
                    <a:lnTo>
                      <a:pt x="1154" y="784"/>
                    </a:lnTo>
                    <a:lnTo>
                      <a:pt x="1182" y="766"/>
                    </a:lnTo>
                    <a:lnTo>
                      <a:pt x="1210" y="748"/>
                    </a:lnTo>
                    <a:lnTo>
                      <a:pt x="1240" y="734"/>
                    </a:lnTo>
                    <a:lnTo>
                      <a:pt x="1286" y="712"/>
                    </a:lnTo>
                    <a:lnTo>
                      <a:pt x="1306" y="704"/>
                    </a:lnTo>
                    <a:lnTo>
                      <a:pt x="1306" y="704"/>
                    </a:lnTo>
                    <a:close/>
                  </a:path>
                </a:pathLst>
              </a:custGeom>
              <a:solidFill>
                <a:srgbClr val="ed4600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20"/>
              <p:cNvSpPr/>
              <p:nvPr/>
            </p:nvSpPr>
            <p:spPr>
              <a:xfrm rot="12860400">
                <a:off x="6913440" y="5192640"/>
                <a:ext cx="658080" cy="1261440"/>
              </a:xfrm>
              <a:custGeom>
                <a:avLst/>
                <a:gdLst/>
                <a:ahLst/>
                <a:rect l="l" t="t" r="r" b="b"/>
                <a:pathLst>
                  <a:path w="898" h="1720">
                    <a:moveTo>
                      <a:pt x="898" y="476"/>
                    </a:moveTo>
                    <a:lnTo>
                      <a:pt x="898" y="476"/>
                    </a:lnTo>
                    <a:lnTo>
                      <a:pt x="872" y="492"/>
                    </a:lnTo>
                    <a:lnTo>
                      <a:pt x="846" y="504"/>
                    </a:lnTo>
                    <a:lnTo>
                      <a:pt x="824" y="512"/>
                    </a:lnTo>
                    <a:lnTo>
                      <a:pt x="802" y="518"/>
                    </a:lnTo>
                    <a:lnTo>
                      <a:pt x="782" y="520"/>
                    </a:lnTo>
                    <a:lnTo>
                      <a:pt x="764" y="522"/>
                    </a:lnTo>
                    <a:lnTo>
                      <a:pt x="746" y="520"/>
                    </a:lnTo>
                    <a:lnTo>
                      <a:pt x="730" y="514"/>
                    </a:lnTo>
                    <a:lnTo>
                      <a:pt x="716" y="508"/>
                    </a:lnTo>
                    <a:lnTo>
                      <a:pt x="702" y="500"/>
                    </a:lnTo>
                    <a:lnTo>
                      <a:pt x="690" y="490"/>
                    </a:lnTo>
                    <a:lnTo>
                      <a:pt x="680" y="480"/>
                    </a:lnTo>
                    <a:lnTo>
                      <a:pt x="670" y="466"/>
                    </a:lnTo>
                    <a:lnTo>
                      <a:pt x="660" y="452"/>
                    </a:lnTo>
                    <a:lnTo>
                      <a:pt x="646" y="422"/>
                    </a:lnTo>
                    <a:lnTo>
                      <a:pt x="634" y="390"/>
                    </a:lnTo>
                    <a:lnTo>
                      <a:pt x="626" y="358"/>
                    </a:lnTo>
                    <a:lnTo>
                      <a:pt x="620" y="326"/>
                    </a:lnTo>
                    <a:lnTo>
                      <a:pt x="616" y="296"/>
                    </a:lnTo>
                    <a:lnTo>
                      <a:pt x="612" y="250"/>
                    </a:lnTo>
                    <a:lnTo>
                      <a:pt x="612" y="232"/>
                    </a:lnTo>
                    <a:lnTo>
                      <a:pt x="612" y="232"/>
                    </a:lnTo>
                    <a:lnTo>
                      <a:pt x="598" y="228"/>
                    </a:lnTo>
                    <a:lnTo>
                      <a:pt x="584" y="222"/>
                    </a:lnTo>
                    <a:lnTo>
                      <a:pt x="570" y="210"/>
                    </a:lnTo>
                    <a:lnTo>
                      <a:pt x="556" y="198"/>
                    </a:lnTo>
                    <a:lnTo>
                      <a:pt x="540" y="184"/>
                    </a:lnTo>
                    <a:lnTo>
                      <a:pt x="526" y="168"/>
                    </a:lnTo>
                    <a:lnTo>
                      <a:pt x="498" y="132"/>
                    </a:lnTo>
                    <a:lnTo>
                      <a:pt x="474" y="96"/>
                    </a:lnTo>
                    <a:lnTo>
                      <a:pt x="452" y="62"/>
                    </a:lnTo>
                    <a:lnTo>
                      <a:pt x="424" y="14"/>
                    </a:lnTo>
                    <a:lnTo>
                      <a:pt x="424" y="14"/>
                    </a:lnTo>
                    <a:lnTo>
                      <a:pt x="422" y="0"/>
                    </a:lnTo>
                    <a:lnTo>
                      <a:pt x="422" y="0"/>
                    </a:lnTo>
                    <a:lnTo>
                      <a:pt x="406" y="34"/>
                    </a:lnTo>
                    <a:lnTo>
                      <a:pt x="390" y="70"/>
                    </a:lnTo>
                    <a:lnTo>
                      <a:pt x="368" y="114"/>
                    </a:lnTo>
                    <a:lnTo>
                      <a:pt x="342" y="156"/>
                    </a:lnTo>
                    <a:lnTo>
                      <a:pt x="328" y="178"/>
                    </a:lnTo>
                    <a:lnTo>
                      <a:pt x="314" y="196"/>
                    </a:lnTo>
                    <a:lnTo>
                      <a:pt x="300" y="214"/>
                    </a:lnTo>
                    <a:lnTo>
                      <a:pt x="286" y="228"/>
                    </a:lnTo>
                    <a:lnTo>
                      <a:pt x="270" y="238"/>
                    </a:lnTo>
                    <a:lnTo>
                      <a:pt x="256" y="244"/>
                    </a:lnTo>
                    <a:lnTo>
                      <a:pt x="256" y="244"/>
                    </a:lnTo>
                    <a:lnTo>
                      <a:pt x="258" y="262"/>
                    </a:lnTo>
                    <a:lnTo>
                      <a:pt x="260" y="308"/>
                    </a:lnTo>
                    <a:lnTo>
                      <a:pt x="260" y="338"/>
                    </a:lnTo>
                    <a:lnTo>
                      <a:pt x="256" y="370"/>
                    </a:lnTo>
                    <a:lnTo>
                      <a:pt x="252" y="404"/>
                    </a:lnTo>
                    <a:lnTo>
                      <a:pt x="244" y="438"/>
                    </a:lnTo>
                    <a:lnTo>
                      <a:pt x="234" y="468"/>
                    </a:lnTo>
                    <a:lnTo>
                      <a:pt x="226" y="484"/>
                    </a:lnTo>
                    <a:lnTo>
                      <a:pt x="218" y="496"/>
                    </a:lnTo>
                    <a:lnTo>
                      <a:pt x="208" y="510"/>
                    </a:lnTo>
                    <a:lnTo>
                      <a:pt x="198" y="520"/>
                    </a:lnTo>
                    <a:lnTo>
                      <a:pt x="184" y="530"/>
                    </a:lnTo>
                    <a:lnTo>
                      <a:pt x="172" y="538"/>
                    </a:lnTo>
                    <a:lnTo>
                      <a:pt x="156" y="544"/>
                    </a:lnTo>
                    <a:lnTo>
                      <a:pt x="140" y="548"/>
                    </a:lnTo>
                    <a:lnTo>
                      <a:pt x="120" y="550"/>
                    </a:lnTo>
                    <a:lnTo>
                      <a:pt x="100" y="550"/>
                    </a:lnTo>
                    <a:lnTo>
                      <a:pt x="78" y="546"/>
                    </a:lnTo>
                    <a:lnTo>
                      <a:pt x="54" y="540"/>
                    </a:lnTo>
                    <a:lnTo>
                      <a:pt x="28" y="530"/>
                    </a:lnTo>
                    <a:lnTo>
                      <a:pt x="0" y="518"/>
                    </a:lnTo>
                    <a:lnTo>
                      <a:pt x="0" y="518"/>
                    </a:lnTo>
                    <a:lnTo>
                      <a:pt x="18" y="542"/>
                    </a:lnTo>
                    <a:lnTo>
                      <a:pt x="60" y="602"/>
                    </a:lnTo>
                    <a:lnTo>
                      <a:pt x="88" y="640"/>
                    </a:lnTo>
                    <a:lnTo>
                      <a:pt x="116" y="682"/>
                    </a:lnTo>
                    <a:lnTo>
                      <a:pt x="142" y="728"/>
                    </a:lnTo>
                    <a:lnTo>
                      <a:pt x="166" y="772"/>
                    </a:lnTo>
                    <a:lnTo>
                      <a:pt x="186" y="816"/>
                    </a:lnTo>
                    <a:lnTo>
                      <a:pt x="194" y="836"/>
                    </a:lnTo>
                    <a:lnTo>
                      <a:pt x="200" y="856"/>
                    </a:lnTo>
                    <a:lnTo>
                      <a:pt x="204" y="874"/>
                    </a:lnTo>
                    <a:lnTo>
                      <a:pt x="206" y="892"/>
                    </a:lnTo>
                    <a:lnTo>
                      <a:pt x="204" y="906"/>
                    </a:lnTo>
                    <a:lnTo>
                      <a:pt x="202" y="920"/>
                    </a:lnTo>
                    <a:lnTo>
                      <a:pt x="194" y="930"/>
                    </a:lnTo>
                    <a:lnTo>
                      <a:pt x="186" y="940"/>
                    </a:lnTo>
                    <a:lnTo>
                      <a:pt x="172" y="946"/>
                    </a:lnTo>
                    <a:lnTo>
                      <a:pt x="156" y="948"/>
                    </a:lnTo>
                    <a:lnTo>
                      <a:pt x="136" y="948"/>
                    </a:lnTo>
                    <a:lnTo>
                      <a:pt x="112" y="946"/>
                    </a:lnTo>
                    <a:lnTo>
                      <a:pt x="82" y="940"/>
                    </a:lnTo>
                    <a:lnTo>
                      <a:pt x="50" y="928"/>
                    </a:lnTo>
                    <a:lnTo>
                      <a:pt x="50" y="928"/>
                    </a:lnTo>
                    <a:lnTo>
                      <a:pt x="48" y="932"/>
                    </a:lnTo>
                    <a:lnTo>
                      <a:pt x="46" y="938"/>
                    </a:lnTo>
                    <a:lnTo>
                      <a:pt x="44" y="948"/>
                    </a:lnTo>
                    <a:lnTo>
                      <a:pt x="48" y="964"/>
                    </a:lnTo>
                    <a:lnTo>
                      <a:pt x="52" y="972"/>
                    </a:lnTo>
                    <a:lnTo>
                      <a:pt x="56" y="982"/>
                    </a:lnTo>
                    <a:lnTo>
                      <a:pt x="64" y="994"/>
                    </a:lnTo>
                    <a:lnTo>
                      <a:pt x="74" y="1006"/>
                    </a:lnTo>
                    <a:lnTo>
                      <a:pt x="86" y="1018"/>
                    </a:lnTo>
                    <a:lnTo>
                      <a:pt x="102" y="1032"/>
                    </a:lnTo>
                    <a:lnTo>
                      <a:pt x="122" y="1046"/>
                    </a:lnTo>
                    <a:lnTo>
                      <a:pt x="144" y="1062"/>
                    </a:lnTo>
                    <a:lnTo>
                      <a:pt x="144" y="1062"/>
                    </a:lnTo>
                    <a:lnTo>
                      <a:pt x="192" y="1094"/>
                    </a:lnTo>
                    <a:lnTo>
                      <a:pt x="240" y="1130"/>
                    </a:lnTo>
                    <a:lnTo>
                      <a:pt x="290" y="1168"/>
                    </a:lnTo>
                    <a:lnTo>
                      <a:pt x="336" y="1208"/>
                    </a:lnTo>
                    <a:lnTo>
                      <a:pt x="380" y="1252"/>
                    </a:lnTo>
                    <a:lnTo>
                      <a:pt x="400" y="1274"/>
                    </a:lnTo>
                    <a:lnTo>
                      <a:pt x="418" y="1298"/>
                    </a:lnTo>
                    <a:lnTo>
                      <a:pt x="436" y="1320"/>
                    </a:lnTo>
                    <a:lnTo>
                      <a:pt x="450" y="1344"/>
                    </a:lnTo>
                    <a:lnTo>
                      <a:pt x="464" y="1370"/>
                    </a:lnTo>
                    <a:lnTo>
                      <a:pt x="474" y="1394"/>
                    </a:lnTo>
                    <a:lnTo>
                      <a:pt x="474" y="1394"/>
                    </a:lnTo>
                    <a:lnTo>
                      <a:pt x="474" y="1428"/>
                    </a:lnTo>
                    <a:lnTo>
                      <a:pt x="472" y="1470"/>
                    </a:lnTo>
                    <a:lnTo>
                      <a:pt x="468" y="1514"/>
                    </a:lnTo>
                    <a:lnTo>
                      <a:pt x="462" y="1558"/>
                    </a:lnTo>
                    <a:lnTo>
                      <a:pt x="452" y="1602"/>
                    </a:lnTo>
                    <a:lnTo>
                      <a:pt x="446" y="1622"/>
                    </a:lnTo>
                    <a:lnTo>
                      <a:pt x="438" y="1640"/>
                    </a:lnTo>
                    <a:lnTo>
                      <a:pt x="430" y="1658"/>
                    </a:lnTo>
                    <a:lnTo>
                      <a:pt x="422" y="1672"/>
                    </a:lnTo>
                    <a:lnTo>
                      <a:pt x="410" y="1686"/>
                    </a:lnTo>
                    <a:lnTo>
                      <a:pt x="398" y="1694"/>
                    </a:lnTo>
                    <a:lnTo>
                      <a:pt x="398" y="1694"/>
                    </a:lnTo>
                    <a:lnTo>
                      <a:pt x="396" y="1696"/>
                    </a:lnTo>
                    <a:lnTo>
                      <a:pt x="394" y="1700"/>
                    </a:lnTo>
                    <a:lnTo>
                      <a:pt x="394" y="1704"/>
                    </a:lnTo>
                    <a:lnTo>
                      <a:pt x="398" y="1710"/>
                    </a:lnTo>
                    <a:lnTo>
                      <a:pt x="398" y="1710"/>
                    </a:lnTo>
                    <a:lnTo>
                      <a:pt x="404" y="1714"/>
                    </a:lnTo>
                    <a:lnTo>
                      <a:pt x="416" y="1718"/>
                    </a:lnTo>
                    <a:lnTo>
                      <a:pt x="424" y="1720"/>
                    </a:lnTo>
                    <a:lnTo>
                      <a:pt x="434" y="1720"/>
                    </a:lnTo>
                    <a:lnTo>
                      <a:pt x="444" y="1718"/>
                    </a:lnTo>
                    <a:lnTo>
                      <a:pt x="456" y="1712"/>
                    </a:lnTo>
                    <a:lnTo>
                      <a:pt x="456" y="1712"/>
                    </a:lnTo>
                    <a:lnTo>
                      <a:pt x="460" y="1708"/>
                    </a:lnTo>
                    <a:lnTo>
                      <a:pt x="466" y="1708"/>
                    </a:lnTo>
                    <a:lnTo>
                      <a:pt x="472" y="1706"/>
                    </a:lnTo>
                    <a:lnTo>
                      <a:pt x="478" y="1698"/>
                    </a:lnTo>
                    <a:lnTo>
                      <a:pt x="478" y="1698"/>
                    </a:lnTo>
                    <a:lnTo>
                      <a:pt x="484" y="1684"/>
                    </a:lnTo>
                    <a:lnTo>
                      <a:pt x="492" y="1662"/>
                    </a:lnTo>
                    <a:lnTo>
                      <a:pt x="498" y="1638"/>
                    </a:lnTo>
                    <a:lnTo>
                      <a:pt x="502" y="1606"/>
                    </a:lnTo>
                    <a:lnTo>
                      <a:pt x="508" y="1570"/>
                    </a:lnTo>
                    <a:lnTo>
                      <a:pt x="512" y="1528"/>
                    </a:lnTo>
                    <a:lnTo>
                      <a:pt x="520" y="1426"/>
                    </a:lnTo>
                    <a:lnTo>
                      <a:pt x="520" y="1426"/>
                    </a:lnTo>
                    <a:lnTo>
                      <a:pt x="526" y="1398"/>
                    </a:lnTo>
                    <a:lnTo>
                      <a:pt x="536" y="1370"/>
                    </a:lnTo>
                    <a:lnTo>
                      <a:pt x="546" y="1344"/>
                    </a:lnTo>
                    <a:lnTo>
                      <a:pt x="560" y="1316"/>
                    </a:lnTo>
                    <a:lnTo>
                      <a:pt x="576" y="1290"/>
                    </a:lnTo>
                    <a:lnTo>
                      <a:pt x="594" y="1262"/>
                    </a:lnTo>
                    <a:lnTo>
                      <a:pt x="612" y="1236"/>
                    </a:lnTo>
                    <a:lnTo>
                      <a:pt x="632" y="1212"/>
                    </a:lnTo>
                    <a:lnTo>
                      <a:pt x="676" y="1162"/>
                    </a:lnTo>
                    <a:lnTo>
                      <a:pt x="724" y="1116"/>
                    </a:lnTo>
                    <a:lnTo>
                      <a:pt x="770" y="1072"/>
                    </a:lnTo>
                    <a:lnTo>
                      <a:pt x="816" y="1032"/>
                    </a:lnTo>
                    <a:lnTo>
                      <a:pt x="816" y="1032"/>
                    </a:lnTo>
                    <a:lnTo>
                      <a:pt x="838" y="1014"/>
                    </a:lnTo>
                    <a:lnTo>
                      <a:pt x="854" y="996"/>
                    </a:lnTo>
                    <a:lnTo>
                      <a:pt x="866" y="978"/>
                    </a:lnTo>
                    <a:lnTo>
                      <a:pt x="876" y="960"/>
                    </a:lnTo>
                    <a:lnTo>
                      <a:pt x="884" y="942"/>
                    </a:lnTo>
                    <a:lnTo>
                      <a:pt x="888" y="926"/>
                    </a:lnTo>
                    <a:lnTo>
                      <a:pt x="890" y="910"/>
                    </a:lnTo>
                    <a:lnTo>
                      <a:pt x="890" y="896"/>
                    </a:lnTo>
                    <a:lnTo>
                      <a:pt x="890" y="884"/>
                    </a:lnTo>
                    <a:lnTo>
                      <a:pt x="888" y="872"/>
                    </a:lnTo>
                    <a:lnTo>
                      <a:pt x="882" y="852"/>
                    </a:lnTo>
                    <a:lnTo>
                      <a:pt x="876" y="840"/>
                    </a:lnTo>
                    <a:lnTo>
                      <a:pt x="874" y="836"/>
                    </a:lnTo>
                    <a:lnTo>
                      <a:pt x="874" y="836"/>
                    </a:lnTo>
                    <a:lnTo>
                      <a:pt x="842" y="850"/>
                    </a:lnTo>
                    <a:lnTo>
                      <a:pt x="816" y="860"/>
                    </a:lnTo>
                    <a:lnTo>
                      <a:pt x="792" y="866"/>
                    </a:lnTo>
                    <a:lnTo>
                      <a:pt x="772" y="870"/>
                    </a:lnTo>
                    <a:lnTo>
                      <a:pt x="756" y="870"/>
                    </a:lnTo>
                    <a:lnTo>
                      <a:pt x="742" y="866"/>
                    </a:lnTo>
                    <a:lnTo>
                      <a:pt x="732" y="860"/>
                    </a:lnTo>
                    <a:lnTo>
                      <a:pt x="726" y="852"/>
                    </a:lnTo>
                    <a:lnTo>
                      <a:pt x="722" y="842"/>
                    </a:lnTo>
                    <a:lnTo>
                      <a:pt x="720" y="828"/>
                    </a:lnTo>
                    <a:lnTo>
                      <a:pt x="720" y="814"/>
                    </a:lnTo>
                    <a:lnTo>
                      <a:pt x="724" y="798"/>
                    </a:lnTo>
                    <a:lnTo>
                      <a:pt x="728" y="780"/>
                    </a:lnTo>
                    <a:lnTo>
                      <a:pt x="734" y="760"/>
                    </a:lnTo>
                    <a:lnTo>
                      <a:pt x="752" y="720"/>
                    </a:lnTo>
                    <a:lnTo>
                      <a:pt x="772" y="678"/>
                    </a:lnTo>
                    <a:lnTo>
                      <a:pt x="796" y="636"/>
                    </a:lnTo>
                    <a:lnTo>
                      <a:pt x="820" y="594"/>
                    </a:lnTo>
                    <a:lnTo>
                      <a:pt x="844" y="556"/>
                    </a:lnTo>
                    <a:lnTo>
                      <a:pt x="882" y="498"/>
                    </a:lnTo>
                    <a:lnTo>
                      <a:pt x="898" y="476"/>
                    </a:lnTo>
                    <a:lnTo>
                      <a:pt x="898" y="476"/>
                    </a:lnTo>
                    <a:close/>
                  </a:path>
                </a:pathLst>
              </a:custGeom>
              <a:solidFill>
                <a:srgbClr val="ed4600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2"/>
              <p:cNvSpPr/>
              <p:nvPr/>
            </p:nvSpPr>
            <p:spPr>
              <a:xfrm rot="1885800">
                <a:off x="7261560" y="2458080"/>
                <a:ext cx="818640" cy="853200"/>
              </a:xfrm>
              <a:custGeom>
                <a:avLst/>
                <a:gdLst>
                  <a:gd name="textAreaLeft" fmla="*/ 0 w 818640"/>
                  <a:gd name="textAreaRight" fmla="*/ 819000 w 818640"/>
                  <a:gd name="textAreaTop" fmla="*/ 0 h 853200"/>
                  <a:gd name="textAreaBottom" fmla="*/ 853560 h 853200"/>
                </a:gdLst>
                <a:ahLst/>
                <a:rect l="textAreaLeft" t="textAreaTop" r="textAreaRight" b="textAreaBottom"/>
                <a:pathLst>
                  <a:path w="1356" h="1412">
                    <a:moveTo>
                      <a:pt x="1306" y="704"/>
                    </a:moveTo>
                    <a:lnTo>
                      <a:pt x="1306" y="704"/>
                    </a:lnTo>
                    <a:lnTo>
                      <a:pt x="1272" y="698"/>
                    </a:lnTo>
                    <a:lnTo>
                      <a:pt x="1246" y="690"/>
                    </a:lnTo>
                    <a:lnTo>
                      <a:pt x="1236" y="684"/>
                    </a:lnTo>
                    <a:lnTo>
                      <a:pt x="1226" y="680"/>
                    </a:lnTo>
                    <a:lnTo>
                      <a:pt x="1218" y="674"/>
                    </a:lnTo>
                    <a:lnTo>
                      <a:pt x="1212" y="666"/>
                    </a:lnTo>
                    <a:lnTo>
                      <a:pt x="1208" y="660"/>
                    </a:lnTo>
                    <a:lnTo>
                      <a:pt x="1204" y="652"/>
                    </a:lnTo>
                    <a:lnTo>
                      <a:pt x="1200" y="638"/>
                    </a:lnTo>
                    <a:lnTo>
                      <a:pt x="1198" y="622"/>
                    </a:lnTo>
                    <a:lnTo>
                      <a:pt x="1202" y="606"/>
                    </a:lnTo>
                    <a:lnTo>
                      <a:pt x="1206" y="592"/>
                    </a:lnTo>
                    <a:lnTo>
                      <a:pt x="1214" y="576"/>
                    </a:lnTo>
                    <a:lnTo>
                      <a:pt x="1230" y="552"/>
                    </a:lnTo>
                    <a:lnTo>
                      <a:pt x="1242" y="534"/>
                    </a:lnTo>
                    <a:lnTo>
                      <a:pt x="1248" y="526"/>
                    </a:lnTo>
                    <a:lnTo>
                      <a:pt x="1248" y="526"/>
                    </a:lnTo>
                    <a:lnTo>
                      <a:pt x="1240" y="526"/>
                    </a:lnTo>
                    <a:lnTo>
                      <a:pt x="1234" y="524"/>
                    </a:lnTo>
                    <a:lnTo>
                      <a:pt x="1228" y="522"/>
                    </a:lnTo>
                    <a:lnTo>
                      <a:pt x="1224" y="518"/>
                    </a:lnTo>
                    <a:lnTo>
                      <a:pt x="1220" y="512"/>
                    </a:lnTo>
                    <a:lnTo>
                      <a:pt x="1218" y="506"/>
                    </a:lnTo>
                    <a:lnTo>
                      <a:pt x="1214" y="494"/>
                    </a:lnTo>
                    <a:lnTo>
                      <a:pt x="1214" y="478"/>
                    </a:lnTo>
                    <a:lnTo>
                      <a:pt x="1216" y="460"/>
                    </a:lnTo>
                    <a:lnTo>
                      <a:pt x="1218" y="440"/>
                    </a:lnTo>
                    <a:lnTo>
                      <a:pt x="1224" y="420"/>
                    </a:lnTo>
                    <a:lnTo>
                      <a:pt x="1236" y="380"/>
                    </a:lnTo>
                    <a:lnTo>
                      <a:pt x="1250" y="346"/>
                    </a:lnTo>
                    <a:lnTo>
                      <a:pt x="1266" y="312"/>
                    </a:lnTo>
                    <a:lnTo>
                      <a:pt x="1266" y="312"/>
                    </a:lnTo>
                    <a:lnTo>
                      <a:pt x="1238" y="340"/>
                    </a:lnTo>
                    <a:lnTo>
                      <a:pt x="1210" y="362"/>
                    </a:lnTo>
                    <a:lnTo>
                      <a:pt x="1184" y="380"/>
                    </a:lnTo>
                    <a:lnTo>
                      <a:pt x="1160" y="394"/>
                    </a:lnTo>
                    <a:lnTo>
                      <a:pt x="1138" y="404"/>
                    </a:lnTo>
                    <a:lnTo>
                      <a:pt x="1118" y="410"/>
                    </a:lnTo>
                    <a:lnTo>
                      <a:pt x="1098" y="414"/>
                    </a:lnTo>
                    <a:lnTo>
                      <a:pt x="1082" y="416"/>
                    </a:lnTo>
                    <a:lnTo>
                      <a:pt x="1066" y="416"/>
                    </a:lnTo>
                    <a:lnTo>
                      <a:pt x="1052" y="414"/>
                    </a:lnTo>
                    <a:lnTo>
                      <a:pt x="1030" y="410"/>
                    </a:lnTo>
                    <a:lnTo>
                      <a:pt x="1016" y="404"/>
                    </a:lnTo>
                    <a:lnTo>
                      <a:pt x="1012" y="402"/>
                    </a:lnTo>
                    <a:lnTo>
                      <a:pt x="1012" y="402"/>
                    </a:lnTo>
                    <a:lnTo>
                      <a:pt x="1006" y="414"/>
                    </a:lnTo>
                    <a:lnTo>
                      <a:pt x="996" y="430"/>
                    </a:lnTo>
                    <a:lnTo>
                      <a:pt x="964" y="468"/>
                    </a:lnTo>
                    <a:lnTo>
                      <a:pt x="928" y="506"/>
                    </a:lnTo>
                    <a:lnTo>
                      <a:pt x="902" y="532"/>
                    </a:lnTo>
                    <a:lnTo>
                      <a:pt x="902" y="532"/>
                    </a:lnTo>
                    <a:lnTo>
                      <a:pt x="894" y="538"/>
                    </a:lnTo>
                    <a:lnTo>
                      <a:pt x="888" y="540"/>
                    </a:lnTo>
                    <a:lnTo>
                      <a:pt x="886" y="538"/>
                    </a:lnTo>
                    <a:lnTo>
                      <a:pt x="884" y="532"/>
                    </a:lnTo>
                    <a:lnTo>
                      <a:pt x="882" y="522"/>
                    </a:lnTo>
                    <a:lnTo>
                      <a:pt x="882" y="516"/>
                    </a:lnTo>
                    <a:lnTo>
                      <a:pt x="882" y="516"/>
                    </a:lnTo>
                    <a:lnTo>
                      <a:pt x="890" y="502"/>
                    </a:lnTo>
                    <a:lnTo>
                      <a:pt x="898" y="486"/>
                    </a:lnTo>
                    <a:lnTo>
                      <a:pt x="910" y="448"/>
                    </a:lnTo>
                    <a:lnTo>
                      <a:pt x="920" y="404"/>
                    </a:lnTo>
                    <a:lnTo>
                      <a:pt x="928" y="360"/>
                    </a:lnTo>
                    <a:lnTo>
                      <a:pt x="938" y="282"/>
                    </a:lnTo>
                    <a:lnTo>
                      <a:pt x="942" y="250"/>
                    </a:lnTo>
                    <a:lnTo>
                      <a:pt x="942" y="250"/>
                    </a:lnTo>
                    <a:lnTo>
                      <a:pt x="904" y="278"/>
                    </a:lnTo>
                    <a:lnTo>
                      <a:pt x="874" y="298"/>
                    </a:lnTo>
                    <a:lnTo>
                      <a:pt x="850" y="310"/>
                    </a:lnTo>
                    <a:lnTo>
                      <a:pt x="840" y="312"/>
                    </a:lnTo>
                    <a:lnTo>
                      <a:pt x="830" y="314"/>
                    </a:lnTo>
                    <a:lnTo>
                      <a:pt x="822" y="314"/>
                    </a:lnTo>
                    <a:lnTo>
                      <a:pt x="816" y="312"/>
                    </a:lnTo>
                    <a:lnTo>
                      <a:pt x="810" y="310"/>
                    </a:lnTo>
                    <a:lnTo>
                      <a:pt x="804" y="306"/>
                    </a:lnTo>
                    <a:lnTo>
                      <a:pt x="800" y="300"/>
                    </a:lnTo>
                    <a:lnTo>
                      <a:pt x="796" y="294"/>
                    </a:lnTo>
                    <a:lnTo>
                      <a:pt x="792" y="280"/>
                    </a:lnTo>
                    <a:lnTo>
                      <a:pt x="790" y="264"/>
                    </a:lnTo>
                    <a:lnTo>
                      <a:pt x="790" y="246"/>
                    </a:lnTo>
                    <a:lnTo>
                      <a:pt x="792" y="212"/>
                    </a:lnTo>
                    <a:lnTo>
                      <a:pt x="798" y="186"/>
                    </a:lnTo>
                    <a:lnTo>
                      <a:pt x="800" y="176"/>
                    </a:lnTo>
                    <a:lnTo>
                      <a:pt x="800" y="176"/>
                    </a:lnTo>
                    <a:lnTo>
                      <a:pt x="792" y="184"/>
                    </a:lnTo>
                    <a:lnTo>
                      <a:pt x="782" y="190"/>
                    </a:lnTo>
                    <a:lnTo>
                      <a:pt x="774" y="194"/>
                    </a:lnTo>
                    <a:lnTo>
                      <a:pt x="766" y="198"/>
                    </a:lnTo>
                    <a:lnTo>
                      <a:pt x="758" y="198"/>
                    </a:lnTo>
                    <a:lnTo>
                      <a:pt x="750" y="196"/>
                    </a:lnTo>
                    <a:lnTo>
                      <a:pt x="744" y="194"/>
                    </a:lnTo>
                    <a:lnTo>
                      <a:pt x="738" y="190"/>
                    </a:lnTo>
                    <a:lnTo>
                      <a:pt x="726" y="180"/>
                    </a:lnTo>
                    <a:lnTo>
                      <a:pt x="716" y="164"/>
                    </a:lnTo>
                    <a:lnTo>
                      <a:pt x="708" y="146"/>
                    </a:lnTo>
                    <a:lnTo>
                      <a:pt x="700" y="126"/>
                    </a:lnTo>
                    <a:lnTo>
                      <a:pt x="694" y="104"/>
                    </a:lnTo>
                    <a:lnTo>
                      <a:pt x="690" y="82"/>
                    </a:lnTo>
                    <a:lnTo>
                      <a:pt x="684" y="42"/>
                    </a:lnTo>
                    <a:lnTo>
                      <a:pt x="678" y="0"/>
                    </a:lnTo>
                    <a:lnTo>
                      <a:pt x="678" y="0"/>
                    </a:lnTo>
                    <a:lnTo>
                      <a:pt x="678" y="8"/>
                    </a:lnTo>
                    <a:lnTo>
                      <a:pt x="678" y="8"/>
                    </a:lnTo>
                    <a:lnTo>
                      <a:pt x="678" y="0"/>
                    </a:lnTo>
                    <a:lnTo>
                      <a:pt x="678" y="0"/>
                    </a:lnTo>
                    <a:lnTo>
                      <a:pt x="672" y="42"/>
                    </a:lnTo>
                    <a:lnTo>
                      <a:pt x="666" y="82"/>
                    </a:lnTo>
                    <a:lnTo>
                      <a:pt x="662" y="104"/>
                    </a:lnTo>
                    <a:lnTo>
                      <a:pt x="656" y="126"/>
                    </a:lnTo>
                    <a:lnTo>
                      <a:pt x="648" y="146"/>
                    </a:lnTo>
                    <a:lnTo>
                      <a:pt x="640" y="164"/>
                    </a:lnTo>
                    <a:lnTo>
                      <a:pt x="630" y="180"/>
                    </a:lnTo>
                    <a:lnTo>
                      <a:pt x="618" y="190"/>
                    </a:lnTo>
                    <a:lnTo>
                      <a:pt x="612" y="194"/>
                    </a:lnTo>
                    <a:lnTo>
                      <a:pt x="606" y="196"/>
                    </a:lnTo>
                    <a:lnTo>
                      <a:pt x="598" y="198"/>
                    </a:lnTo>
                    <a:lnTo>
                      <a:pt x="590" y="198"/>
                    </a:lnTo>
                    <a:lnTo>
                      <a:pt x="582" y="194"/>
                    </a:lnTo>
                    <a:lnTo>
                      <a:pt x="574" y="190"/>
                    </a:lnTo>
                    <a:lnTo>
                      <a:pt x="564" y="184"/>
                    </a:lnTo>
                    <a:lnTo>
                      <a:pt x="556" y="176"/>
                    </a:lnTo>
                    <a:lnTo>
                      <a:pt x="556" y="176"/>
                    </a:lnTo>
                    <a:lnTo>
                      <a:pt x="558" y="186"/>
                    </a:lnTo>
                    <a:lnTo>
                      <a:pt x="564" y="212"/>
                    </a:lnTo>
                    <a:lnTo>
                      <a:pt x="566" y="246"/>
                    </a:lnTo>
                    <a:lnTo>
                      <a:pt x="566" y="264"/>
                    </a:lnTo>
                    <a:lnTo>
                      <a:pt x="564" y="280"/>
                    </a:lnTo>
                    <a:lnTo>
                      <a:pt x="560" y="294"/>
                    </a:lnTo>
                    <a:lnTo>
                      <a:pt x="556" y="300"/>
                    </a:lnTo>
                    <a:lnTo>
                      <a:pt x="552" y="306"/>
                    </a:lnTo>
                    <a:lnTo>
                      <a:pt x="546" y="310"/>
                    </a:lnTo>
                    <a:lnTo>
                      <a:pt x="540" y="312"/>
                    </a:lnTo>
                    <a:lnTo>
                      <a:pt x="534" y="314"/>
                    </a:lnTo>
                    <a:lnTo>
                      <a:pt x="526" y="314"/>
                    </a:lnTo>
                    <a:lnTo>
                      <a:pt x="516" y="312"/>
                    </a:lnTo>
                    <a:lnTo>
                      <a:pt x="506" y="310"/>
                    </a:lnTo>
                    <a:lnTo>
                      <a:pt x="482" y="298"/>
                    </a:lnTo>
                    <a:lnTo>
                      <a:pt x="452" y="278"/>
                    </a:lnTo>
                    <a:lnTo>
                      <a:pt x="414" y="250"/>
                    </a:lnTo>
                    <a:lnTo>
                      <a:pt x="414" y="250"/>
                    </a:lnTo>
                    <a:lnTo>
                      <a:pt x="418" y="282"/>
                    </a:lnTo>
                    <a:lnTo>
                      <a:pt x="428" y="360"/>
                    </a:lnTo>
                    <a:lnTo>
                      <a:pt x="436" y="404"/>
                    </a:lnTo>
                    <a:lnTo>
                      <a:pt x="446" y="448"/>
                    </a:lnTo>
                    <a:lnTo>
                      <a:pt x="458" y="486"/>
                    </a:lnTo>
                    <a:lnTo>
                      <a:pt x="466" y="502"/>
                    </a:lnTo>
                    <a:lnTo>
                      <a:pt x="474" y="516"/>
                    </a:lnTo>
                    <a:lnTo>
                      <a:pt x="474" y="516"/>
                    </a:lnTo>
                    <a:lnTo>
                      <a:pt x="474" y="522"/>
                    </a:lnTo>
                    <a:lnTo>
                      <a:pt x="472" y="532"/>
                    </a:lnTo>
                    <a:lnTo>
                      <a:pt x="470" y="538"/>
                    </a:lnTo>
                    <a:lnTo>
                      <a:pt x="468" y="540"/>
                    </a:lnTo>
                    <a:lnTo>
                      <a:pt x="462" y="538"/>
                    </a:lnTo>
                    <a:lnTo>
                      <a:pt x="454" y="532"/>
                    </a:lnTo>
                    <a:lnTo>
                      <a:pt x="454" y="532"/>
                    </a:lnTo>
                    <a:lnTo>
                      <a:pt x="428" y="506"/>
                    </a:lnTo>
                    <a:lnTo>
                      <a:pt x="392" y="468"/>
                    </a:lnTo>
                    <a:lnTo>
                      <a:pt x="360" y="430"/>
                    </a:lnTo>
                    <a:lnTo>
                      <a:pt x="350" y="414"/>
                    </a:lnTo>
                    <a:lnTo>
                      <a:pt x="344" y="402"/>
                    </a:lnTo>
                    <a:lnTo>
                      <a:pt x="344" y="402"/>
                    </a:lnTo>
                    <a:lnTo>
                      <a:pt x="340" y="404"/>
                    </a:lnTo>
                    <a:lnTo>
                      <a:pt x="326" y="410"/>
                    </a:lnTo>
                    <a:lnTo>
                      <a:pt x="304" y="414"/>
                    </a:lnTo>
                    <a:lnTo>
                      <a:pt x="290" y="416"/>
                    </a:lnTo>
                    <a:lnTo>
                      <a:pt x="274" y="416"/>
                    </a:lnTo>
                    <a:lnTo>
                      <a:pt x="258" y="414"/>
                    </a:lnTo>
                    <a:lnTo>
                      <a:pt x="238" y="410"/>
                    </a:lnTo>
                    <a:lnTo>
                      <a:pt x="218" y="404"/>
                    </a:lnTo>
                    <a:lnTo>
                      <a:pt x="196" y="394"/>
                    </a:lnTo>
                    <a:lnTo>
                      <a:pt x="172" y="380"/>
                    </a:lnTo>
                    <a:lnTo>
                      <a:pt x="146" y="362"/>
                    </a:lnTo>
                    <a:lnTo>
                      <a:pt x="118" y="340"/>
                    </a:lnTo>
                    <a:lnTo>
                      <a:pt x="90" y="312"/>
                    </a:lnTo>
                    <a:lnTo>
                      <a:pt x="90" y="312"/>
                    </a:lnTo>
                    <a:lnTo>
                      <a:pt x="106" y="346"/>
                    </a:lnTo>
                    <a:lnTo>
                      <a:pt x="120" y="380"/>
                    </a:lnTo>
                    <a:lnTo>
                      <a:pt x="132" y="420"/>
                    </a:lnTo>
                    <a:lnTo>
                      <a:pt x="138" y="440"/>
                    </a:lnTo>
                    <a:lnTo>
                      <a:pt x="140" y="460"/>
                    </a:lnTo>
                    <a:lnTo>
                      <a:pt x="142" y="478"/>
                    </a:lnTo>
                    <a:lnTo>
                      <a:pt x="142" y="494"/>
                    </a:lnTo>
                    <a:lnTo>
                      <a:pt x="138" y="506"/>
                    </a:lnTo>
                    <a:lnTo>
                      <a:pt x="136" y="512"/>
                    </a:lnTo>
                    <a:lnTo>
                      <a:pt x="132" y="518"/>
                    </a:lnTo>
                    <a:lnTo>
                      <a:pt x="128" y="522"/>
                    </a:lnTo>
                    <a:lnTo>
                      <a:pt x="122" y="524"/>
                    </a:lnTo>
                    <a:lnTo>
                      <a:pt x="116" y="526"/>
                    </a:lnTo>
                    <a:lnTo>
                      <a:pt x="108" y="526"/>
                    </a:lnTo>
                    <a:lnTo>
                      <a:pt x="108" y="526"/>
                    </a:lnTo>
                    <a:lnTo>
                      <a:pt x="114" y="534"/>
                    </a:lnTo>
                    <a:lnTo>
                      <a:pt x="126" y="552"/>
                    </a:lnTo>
                    <a:lnTo>
                      <a:pt x="142" y="576"/>
                    </a:lnTo>
                    <a:lnTo>
                      <a:pt x="150" y="592"/>
                    </a:lnTo>
                    <a:lnTo>
                      <a:pt x="154" y="606"/>
                    </a:lnTo>
                    <a:lnTo>
                      <a:pt x="158" y="622"/>
                    </a:lnTo>
                    <a:lnTo>
                      <a:pt x="156" y="638"/>
                    </a:lnTo>
                    <a:lnTo>
                      <a:pt x="152" y="652"/>
                    </a:lnTo>
                    <a:lnTo>
                      <a:pt x="148" y="660"/>
                    </a:lnTo>
                    <a:lnTo>
                      <a:pt x="144" y="666"/>
                    </a:lnTo>
                    <a:lnTo>
                      <a:pt x="138" y="674"/>
                    </a:lnTo>
                    <a:lnTo>
                      <a:pt x="130" y="680"/>
                    </a:lnTo>
                    <a:lnTo>
                      <a:pt x="120" y="684"/>
                    </a:lnTo>
                    <a:lnTo>
                      <a:pt x="110" y="690"/>
                    </a:lnTo>
                    <a:lnTo>
                      <a:pt x="84" y="698"/>
                    </a:lnTo>
                    <a:lnTo>
                      <a:pt x="50" y="704"/>
                    </a:lnTo>
                    <a:lnTo>
                      <a:pt x="50" y="704"/>
                    </a:lnTo>
                    <a:lnTo>
                      <a:pt x="70" y="712"/>
                    </a:lnTo>
                    <a:lnTo>
                      <a:pt x="116" y="734"/>
                    </a:lnTo>
                    <a:lnTo>
                      <a:pt x="146" y="748"/>
                    </a:lnTo>
                    <a:lnTo>
                      <a:pt x="174" y="766"/>
                    </a:lnTo>
                    <a:lnTo>
                      <a:pt x="202" y="784"/>
                    </a:lnTo>
                    <a:lnTo>
                      <a:pt x="224" y="804"/>
                    </a:lnTo>
                    <a:lnTo>
                      <a:pt x="234" y="814"/>
                    </a:lnTo>
                    <a:lnTo>
                      <a:pt x="242" y="824"/>
                    </a:lnTo>
                    <a:lnTo>
                      <a:pt x="246" y="836"/>
                    </a:lnTo>
                    <a:lnTo>
                      <a:pt x="250" y="846"/>
                    </a:lnTo>
                    <a:lnTo>
                      <a:pt x="250" y="856"/>
                    </a:lnTo>
                    <a:lnTo>
                      <a:pt x="248" y="868"/>
                    </a:lnTo>
                    <a:lnTo>
                      <a:pt x="242" y="878"/>
                    </a:lnTo>
                    <a:lnTo>
                      <a:pt x="232" y="888"/>
                    </a:lnTo>
                    <a:lnTo>
                      <a:pt x="220" y="900"/>
                    </a:lnTo>
                    <a:lnTo>
                      <a:pt x="202" y="910"/>
                    </a:lnTo>
                    <a:lnTo>
                      <a:pt x="182" y="920"/>
                    </a:lnTo>
                    <a:lnTo>
                      <a:pt x="156" y="930"/>
                    </a:lnTo>
                    <a:lnTo>
                      <a:pt x="124" y="938"/>
                    </a:lnTo>
                    <a:lnTo>
                      <a:pt x="88" y="948"/>
                    </a:lnTo>
                    <a:lnTo>
                      <a:pt x="48" y="956"/>
                    </a:lnTo>
                    <a:lnTo>
                      <a:pt x="0" y="964"/>
                    </a:lnTo>
                    <a:lnTo>
                      <a:pt x="0" y="964"/>
                    </a:lnTo>
                    <a:lnTo>
                      <a:pt x="30" y="966"/>
                    </a:lnTo>
                    <a:lnTo>
                      <a:pt x="62" y="972"/>
                    </a:lnTo>
                    <a:lnTo>
                      <a:pt x="102" y="980"/>
                    </a:lnTo>
                    <a:lnTo>
                      <a:pt x="148" y="992"/>
                    </a:lnTo>
                    <a:lnTo>
                      <a:pt x="198" y="1010"/>
                    </a:lnTo>
                    <a:lnTo>
                      <a:pt x="224" y="1020"/>
                    </a:lnTo>
                    <a:lnTo>
                      <a:pt x="250" y="1032"/>
                    </a:lnTo>
                    <a:lnTo>
                      <a:pt x="274" y="1046"/>
                    </a:lnTo>
                    <a:lnTo>
                      <a:pt x="298" y="1060"/>
                    </a:lnTo>
                    <a:lnTo>
                      <a:pt x="298" y="1060"/>
                    </a:lnTo>
                    <a:lnTo>
                      <a:pt x="330" y="1060"/>
                    </a:lnTo>
                    <a:lnTo>
                      <a:pt x="358" y="1064"/>
                    </a:lnTo>
                    <a:lnTo>
                      <a:pt x="374" y="1066"/>
                    </a:lnTo>
                    <a:lnTo>
                      <a:pt x="388" y="1070"/>
                    </a:lnTo>
                    <a:lnTo>
                      <a:pt x="402" y="1074"/>
                    </a:lnTo>
                    <a:lnTo>
                      <a:pt x="412" y="1082"/>
                    </a:lnTo>
                    <a:lnTo>
                      <a:pt x="420" y="1090"/>
                    </a:lnTo>
                    <a:lnTo>
                      <a:pt x="422" y="1094"/>
                    </a:lnTo>
                    <a:lnTo>
                      <a:pt x="422" y="1100"/>
                    </a:lnTo>
                    <a:lnTo>
                      <a:pt x="422" y="1106"/>
                    </a:lnTo>
                    <a:lnTo>
                      <a:pt x="422" y="1114"/>
                    </a:lnTo>
                    <a:lnTo>
                      <a:pt x="414" y="1128"/>
                    </a:lnTo>
                    <a:lnTo>
                      <a:pt x="402" y="1146"/>
                    </a:lnTo>
                    <a:lnTo>
                      <a:pt x="382" y="1168"/>
                    </a:lnTo>
                    <a:lnTo>
                      <a:pt x="382" y="1168"/>
                    </a:lnTo>
                    <a:lnTo>
                      <a:pt x="410" y="1160"/>
                    </a:lnTo>
                    <a:lnTo>
                      <a:pt x="442" y="1152"/>
                    </a:lnTo>
                    <a:lnTo>
                      <a:pt x="482" y="1140"/>
                    </a:lnTo>
                    <a:lnTo>
                      <a:pt x="526" y="1126"/>
                    </a:lnTo>
                    <a:lnTo>
                      <a:pt x="572" y="1108"/>
                    </a:lnTo>
                    <a:lnTo>
                      <a:pt x="616" y="1088"/>
                    </a:lnTo>
                    <a:lnTo>
                      <a:pt x="636" y="1076"/>
                    </a:lnTo>
                    <a:lnTo>
                      <a:pt x="654" y="1064"/>
                    </a:lnTo>
                    <a:lnTo>
                      <a:pt x="654" y="1064"/>
                    </a:lnTo>
                    <a:lnTo>
                      <a:pt x="654" y="1128"/>
                    </a:lnTo>
                    <a:lnTo>
                      <a:pt x="652" y="1174"/>
                    </a:lnTo>
                    <a:lnTo>
                      <a:pt x="646" y="1224"/>
                    </a:lnTo>
                    <a:lnTo>
                      <a:pt x="638" y="1274"/>
                    </a:lnTo>
                    <a:lnTo>
                      <a:pt x="632" y="1298"/>
                    </a:lnTo>
                    <a:lnTo>
                      <a:pt x="626" y="1322"/>
                    </a:lnTo>
                    <a:lnTo>
                      <a:pt x="616" y="1342"/>
                    </a:lnTo>
                    <a:lnTo>
                      <a:pt x="606" y="1360"/>
                    </a:lnTo>
                    <a:lnTo>
                      <a:pt x="594" y="1374"/>
                    </a:lnTo>
                    <a:lnTo>
                      <a:pt x="582" y="1386"/>
                    </a:lnTo>
                    <a:lnTo>
                      <a:pt x="582" y="1386"/>
                    </a:lnTo>
                    <a:lnTo>
                      <a:pt x="580" y="1388"/>
                    </a:lnTo>
                    <a:lnTo>
                      <a:pt x="576" y="1392"/>
                    </a:lnTo>
                    <a:lnTo>
                      <a:pt x="576" y="1396"/>
                    </a:lnTo>
                    <a:lnTo>
                      <a:pt x="582" y="1400"/>
                    </a:lnTo>
                    <a:lnTo>
                      <a:pt x="582" y="1400"/>
                    </a:lnTo>
                    <a:lnTo>
                      <a:pt x="586" y="1404"/>
                    </a:lnTo>
                    <a:lnTo>
                      <a:pt x="600" y="1410"/>
                    </a:lnTo>
                    <a:lnTo>
                      <a:pt x="608" y="1412"/>
                    </a:lnTo>
                    <a:lnTo>
                      <a:pt x="616" y="1410"/>
                    </a:lnTo>
                    <a:lnTo>
                      <a:pt x="626" y="1408"/>
                    </a:lnTo>
                    <a:lnTo>
                      <a:pt x="636" y="1402"/>
                    </a:lnTo>
                    <a:lnTo>
                      <a:pt x="636" y="1402"/>
                    </a:lnTo>
                    <a:lnTo>
                      <a:pt x="642" y="1400"/>
                    </a:lnTo>
                    <a:lnTo>
                      <a:pt x="646" y="1400"/>
                    </a:lnTo>
                    <a:lnTo>
                      <a:pt x="652" y="1396"/>
                    </a:lnTo>
                    <a:lnTo>
                      <a:pt x="658" y="1390"/>
                    </a:lnTo>
                    <a:lnTo>
                      <a:pt x="658" y="1390"/>
                    </a:lnTo>
                    <a:lnTo>
                      <a:pt x="666" y="1372"/>
                    </a:lnTo>
                    <a:lnTo>
                      <a:pt x="672" y="1350"/>
                    </a:lnTo>
                    <a:lnTo>
                      <a:pt x="678" y="1320"/>
                    </a:lnTo>
                    <a:lnTo>
                      <a:pt x="684" y="1284"/>
                    </a:lnTo>
                    <a:lnTo>
                      <a:pt x="690" y="1240"/>
                    </a:lnTo>
                    <a:lnTo>
                      <a:pt x="694" y="1190"/>
                    </a:lnTo>
                    <a:lnTo>
                      <a:pt x="702" y="1064"/>
                    </a:lnTo>
                    <a:lnTo>
                      <a:pt x="702" y="1064"/>
                    </a:lnTo>
                    <a:lnTo>
                      <a:pt x="722" y="1076"/>
                    </a:lnTo>
                    <a:lnTo>
                      <a:pt x="742" y="1088"/>
                    </a:lnTo>
                    <a:lnTo>
                      <a:pt x="786" y="1108"/>
                    </a:lnTo>
                    <a:lnTo>
                      <a:pt x="830" y="1126"/>
                    </a:lnTo>
                    <a:lnTo>
                      <a:pt x="874" y="1140"/>
                    </a:lnTo>
                    <a:lnTo>
                      <a:pt x="914" y="1152"/>
                    </a:lnTo>
                    <a:lnTo>
                      <a:pt x="946" y="1160"/>
                    </a:lnTo>
                    <a:lnTo>
                      <a:pt x="974" y="1168"/>
                    </a:lnTo>
                    <a:lnTo>
                      <a:pt x="974" y="1168"/>
                    </a:lnTo>
                    <a:lnTo>
                      <a:pt x="954" y="1146"/>
                    </a:lnTo>
                    <a:lnTo>
                      <a:pt x="942" y="1128"/>
                    </a:lnTo>
                    <a:lnTo>
                      <a:pt x="934" y="1114"/>
                    </a:lnTo>
                    <a:lnTo>
                      <a:pt x="934" y="1106"/>
                    </a:lnTo>
                    <a:lnTo>
                      <a:pt x="934" y="1100"/>
                    </a:lnTo>
                    <a:lnTo>
                      <a:pt x="934" y="1094"/>
                    </a:lnTo>
                    <a:lnTo>
                      <a:pt x="936" y="1090"/>
                    </a:lnTo>
                    <a:lnTo>
                      <a:pt x="944" y="1082"/>
                    </a:lnTo>
                    <a:lnTo>
                      <a:pt x="954" y="1074"/>
                    </a:lnTo>
                    <a:lnTo>
                      <a:pt x="968" y="1070"/>
                    </a:lnTo>
                    <a:lnTo>
                      <a:pt x="982" y="1066"/>
                    </a:lnTo>
                    <a:lnTo>
                      <a:pt x="998" y="1064"/>
                    </a:lnTo>
                    <a:lnTo>
                      <a:pt x="1026" y="1060"/>
                    </a:lnTo>
                    <a:lnTo>
                      <a:pt x="1058" y="1060"/>
                    </a:lnTo>
                    <a:lnTo>
                      <a:pt x="1058" y="1060"/>
                    </a:lnTo>
                    <a:lnTo>
                      <a:pt x="1082" y="1046"/>
                    </a:lnTo>
                    <a:lnTo>
                      <a:pt x="1106" y="1032"/>
                    </a:lnTo>
                    <a:lnTo>
                      <a:pt x="1132" y="1020"/>
                    </a:lnTo>
                    <a:lnTo>
                      <a:pt x="1158" y="1010"/>
                    </a:lnTo>
                    <a:lnTo>
                      <a:pt x="1208" y="992"/>
                    </a:lnTo>
                    <a:lnTo>
                      <a:pt x="1254" y="980"/>
                    </a:lnTo>
                    <a:lnTo>
                      <a:pt x="1294" y="972"/>
                    </a:lnTo>
                    <a:lnTo>
                      <a:pt x="1326" y="966"/>
                    </a:lnTo>
                    <a:lnTo>
                      <a:pt x="1356" y="964"/>
                    </a:lnTo>
                    <a:lnTo>
                      <a:pt x="1356" y="964"/>
                    </a:lnTo>
                    <a:lnTo>
                      <a:pt x="1308" y="956"/>
                    </a:lnTo>
                    <a:lnTo>
                      <a:pt x="1268" y="948"/>
                    </a:lnTo>
                    <a:lnTo>
                      <a:pt x="1232" y="938"/>
                    </a:lnTo>
                    <a:lnTo>
                      <a:pt x="1200" y="930"/>
                    </a:lnTo>
                    <a:lnTo>
                      <a:pt x="1174" y="920"/>
                    </a:lnTo>
                    <a:lnTo>
                      <a:pt x="1154" y="910"/>
                    </a:lnTo>
                    <a:lnTo>
                      <a:pt x="1136" y="900"/>
                    </a:lnTo>
                    <a:lnTo>
                      <a:pt x="1124" y="888"/>
                    </a:lnTo>
                    <a:lnTo>
                      <a:pt x="1114" y="878"/>
                    </a:lnTo>
                    <a:lnTo>
                      <a:pt x="1108" y="868"/>
                    </a:lnTo>
                    <a:lnTo>
                      <a:pt x="1106" y="856"/>
                    </a:lnTo>
                    <a:lnTo>
                      <a:pt x="1106" y="846"/>
                    </a:lnTo>
                    <a:lnTo>
                      <a:pt x="1108" y="836"/>
                    </a:lnTo>
                    <a:lnTo>
                      <a:pt x="1114" y="824"/>
                    </a:lnTo>
                    <a:lnTo>
                      <a:pt x="1122" y="814"/>
                    </a:lnTo>
                    <a:lnTo>
                      <a:pt x="1132" y="804"/>
                    </a:lnTo>
                    <a:lnTo>
                      <a:pt x="1154" y="784"/>
                    </a:lnTo>
                    <a:lnTo>
                      <a:pt x="1182" y="766"/>
                    </a:lnTo>
                    <a:lnTo>
                      <a:pt x="1210" y="748"/>
                    </a:lnTo>
                    <a:lnTo>
                      <a:pt x="1240" y="734"/>
                    </a:lnTo>
                    <a:lnTo>
                      <a:pt x="1286" y="712"/>
                    </a:lnTo>
                    <a:lnTo>
                      <a:pt x="1306" y="704"/>
                    </a:lnTo>
                    <a:lnTo>
                      <a:pt x="1306" y="704"/>
                    </a:lnTo>
                    <a:close/>
                  </a:path>
                </a:pathLst>
              </a:custGeom>
              <a:solidFill>
                <a:srgbClr val="ed4600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6"/>
              <p:cNvSpPr/>
              <p:nvPr/>
            </p:nvSpPr>
            <p:spPr>
              <a:xfrm rot="19458000">
                <a:off x="8146080" y="189360"/>
                <a:ext cx="643680" cy="985680"/>
              </a:xfrm>
              <a:custGeom>
                <a:avLst/>
                <a:gdLst>
                  <a:gd name="textAreaLeft" fmla="*/ 0 w 643680"/>
                  <a:gd name="textAreaRight" fmla="*/ 644040 w 643680"/>
                  <a:gd name="textAreaTop" fmla="*/ 0 h 985680"/>
                  <a:gd name="textAreaBottom" fmla="*/ 986040 h 985680"/>
                </a:gdLst>
                <a:ahLst/>
                <a:rect l="textAreaLeft" t="textAreaTop" r="textAreaRight" b="textAreaBottom"/>
                <a:pathLst>
                  <a:path w="944" h="1444">
                    <a:moveTo>
                      <a:pt x="924" y="732"/>
                    </a:moveTo>
                    <a:lnTo>
                      <a:pt x="924" y="732"/>
                    </a:lnTo>
                    <a:lnTo>
                      <a:pt x="932" y="706"/>
                    </a:lnTo>
                    <a:lnTo>
                      <a:pt x="938" y="678"/>
                    </a:lnTo>
                    <a:lnTo>
                      <a:pt x="942" y="650"/>
                    </a:lnTo>
                    <a:lnTo>
                      <a:pt x="944" y="622"/>
                    </a:lnTo>
                    <a:lnTo>
                      <a:pt x="942" y="598"/>
                    </a:lnTo>
                    <a:lnTo>
                      <a:pt x="938" y="578"/>
                    </a:lnTo>
                    <a:lnTo>
                      <a:pt x="934" y="570"/>
                    </a:lnTo>
                    <a:lnTo>
                      <a:pt x="932" y="564"/>
                    </a:lnTo>
                    <a:lnTo>
                      <a:pt x="926" y="558"/>
                    </a:lnTo>
                    <a:lnTo>
                      <a:pt x="922" y="556"/>
                    </a:lnTo>
                    <a:lnTo>
                      <a:pt x="922" y="556"/>
                    </a:lnTo>
                    <a:lnTo>
                      <a:pt x="916" y="554"/>
                    </a:lnTo>
                    <a:lnTo>
                      <a:pt x="906" y="552"/>
                    </a:lnTo>
                    <a:lnTo>
                      <a:pt x="886" y="554"/>
                    </a:lnTo>
                    <a:lnTo>
                      <a:pt x="862" y="558"/>
                    </a:lnTo>
                    <a:lnTo>
                      <a:pt x="838" y="566"/>
                    </a:lnTo>
                    <a:lnTo>
                      <a:pt x="788" y="582"/>
                    </a:lnTo>
                    <a:lnTo>
                      <a:pt x="752" y="596"/>
                    </a:lnTo>
                    <a:lnTo>
                      <a:pt x="752" y="596"/>
                    </a:lnTo>
                    <a:lnTo>
                      <a:pt x="750" y="596"/>
                    </a:lnTo>
                    <a:lnTo>
                      <a:pt x="750" y="596"/>
                    </a:lnTo>
                    <a:lnTo>
                      <a:pt x="726" y="608"/>
                    </a:lnTo>
                    <a:lnTo>
                      <a:pt x="706" y="618"/>
                    </a:lnTo>
                    <a:lnTo>
                      <a:pt x="692" y="630"/>
                    </a:lnTo>
                    <a:lnTo>
                      <a:pt x="678" y="638"/>
                    </a:lnTo>
                    <a:lnTo>
                      <a:pt x="662" y="654"/>
                    </a:lnTo>
                    <a:lnTo>
                      <a:pt x="658" y="658"/>
                    </a:lnTo>
                    <a:lnTo>
                      <a:pt x="654" y="660"/>
                    </a:lnTo>
                    <a:lnTo>
                      <a:pt x="654" y="660"/>
                    </a:lnTo>
                    <a:lnTo>
                      <a:pt x="650" y="660"/>
                    </a:lnTo>
                    <a:lnTo>
                      <a:pt x="648" y="658"/>
                    </a:lnTo>
                    <a:lnTo>
                      <a:pt x="650" y="654"/>
                    </a:lnTo>
                    <a:lnTo>
                      <a:pt x="650" y="654"/>
                    </a:lnTo>
                    <a:lnTo>
                      <a:pt x="660" y="638"/>
                    </a:lnTo>
                    <a:lnTo>
                      <a:pt x="724" y="548"/>
                    </a:lnTo>
                    <a:lnTo>
                      <a:pt x="724" y="548"/>
                    </a:lnTo>
                    <a:lnTo>
                      <a:pt x="736" y="528"/>
                    </a:lnTo>
                    <a:lnTo>
                      <a:pt x="744" y="506"/>
                    </a:lnTo>
                    <a:lnTo>
                      <a:pt x="748" y="484"/>
                    </a:lnTo>
                    <a:lnTo>
                      <a:pt x="750" y="462"/>
                    </a:lnTo>
                    <a:lnTo>
                      <a:pt x="750" y="438"/>
                    </a:lnTo>
                    <a:lnTo>
                      <a:pt x="748" y="414"/>
                    </a:lnTo>
                    <a:lnTo>
                      <a:pt x="744" y="390"/>
                    </a:lnTo>
                    <a:lnTo>
                      <a:pt x="740" y="368"/>
                    </a:lnTo>
                    <a:lnTo>
                      <a:pt x="728" y="328"/>
                    </a:lnTo>
                    <a:lnTo>
                      <a:pt x="716" y="294"/>
                    </a:lnTo>
                    <a:lnTo>
                      <a:pt x="702" y="264"/>
                    </a:lnTo>
                    <a:lnTo>
                      <a:pt x="702" y="264"/>
                    </a:lnTo>
                    <a:lnTo>
                      <a:pt x="680" y="260"/>
                    </a:lnTo>
                    <a:lnTo>
                      <a:pt x="660" y="254"/>
                    </a:lnTo>
                    <a:lnTo>
                      <a:pt x="642" y="248"/>
                    </a:lnTo>
                    <a:lnTo>
                      <a:pt x="624" y="240"/>
                    </a:lnTo>
                    <a:lnTo>
                      <a:pt x="594" y="224"/>
                    </a:lnTo>
                    <a:lnTo>
                      <a:pt x="566" y="204"/>
                    </a:lnTo>
                    <a:lnTo>
                      <a:pt x="544" y="184"/>
                    </a:lnTo>
                    <a:lnTo>
                      <a:pt x="526" y="162"/>
                    </a:lnTo>
                    <a:lnTo>
                      <a:pt x="510" y="138"/>
                    </a:lnTo>
                    <a:lnTo>
                      <a:pt x="498" y="116"/>
                    </a:lnTo>
                    <a:lnTo>
                      <a:pt x="490" y="92"/>
                    </a:lnTo>
                    <a:lnTo>
                      <a:pt x="482" y="72"/>
                    </a:lnTo>
                    <a:lnTo>
                      <a:pt x="478" y="52"/>
                    </a:lnTo>
                    <a:lnTo>
                      <a:pt x="474" y="34"/>
                    </a:lnTo>
                    <a:lnTo>
                      <a:pt x="472" y="8"/>
                    </a:lnTo>
                    <a:lnTo>
                      <a:pt x="472" y="0"/>
                    </a:lnTo>
                    <a:lnTo>
                      <a:pt x="472" y="2"/>
                    </a:lnTo>
                    <a:lnTo>
                      <a:pt x="472" y="0"/>
                    </a:lnTo>
                    <a:lnTo>
                      <a:pt x="472" y="0"/>
                    </a:lnTo>
                    <a:lnTo>
                      <a:pt x="470" y="8"/>
                    </a:lnTo>
                    <a:lnTo>
                      <a:pt x="468" y="34"/>
                    </a:lnTo>
                    <a:lnTo>
                      <a:pt x="466" y="52"/>
                    </a:lnTo>
                    <a:lnTo>
                      <a:pt x="460" y="72"/>
                    </a:lnTo>
                    <a:lnTo>
                      <a:pt x="454" y="92"/>
                    </a:lnTo>
                    <a:lnTo>
                      <a:pt x="444" y="116"/>
                    </a:lnTo>
                    <a:lnTo>
                      <a:pt x="432" y="138"/>
                    </a:lnTo>
                    <a:lnTo>
                      <a:pt x="418" y="162"/>
                    </a:lnTo>
                    <a:lnTo>
                      <a:pt x="398" y="184"/>
                    </a:lnTo>
                    <a:lnTo>
                      <a:pt x="376" y="204"/>
                    </a:lnTo>
                    <a:lnTo>
                      <a:pt x="350" y="224"/>
                    </a:lnTo>
                    <a:lnTo>
                      <a:pt x="318" y="240"/>
                    </a:lnTo>
                    <a:lnTo>
                      <a:pt x="300" y="248"/>
                    </a:lnTo>
                    <a:lnTo>
                      <a:pt x="282" y="254"/>
                    </a:lnTo>
                    <a:lnTo>
                      <a:pt x="262" y="260"/>
                    </a:lnTo>
                    <a:lnTo>
                      <a:pt x="240" y="264"/>
                    </a:lnTo>
                    <a:lnTo>
                      <a:pt x="240" y="264"/>
                    </a:lnTo>
                    <a:lnTo>
                      <a:pt x="226" y="294"/>
                    </a:lnTo>
                    <a:lnTo>
                      <a:pt x="214" y="328"/>
                    </a:lnTo>
                    <a:lnTo>
                      <a:pt x="202" y="368"/>
                    </a:lnTo>
                    <a:lnTo>
                      <a:pt x="198" y="390"/>
                    </a:lnTo>
                    <a:lnTo>
                      <a:pt x="194" y="414"/>
                    </a:lnTo>
                    <a:lnTo>
                      <a:pt x="192" y="438"/>
                    </a:lnTo>
                    <a:lnTo>
                      <a:pt x="192" y="462"/>
                    </a:lnTo>
                    <a:lnTo>
                      <a:pt x="194" y="484"/>
                    </a:lnTo>
                    <a:lnTo>
                      <a:pt x="198" y="506"/>
                    </a:lnTo>
                    <a:lnTo>
                      <a:pt x="208" y="528"/>
                    </a:lnTo>
                    <a:lnTo>
                      <a:pt x="218" y="548"/>
                    </a:lnTo>
                    <a:lnTo>
                      <a:pt x="218" y="548"/>
                    </a:lnTo>
                    <a:lnTo>
                      <a:pt x="282" y="638"/>
                    </a:lnTo>
                    <a:lnTo>
                      <a:pt x="292" y="654"/>
                    </a:lnTo>
                    <a:lnTo>
                      <a:pt x="292" y="654"/>
                    </a:lnTo>
                    <a:lnTo>
                      <a:pt x="294" y="658"/>
                    </a:lnTo>
                    <a:lnTo>
                      <a:pt x="292" y="660"/>
                    </a:lnTo>
                    <a:lnTo>
                      <a:pt x="288" y="660"/>
                    </a:lnTo>
                    <a:lnTo>
                      <a:pt x="288" y="660"/>
                    </a:lnTo>
                    <a:lnTo>
                      <a:pt x="284" y="658"/>
                    </a:lnTo>
                    <a:lnTo>
                      <a:pt x="280" y="654"/>
                    </a:lnTo>
                    <a:lnTo>
                      <a:pt x="266" y="640"/>
                    </a:lnTo>
                    <a:lnTo>
                      <a:pt x="254" y="632"/>
                    </a:lnTo>
                    <a:lnTo>
                      <a:pt x="240" y="622"/>
                    </a:lnTo>
                    <a:lnTo>
                      <a:pt x="224" y="612"/>
                    </a:lnTo>
                    <a:lnTo>
                      <a:pt x="202" y="602"/>
                    </a:lnTo>
                    <a:lnTo>
                      <a:pt x="202" y="600"/>
                    </a:lnTo>
                    <a:lnTo>
                      <a:pt x="202" y="600"/>
                    </a:lnTo>
                    <a:lnTo>
                      <a:pt x="180" y="592"/>
                    </a:lnTo>
                    <a:lnTo>
                      <a:pt x="126" y="572"/>
                    </a:lnTo>
                    <a:lnTo>
                      <a:pt x="96" y="562"/>
                    </a:lnTo>
                    <a:lnTo>
                      <a:pt x="66" y="556"/>
                    </a:lnTo>
                    <a:lnTo>
                      <a:pt x="42" y="552"/>
                    </a:lnTo>
                    <a:lnTo>
                      <a:pt x="30" y="552"/>
                    </a:lnTo>
                    <a:lnTo>
                      <a:pt x="22" y="556"/>
                    </a:lnTo>
                    <a:lnTo>
                      <a:pt x="22" y="556"/>
                    </a:lnTo>
                    <a:lnTo>
                      <a:pt x="18" y="558"/>
                    </a:lnTo>
                    <a:lnTo>
                      <a:pt x="14" y="562"/>
                    </a:lnTo>
                    <a:lnTo>
                      <a:pt x="8" y="576"/>
                    </a:lnTo>
                    <a:lnTo>
                      <a:pt x="2" y="594"/>
                    </a:lnTo>
                    <a:lnTo>
                      <a:pt x="0" y="616"/>
                    </a:lnTo>
                    <a:lnTo>
                      <a:pt x="2" y="640"/>
                    </a:lnTo>
                    <a:lnTo>
                      <a:pt x="4" y="666"/>
                    </a:lnTo>
                    <a:lnTo>
                      <a:pt x="8" y="692"/>
                    </a:lnTo>
                    <a:lnTo>
                      <a:pt x="16" y="718"/>
                    </a:lnTo>
                    <a:lnTo>
                      <a:pt x="16" y="718"/>
                    </a:lnTo>
                    <a:lnTo>
                      <a:pt x="16" y="726"/>
                    </a:lnTo>
                    <a:lnTo>
                      <a:pt x="16" y="726"/>
                    </a:lnTo>
                    <a:lnTo>
                      <a:pt x="22" y="740"/>
                    </a:lnTo>
                    <a:lnTo>
                      <a:pt x="30" y="754"/>
                    </a:lnTo>
                    <a:lnTo>
                      <a:pt x="38" y="768"/>
                    </a:lnTo>
                    <a:lnTo>
                      <a:pt x="50" y="782"/>
                    </a:lnTo>
                    <a:lnTo>
                      <a:pt x="50" y="782"/>
                    </a:lnTo>
                    <a:lnTo>
                      <a:pt x="52" y="782"/>
                    </a:lnTo>
                    <a:lnTo>
                      <a:pt x="52" y="782"/>
                    </a:lnTo>
                    <a:lnTo>
                      <a:pt x="60" y="790"/>
                    </a:lnTo>
                    <a:lnTo>
                      <a:pt x="70" y="796"/>
                    </a:lnTo>
                    <a:lnTo>
                      <a:pt x="78" y="800"/>
                    </a:lnTo>
                    <a:lnTo>
                      <a:pt x="88" y="804"/>
                    </a:lnTo>
                    <a:lnTo>
                      <a:pt x="88" y="804"/>
                    </a:lnTo>
                    <a:lnTo>
                      <a:pt x="104" y="808"/>
                    </a:lnTo>
                    <a:lnTo>
                      <a:pt x="128" y="822"/>
                    </a:lnTo>
                    <a:lnTo>
                      <a:pt x="138" y="830"/>
                    </a:lnTo>
                    <a:lnTo>
                      <a:pt x="150" y="840"/>
                    </a:lnTo>
                    <a:lnTo>
                      <a:pt x="160" y="852"/>
                    </a:lnTo>
                    <a:lnTo>
                      <a:pt x="168" y="866"/>
                    </a:lnTo>
                    <a:lnTo>
                      <a:pt x="176" y="880"/>
                    </a:lnTo>
                    <a:lnTo>
                      <a:pt x="178" y="896"/>
                    </a:lnTo>
                    <a:lnTo>
                      <a:pt x="178" y="912"/>
                    </a:lnTo>
                    <a:lnTo>
                      <a:pt x="174" y="930"/>
                    </a:lnTo>
                    <a:lnTo>
                      <a:pt x="166" y="948"/>
                    </a:lnTo>
                    <a:lnTo>
                      <a:pt x="152" y="968"/>
                    </a:lnTo>
                    <a:lnTo>
                      <a:pt x="132" y="988"/>
                    </a:lnTo>
                    <a:lnTo>
                      <a:pt x="106" y="1008"/>
                    </a:lnTo>
                    <a:lnTo>
                      <a:pt x="106" y="1008"/>
                    </a:lnTo>
                    <a:lnTo>
                      <a:pt x="118" y="1008"/>
                    </a:lnTo>
                    <a:lnTo>
                      <a:pt x="132" y="1008"/>
                    </a:lnTo>
                    <a:lnTo>
                      <a:pt x="152" y="1012"/>
                    </a:lnTo>
                    <a:lnTo>
                      <a:pt x="174" y="1016"/>
                    </a:lnTo>
                    <a:lnTo>
                      <a:pt x="202" y="1024"/>
                    </a:lnTo>
                    <a:lnTo>
                      <a:pt x="230" y="1034"/>
                    </a:lnTo>
                    <a:lnTo>
                      <a:pt x="260" y="1050"/>
                    </a:lnTo>
                    <a:lnTo>
                      <a:pt x="260" y="1050"/>
                    </a:lnTo>
                    <a:lnTo>
                      <a:pt x="274" y="1056"/>
                    </a:lnTo>
                    <a:lnTo>
                      <a:pt x="288" y="1060"/>
                    </a:lnTo>
                    <a:lnTo>
                      <a:pt x="304" y="1064"/>
                    </a:lnTo>
                    <a:lnTo>
                      <a:pt x="318" y="1064"/>
                    </a:lnTo>
                    <a:lnTo>
                      <a:pt x="332" y="1064"/>
                    </a:lnTo>
                    <a:lnTo>
                      <a:pt x="346" y="1062"/>
                    </a:lnTo>
                    <a:lnTo>
                      <a:pt x="372" y="1056"/>
                    </a:lnTo>
                    <a:lnTo>
                      <a:pt x="396" y="1046"/>
                    </a:lnTo>
                    <a:lnTo>
                      <a:pt x="418" y="1036"/>
                    </a:lnTo>
                    <a:lnTo>
                      <a:pt x="444" y="1020"/>
                    </a:lnTo>
                    <a:lnTo>
                      <a:pt x="444" y="1020"/>
                    </a:lnTo>
                    <a:lnTo>
                      <a:pt x="444" y="1050"/>
                    </a:lnTo>
                    <a:lnTo>
                      <a:pt x="444" y="1096"/>
                    </a:lnTo>
                    <a:lnTo>
                      <a:pt x="442" y="1152"/>
                    </a:lnTo>
                    <a:lnTo>
                      <a:pt x="436" y="1214"/>
                    </a:lnTo>
                    <a:lnTo>
                      <a:pt x="430" y="1246"/>
                    </a:lnTo>
                    <a:lnTo>
                      <a:pt x="424" y="1276"/>
                    </a:lnTo>
                    <a:lnTo>
                      <a:pt x="418" y="1306"/>
                    </a:lnTo>
                    <a:lnTo>
                      <a:pt x="408" y="1334"/>
                    </a:lnTo>
                    <a:lnTo>
                      <a:pt x="398" y="1360"/>
                    </a:lnTo>
                    <a:lnTo>
                      <a:pt x="386" y="1382"/>
                    </a:lnTo>
                    <a:lnTo>
                      <a:pt x="372" y="1400"/>
                    </a:lnTo>
                    <a:lnTo>
                      <a:pt x="364" y="1408"/>
                    </a:lnTo>
                    <a:lnTo>
                      <a:pt x="356" y="1414"/>
                    </a:lnTo>
                    <a:lnTo>
                      <a:pt x="356" y="1414"/>
                    </a:lnTo>
                    <a:lnTo>
                      <a:pt x="352" y="1416"/>
                    </a:lnTo>
                    <a:lnTo>
                      <a:pt x="350" y="1420"/>
                    </a:lnTo>
                    <a:lnTo>
                      <a:pt x="348" y="1422"/>
                    </a:lnTo>
                    <a:lnTo>
                      <a:pt x="350" y="1426"/>
                    </a:lnTo>
                    <a:lnTo>
                      <a:pt x="352" y="1428"/>
                    </a:lnTo>
                    <a:lnTo>
                      <a:pt x="354" y="1432"/>
                    </a:lnTo>
                    <a:lnTo>
                      <a:pt x="354" y="1432"/>
                    </a:lnTo>
                    <a:lnTo>
                      <a:pt x="362" y="1438"/>
                    </a:lnTo>
                    <a:lnTo>
                      <a:pt x="368" y="1440"/>
                    </a:lnTo>
                    <a:lnTo>
                      <a:pt x="376" y="1444"/>
                    </a:lnTo>
                    <a:lnTo>
                      <a:pt x="386" y="1444"/>
                    </a:lnTo>
                    <a:lnTo>
                      <a:pt x="398" y="1444"/>
                    </a:lnTo>
                    <a:lnTo>
                      <a:pt x="410" y="1440"/>
                    </a:lnTo>
                    <a:lnTo>
                      <a:pt x="422" y="1434"/>
                    </a:lnTo>
                    <a:lnTo>
                      <a:pt x="422" y="1434"/>
                    </a:lnTo>
                    <a:lnTo>
                      <a:pt x="428" y="1430"/>
                    </a:lnTo>
                    <a:lnTo>
                      <a:pt x="434" y="1430"/>
                    </a:lnTo>
                    <a:lnTo>
                      <a:pt x="442" y="1428"/>
                    </a:lnTo>
                    <a:lnTo>
                      <a:pt x="444" y="1424"/>
                    </a:lnTo>
                    <a:lnTo>
                      <a:pt x="448" y="1418"/>
                    </a:lnTo>
                    <a:lnTo>
                      <a:pt x="448" y="1418"/>
                    </a:lnTo>
                    <a:lnTo>
                      <a:pt x="458" y="1398"/>
                    </a:lnTo>
                    <a:lnTo>
                      <a:pt x="466" y="1370"/>
                    </a:lnTo>
                    <a:lnTo>
                      <a:pt x="474" y="1334"/>
                    </a:lnTo>
                    <a:lnTo>
                      <a:pt x="482" y="1288"/>
                    </a:lnTo>
                    <a:lnTo>
                      <a:pt x="488" y="1236"/>
                    </a:lnTo>
                    <a:lnTo>
                      <a:pt x="494" y="1174"/>
                    </a:lnTo>
                    <a:lnTo>
                      <a:pt x="498" y="1104"/>
                    </a:lnTo>
                    <a:lnTo>
                      <a:pt x="502" y="1022"/>
                    </a:lnTo>
                    <a:lnTo>
                      <a:pt x="502" y="1022"/>
                    </a:lnTo>
                    <a:lnTo>
                      <a:pt x="516" y="1030"/>
                    </a:lnTo>
                    <a:lnTo>
                      <a:pt x="532" y="1040"/>
                    </a:lnTo>
                    <a:lnTo>
                      <a:pt x="552" y="1050"/>
                    </a:lnTo>
                    <a:lnTo>
                      <a:pt x="576" y="1058"/>
                    </a:lnTo>
                    <a:lnTo>
                      <a:pt x="602" y="1062"/>
                    </a:lnTo>
                    <a:lnTo>
                      <a:pt x="616" y="1064"/>
                    </a:lnTo>
                    <a:lnTo>
                      <a:pt x="628" y="1064"/>
                    </a:lnTo>
                    <a:lnTo>
                      <a:pt x="642" y="1064"/>
                    </a:lnTo>
                    <a:lnTo>
                      <a:pt x="656" y="1060"/>
                    </a:lnTo>
                    <a:lnTo>
                      <a:pt x="668" y="1056"/>
                    </a:lnTo>
                    <a:lnTo>
                      <a:pt x="682" y="1050"/>
                    </a:lnTo>
                    <a:lnTo>
                      <a:pt x="682" y="1050"/>
                    </a:lnTo>
                    <a:lnTo>
                      <a:pt x="712" y="1034"/>
                    </a:lnTo>
                    <a:lnTo>
                      <a:pt x="742" y="1024"/>
                    </a:lnTo>
                    <a:lnTo>
                      <a:pt x="768" y="1016"/>
                    </a:lnTo>
                    <a:lnTo>
                      <a:pt x="790" y="1012"/>
                    </a:lnTo>
                    <a:lnTo>
                      <a:pt x="810" y="1008"/>
                    </a:lnTo>
                    <a:lnTo>
                      <a:pt x="824" y="1008"/>
                    </a:lnTo>
                    <a:lnTo>
                      <a:pt x="836" y="1008"/>
                    </a:lnTo>
                    <a:lnTo>
                      <a:pt x="836" y="1008"/>
                    </a:lnTo>
                    <a:lnTo>
                      <a:pt x="810" y="988"/>
                    </a:lnTo>
                    <a:lnTo>
                      <a:pt x="790" y="968"/>
                    </a:lnTo>
                    <a:lnTo>
                      <a:pt x="776" y="948"/>
                    </a:lnTo>
                    <a:lnTo>
                      <a:pt x="768" y="930"/>
                    </a:lnTo>
                    <a:lnTo>
                      <a:pt x="764" y="912"/>
                    </a:lnTo>
                    <a:lnTo>
                      <a:pt x="764" y="896"/>
                    </a:lnTo>
                    <a:lnTo>
                      <a:pt x="768" y="880"/>
                    </a:lnTo>
                    <a:lnTo>
                      <a:pt x="774" y="866"/>
                    </a:lnTo>
                    <a:lnTo>
                      <a:pt x="782" y="852"/>
                    </a:lnTo>
                    <a:lnTo>
                      <a:pt x="792" y="840"/>
                    </a:lnTo>
                    <a:lnTo>
                      <a:pt x="804" y="830"/>
                    </a:lnTo>
                    <a:lnTo>
                      <a:pt x="816" y="822"/>
                    </a:lnTo>
                    <a:lnTo>
                      <a:pt x="838" y="808"/>
                    </a:lnTo>
                    <a:lnTo>
                      <a:pt x="854" y="804"/>
                    </a:lnTo>
                    <a:lnTo>
                      <a:pt x="854" y="804"/>
                    </a:lnTo>
                    <a:lnTo>
                      <a:pt x="868" y="798"/>
                    </a:lnTo>
                    <a:lnTo>
                      <a:pt x="882" y="790"/>
                    </a:lnTo>
                    <a:lnTo>
                      <a:pt x="882" y="790"/>
                    </a:lnTo>
                    <a:lnTo>
                      <a:pt x="882" y="790"/>
                    </a:lnTo>
                    <a:lnTo>
                      <a:pt x="892" y="782"/>
                    </a:lnTo>
                    <a:lnTo>
                      <a:pt x="902" y="772"/>
                    </a:lnTo>
                    <a:lnTo>
                      <a:pt x="910" y="762"/>
                    </a:lnTo>
                    <a:lnTo>
                      <a:pt x="918" y="748"/>
                    </a:lnTo>
                    <a:lnTo>
                      <a:pt x="918" y="748"/>
                    </a:lnTo>
                    <a:lnTo>
                      <a:pt x="924" y="732"/>
                    </a:lnTo>
                    <a:lnTo>
                      <a:pt x="924" y="732"/>
                    </a:lnTo>
                    <a:close/>
                  </a:path>
                </a:pathLst>
              </a:custGeom>
              <a:solidFill>
                <a:srgbClr val="ed4600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Freeform 32"/>
              <p:cNvSpPr/>
              <p:nvPr/>
            </p:nvSpPr>
            <p:spPr>
              <a:xfrm rot="16200000">
                <a:off x="7202880" y="869760"/>
                <a:ext cx="358920" cy="848520"/>
              </a:xfrm>
              <a:custGeom>
                <a:avLst/>
                <a:gdLst>
                  <a:gd name="textAreaLeft" fmla="*/ 0 w 358920"/>
                  <a:gd name="textAreaRight" fmla="*/ 359280 w 358920"/>
                  <a:gd name="textAreaTop" fmla="*/ 0 h 848520"/>
                  <a:gd name="textAreaBottom" fmla="*/ 848880 h 848520"/>
                </a:gdLst>
                <a:ahLst/>
                <a:rect l="textAreaLeft" t="textAreaTop" r="textAreaRight" b="textAreaBottom"/>
                <a:pathLst>
                  <a:path w="574" h="1358">
                    <a:moveTo>
                      <a:pt x="518" y="468"/>
                    </a:moveTo>
                    <a:lnTo>
                      <a:pt x="518" y="468"/>
                    </a:lnTo>
                    <a:lnTo>
                      <a:pt x="494" y="416"/>
                    </a:lnTo>
                    <a:lnTo>
                      <a:pt x="466" y="358"/>
                    </a:lnTo>
                    <a:lnTo>
                      <a:pt x="438" y="300"/>
                    </a:lnTo>
                    <a:lnTo>
                      <a:pt x="414" y="238"/>
                    </a:lnTo>
                    <a:lnTo>
                      <a:pt x="402" y="208"/>
                    </a:lnTo>
                    <a:lnTo>
                      <a:pt x="394" y="178"/>
                    </a:lnTo>
                    <a:lnTo>
                      <a:pt x="388" y="146"/>
                    </a:lnTo>
                    <a:lnTo>
                      <a:pt x="382" y="116"/>
                    </a:lnTo>
                    <a:lnTo>
                      <a:pt x="382" y="86"/>
                    </a:lnTo>
                    <a:lnTo>
                      <a:pt x="382" y="56"/>
                    </a:lnTo>
                    <a:lnTo>
                      <a:pt x="388" y="28"/>
                    </a:lnTo>
                    <a:lnTo>
                      <a:pt x="396" y="0"/>
                    </a:lnTo>
                    <a:lnTo>
                      <a:pt x="396" y="0"/>
                    </a:lnTo>
                    <a:lnTo>
                      <a:pt x="364" y="30"/>
                    </a:lnTo>
                    <a:lnTo>
                      <a:pt x="330" y="66"/>
                    </a:lnTo>
                    <a:lnTo>
                      <a:pt x="286" y="114"/>
                    </a:lnTo>
                    <a:lnTo>
                      <a:pt x="236" y="170"/>
                    </a:lnTo>
                    <a:lnTo>
                      <a:pt x="210" y="204"/>
                    </a:lnTo>
                    <a:lnTo>
                      <a:pt x="184" y="238"/>
                    </a:lnTo>
                    <a:lnTo>
                      <a:pt x="158" y="274"/>
                    </a:lnTo>
                    <a:lnTo>
                      <a:pt x="134" y="312"/>
                    </a:lnTo>
                    <a:lnTo>
                      <a:pt x="110" y="352"/>
                    </a:lnTo>
                    <a:lnTo>
                      <a:pt x="86" y="394"/>
                    </a:lnTo>
                    <a:lnTo>
                      <a:pt x="66" y="436"/>
                    </a:lnTo>
                    <a:lnTo>
                      <a:pt x="48" y="478"/>
                    </a:lnTo>
                    <a:lnTo>
                      <a:pt x="32" y="522"/>
                    </a:lnTo>
                    <a:lnTo>
                      <a:pt x="18" y="568"/>
                    </a:lnTo>
                    <a:lnTo>
                      <a:pt x="8" y="614"/>
                    </a:lnTo>
                    <a:lnTo>
                      <a:pt x="2" y="658"/>
                    </a:lnTo>
                    <a:lnTo>
                      <a:pt x="0" y="704"/>
                    </a:lnTo>
                    <a:lnTo>
                      <a:pt x="2" y="728"/>
                    </a:lnTo>
                    <a:lnTo>
                      <a:pt x="4" y="750"/>
                    </a:lnTo>
                    <a:lnTo>
                      <a:pt x="6" y="774"/>
                    </a:lnTo>
                    <a:lnTo>
                      <a:pt x="10" y="796"/>
                    </a:lnTo>
                    <a:lnTo>
                      <a:pt x="16" y="818"/>
                    </a:lnTo>
                    <a:lnTo>
                      <a:pt x="24" y="842"/>
                    </a:lnTo>
                    <a:lnTo>
                      <a:pt x="32" y="864"/>
                    </a:lnTo>
                    <a:lnTo>
                      <a:pt x="42" y="886"/>
                    </a:lnTo>
                    <a:lnTo>
                      <a:pt x="54" y="908"/>
                    </a:lnTo>
                    <a:lnTo>
                      <a:pt x="68" y="930"/>
                    </a:lnTo>
                    <a:lnTo>
                      <a:pt x="82" y="952"/>
                    </a:lnTo>
                    <a:lnTo>
                      <a:pt x="100" y="974"/>
                    </a:lnTo>
                    <a:lnTo>
                      <a:pt x="118" y="994"/>
                    </a:lnTo>
                    <a:lnTo>
                      <a:pt x="138" y="1016"/>
                    </a:lnTo>
                    <a:lnTo>
                      <a:pt x="160" y="1036"/>
                    </a:lnTo>
                    <a:lnTo>
                      <a:pt x="184" y="1056"/>
                    </a:lnTo>
                    <a:lnTo>
                      <a:pt x="210" y="1076"/>
                    </a:lnTo>
                    <a:lnTo>
                      <a:pt x="238" y="1096"/>
                    </a:lnTo>
                    <a:lnTo>
                      <a:pt x="238" y="1096"/>
                    </a:lnTo>
                    <a:lnTo>
                      <a:pt x="232" y="1130"/>
                    </a:lnTo>
                    <a:lnTo>
                      <a:pt x="222" y="1164"/>
                    </a:lnTo>
                    <a:lnTo>
                      <a:pt x="212" y="1200"/>
                    </a:lnTo>
                    <a:lnTo>
                      <a:pt x="202" y="1234"/>
                    </a:lnTo>
                    <a:lnTo>
                      <a:pt x="188" y="1266"/>
                    </a:lnTo>
                    <a:lnTo>
                      <a:pt x="172" y="1294"/>
                    </a:lnTo>
                    <a:lnTo>
                      <a:pt x="162" y="1306"/>
                    </a:lnTo>
                    <a:lnTo>
                      <a:pt x="152" y="1316"/>
                    </a:lnTo>
                    <a:lnTo>
                      <a:pt x="142" y="1324"/>
                    </a:lnTo>
                    <a:lnTo>
                      <a:pt x="132" y="1330"/>
                    </a:lnTo>
                    <a:lnTo>
                      <a:pt x="132" y="1330"/>
                    </a:lnTo>
                    <a:lnTo>
                      <a:pt x="130" y="1332"/>
                    </a:lnTo>
                    <a:lnTo>
                      <a:pt x="126" y="1334"/>
                    </a:lnTo>
                    <a:lnTo>
                      <a:pt x="126" y="1338"/>
                    </a:lnTo>
                    <a:lnTo>
                      <a:pt x="130" y="1344"/>
                    </a:lnTo>
                    <a:lnTo>
                      <a:pt x="130" y="1344"/>
                    </a:lnTo>
                    <a:lnTo>
                      <a:pt x="134" y="1348"/>
                    </a:lnTo>
                    <a:lnTo>
                      <a:pt x="146" y="1356"/>
                    </a:lnTo>
                    <a:lnTo>
                      <a:pt x="154" y="1358"/>
                    </a:lnTo>
                    <a:lnTo>
                      <a:pt x="162" y="1358"/>
                    </a:lnTo>
                    <a:lnTo>
                      <a:pt x="172" y="1358"/>
                    </a:lnTo>
                    <a:lnTo>
                      <a:pt x="184" y="1354"/>
                    </a:lnTo>
                    <a:lnTo>
                      <a:pt x="184" y="1354"/>
                    </a:lnTo>
                    <a:lnTo>
                      <a:pt x="190" y="1352"/>
                    </a:lnTo>
                    <a:lnTo>
                      <a:pt x="194" y="1352"/>
                    </a:lnTo>
                    <a:lnTo>
                      <a:pt x="200" y="1350"/>
                    </a:lnTo>
                    <a:lnTo>
                      <a:pt x="206" y="1344"/>
                    </a:lnTo>
                    <a:lnTo>
                      <a:pt x="206" y="1344"/>
                    </a:lnTo>
                    <a:lnTo>
                      <a:pt x="214" y="1330"/>
                    </a:lnTo>
                    <a:lnTo>
                      <a:pt x="224" y="1312"/>
                    </a:lnTo>
                    <a:lnTo>
                      <a:pt x="232" y="1290"/>
                    </a:lnTo>
                    <a:lnTo>
                      <a:pt x="242" y="1264"/>
                    </a:lnTo>
                    <a:lnTo>
                      <a:pt x="262" y="1194"/>
                    </a:lnTo>
                    <a:lnTo>
                      <a:pt x="282" y="1102"/>
                    </a:lnTo>
                    <a:lnTo>
                      <a:pt x="282" y="1102"/>
                    </a:lnTo>
                    <a:lnTo>
                      <a:pt x="298" y="1102"/>
                    </a:lnTo>
                    <a:lnTo>
                      <a:pt x="318" y="1100"/>
                    </a:lnTo>
                    <a:lnTo>
                      <a:pt x="338" y="1098"/>
                    </a:lnTo>
                    <a:lnTo>
                      <a:pt x="360" y="1092"/>
                    </a:lnTo>
                    <a:lnTo>
                      <a:pt x="382" y="1086"/>
                    </a:lnTo>
                    <a:lnTo>
                      <a:pt x="404" y="1074"/>
                    </a:lnTo>
                    <a:lnTo>
                      <a:pt x="426" y="1062"/>
                    </a:lnTo>
                    <a:lnTo>
                      <a:pt x="450" y="1044"/>
                    </a:lnTo>
                    <a:lnTo>
                      <a:pt x="472" y="1024"/>
                    </a:lnTo>
                    <a:lnTo>
                      <a:pt x="492" y="998"/>
                    </a:lnTo>
                    <a:lnTo>
                      <a:pt x="512" y="968"/>
                    </a:lnTo>
                    <a:lnTo>
                      <a:pt x="528" y="934"/>
                    </a:lnTo>
                    <a:lnTo>
                      <a:pt x="544" y="894"/>
                    </a:lnTo>
                    <a:lnTo>
                      <a:pt x="556" y="846"/>
                    </a:lnTo>
                    <a:lnTo>
                      <a:pt x="566" y="794"/>
                    </a:lnTo>
                    <a:lnTo>
                      <a:pt x="574" y="736"/>
                    </a:lnTo>
                    <a:lnTo>
                      <a:pt x="574" y="736"/>
                    </a:lnTo>
                    <a:lnTo>
                      <a:pt x="574" y="712"/>
                    </a:lnTo>
                    <a:lnTo>
                      <a:pt x="572" y="686"/>
                    </a:lnTo>
                    <a:lnTo>
                      <a:pt x="568" y="652"/>
                    </a:lnTo>
                    <a:lnTo>
                      <a:pt x="562" y="612"/>
                    </a:lnTo>
                    <a:lnTo>
                      <a:pt x="552" y="566"/>
                    </a:lnTo>
                    <a:lnTo>
                      <a:pt x="538" y="518"/>
                    </a:lnTo>
                    <a:lnTo>
                      <a:pt x="528" y="494"/>
                    </a:lnTo>
                    <a:lnTo>
                      <a:pt x="518" y="468"/>
                    </a:lnTo>
                    <a:lnTo>
                      <a:pt x="518" y="468"/>
                    </a:lnTo>
                    <a:close/>
                  </a:path>
                </a:pathLst>
              </a:custGeom>
              <a:solidFill>
                <a:srgbClr val="ed4600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Freeform 28"/>
              <p:cNvSpPr/>
              <p:nvPr/>
            </p:nvSpPr>
            <p:spPr>
              <a:xfrm rot="2065200">
                <a:off x="788040" y="199800"/>
                <a:ext cx="752760" cy="1188360"/>
              </a:xfrm>
              <a:custGeom>
                <a:avLst/>
                <a:gdLst>
                  <a:gd name="textAreaLeft" fmla="*/ 0 w 752760"/>
                  <a:gd name="textAreaRight" fmla="*/ 753120 w 752760"/>
                  <a:gd name="textAreaTop" fmla="*/ 0 h 1188360"/>
                  <a:gd name="textAreaBottom" fmla="*/ 1188720 h 1188360"/>
                </a:gdLst>
                <a:ahLst/>
                <a:rect l="textAreaLeft" t="textAreaTop" r="textAreaRight" b="textAreaBottom"/>
                <a:pathLst>
                  <a:path w="1188" h="1874">
                    <a:moveTo>
                      <a:pt x="1170" y="730"/>
                    </a:moveTo>
                    <a:lnTo>
                      <a:pt x="1170" y="730"/>
                    </a:lnTo>
                    <a:lnTo>
                      <a:pt x="1168" y="742"/>
                    </a:lnTo>
                    <a:lnTo>
                      <a:pt x="1164" y="752"/>
                    </a:lnTo>
                    <a:lnTo>
                      <a:pt x="1154" y="768"/>
                    </a:lnTo>
                    <a:lnTo>
                      <a:pt x="1140" y="784"/>
                    </a:lnTo>
                    <a:lnTo>
                      <a:pt x="1126" y="796"/>
                    </a:lnTo>
                    <a:lnTo>
                      <a:pt x="1114" y="804"/>
                    </a:lnTo>
                    <a:lnTo>
                      <a:pt x="1102" y="810"/>
                    </a:lnTo>
                    <a:lnTo>
                      <a:pt x="1092" y="816"/>
                    </a:lnTo>
                    <a:lnTo>
                      <a:pt x="1092" y="816"/>
                    </a:lnTo>
                    <a:lnTo>
                      <a:pt x="1090" y="812"/>
                    </a:lnTo>
                    <a:lnTo>
                      <a:pt x="1088" y="802"/>
                    </a:lnTo>
                    <a:lnTo>
                      <a:pt x="1080" y="790"/>
                    </a:lnTo>
                    <a:lnTo>
                      <a:pt x="1076" y="782"/>
                    </a:lnTo>
                    <a:lnTo>
                      <a:pt x="1068" y="776"/>
                    </a:lnTo>
                    <a:lnTo>
                      <a:pt x="1060" y="770"/>
                    </a:lnTo>
                    <a:lnTo>
                      <a:pt x="1052" y="766"/>
                    </a:lnTo>
                    <a:lnTo>
                      <a:pt x="1040" y="762"/>
                    </a:lnTo>
                    <a:lnTo>
                      <a:pt x="1028" y="760"/>
                    </a:lnTo>
                    <a:lnTo>
                      <a:pt x="1012" y="760"/>
                    </a:lnTo>
                    <a:lnTo>
                      <a:pt x="996" y="762"/>
                    </a:lnTo>
                    <a:lnTo>
                      <a:pt x="976" y="768"/>
                    </a:lnTo>
                    <a:lnTo>
                      <a:pt x="956" y="774"/>
                    </a:lnTo>
                    <a:lnTo>
                      <a:pt x="956" y="774"/>
                    </a:lnTo>
                    <a:lnTo>
                      <a:pt x="924" y="790"/>
                    </a:lnTo>
                    <a:lnTo>
                      <a:pt x="898" y="804"/>
                    </a:lnTo>
                    <a:lnTo>
                      <a:pt x="878" y="818"/>
                    </a:lnTo>
                    <a:lnTo>
                      <a:pt x="862" y="830"/>
                    </a:lnTo>
                    <a:lnTo>
                      <a:pt x="842" y="848"/>
                    </a:lnTo>
                    <a:lnTo>
                      <a:pt x="836" y="854"/>
                    </a:lnTo>
                    <a:lnTo>
                      <a:pt x="830" y="856"/>
                    </a:lnTo>
                    <a:lnTo>
                      <a:pt x="830" y="856"/>
                    </a:lnTo>
                    <a:lnTo>
                      <a:pt x="826" y="856"/>
                    </a:lnTo>
                    <a:lnTo>
                      <a:pt x="824" y="854"/>
                    </a:lnTo>
                    <a:lnTo>
                      <a:pt x="824" y="848"/>
                    </a:lnTo>
                    <a:lnTo>
                      <a:pt x="824" y="848"/>
                    </a:lnTo>
                    <a:lnTo>
                      <a:pt x="838" y="828"/>
                    </a:lnTo>
                    <a:lnTo>
                      <a:pt x="866" y="786"/>
                    </a:lnTo>
                    <a:lnTo>
                      <a:pt x="920" y="710"/>
                    </a:lnTo>
                    <a:lnTo>
                      <a:pt x="920" y="710"/>
                    </a:lnTo>
                    <a:lnTo>
                      <a:pt x="928" y="698"/>
                    </a:lnTo>
                    <a:lnTo>
                      <a:pt x="936" y="686"/>
                    </a:lnTo>
                    <a:lnTo>
                      <a:pt x="946" y="658"/>
                    </a:lnTo>
                    <a:lnTo>
                      <a:pt x="952" y="628"/>
                    </a:lnTo>
                    <a:lnTo>
                      <a:pt x="956" y="598"/>
                    </a:lnTo>
                    <a:lnTo>
                      <a:pt x="956" y="568"/>
                    </a:lnTo>
                    <a:lnTo>
                      <a:pt x="952" y="538"/>
                    </a:lnTo>
                    <a:lnTo>
                      <a:pt x="948" y="508"/>
                    </a:lnTo>
                    <a:lnTo>
                      <a:pt x="942" y="478"/>
                    </a:lnTo>
                    <a:lnTo>
                      <a:pt x="934" y="452"/>
                    </a:lnTo>
                    <a:lnTo>
                      <a:pt x="926" y="426"/>
                    </a:lnTo>
                    <a:lnTo>
                      <a:pt x="910" y="384"/>
                    </a:lnTo>
                    <a:lnTo>
                      <a:pt x="898" y="354"/>
                    </a:lnTo>
                    <a:lnTo>
                      <a:pt x="892" y="344"/>
                    </a:lnTo>
                    <a:lnTo>
                      <a:pt x="892" y="344"/>
                    </a:lnTo>
                    <a:lnTo>
                      <a:pt x="864" y="338"/>
                    </a:lnTo>
                    <a:lnTo>
                      <a:pt x="838" y="330"/>
                    </a:lnTo>
                    <a:lnTo>
                      <a:pt x="814" y="322"/>
                    </a:lnTo>
                    <a:lnTo>
                      <a:pt x="792" y="312"/>
                    </a:lnTo>
                    <a:lnTo>
                      <a:pt x="770" y="302"/>
                    </a:lnTo>
                    <a:lnTo>
                      <a:pt x="752" y="290"/>
                    </a:lnTo>
                    <a:lnTo>
                      <a:pt x="734" y="278"/>
                    </a:lnTo>
                    <a:lnTo>
                      <a:pt x="716" y="266"/>
                    </a:lnTo>
                    <a:lnTo>
                      <a:pt x="702" y="252"/>
                    </a:lnTo>
                    <a:lnTo>
                      <a:pt x="688" y="238"/>
                    </a:lnTo>
                    <a:lnTo>
                      <a:pt x="664" y="210"/>
                    </a:lnTo>
                    <a:lnTo>
                      <a:pt x="644" y="180"/>
                    </a:lnTo>
                    <a:lnTo>
                      <a:pt x="628" y="150"/>
                    </a:lnTo>
                    <a:lnTo>
                      <a:pt x="616" y="122"/>
                    </a:lnTo>
                    <a:lnTo>
                      <a:pt x="608" y="94"/>
                    </a:lnTo>
                    <a:lnTo>
                      <a:pt x="600" y="68"/>
                    </a:lnTo>
                    <a:lnTo>
                      <a:pt x="596" y="46"/>
                    </a:lnTo>
                    <a:lnTo>
                      <a:pt x="594" y="12"/>
                    </a:lnTo>
                    <a:lnTo>
                      <a:pt x="594" y="0"/>
                    </a:lnTo>
                    <a:lnTo>
                      <a:pt x="594" y="4"/>
                    </a:lnTo>
                    <a:lnTo>
                      <a:pt x="592" y="0"/>
                    </a:lnTo>
                    <a:lnTo>
                      <a:pt x="592" y="0"/>
                    </a:lnTo>
                    <a:lnTo>
                      <a:pt x="592" y="12"/>
                    </a:lnTo>
                    <a:lnTo>
                      <a:pt x="590" y="46"/>
                    </a:lnTo>
                    <a:lnTo>
                      <a:pt x="586" y="68"/>
                    </a:lnTo>
                    <a:lnTo>
                      <a:pt x="578" y="94"/>
                    </a:lnTo>
                    <a:lnTo>
                      <a:pt x="570" y="122"/>
                    </a:lnTo>
                    <a:lnTo>
                      <a:pt x="558" y="150"/>
                    </a:lnTo>
                    <a:lnTo>
                      <a:pt x="542" y="180"/>
                    </a:lnTo>
                    <a:lnTo>
                      <a:pt x="522" y="210"/>
                    </a:lnTo>
                    <a:lnTo>
                      <a:pt x="498" y="238"/>
                    </a:lnTo>
                    <a:lnTo>
                      <a:pt x="484" y="252"/>
                    </a:lnTo>
                    <a:lnTo>
                      <a:pt x="470" y="266"/>
                    </a:lnTo>
                    <a:lnTo>
                      <a:pt x="452" y="278"/>
                    </a:lnTo>
                    <a:lnTo>
                      <a:pt x="434" y="290"/>
                    </a:lnTo>
                    <a:lnTo>
                      <a:pt x="416" y="302"/>
                    </a:lnTo>
                    <a:lnTo>
                      <a:pt x="394" y="312"/>
                    </a:lnTo>
                    <a:lnTo>
                      <a:pt x="372" y="322"/>
                    </a:lnTo>
                    <a:lnTo>
                      <a:pt x="348" y="330"/>
                    </a:lnTo>
                    <a:lnTo>
                      <a:pt x="322" y="338"/>
                    </a:lnTo>
                    <a:lnTo>
                      <a:pt x="294" y="344"/>
                    </a:lnTo>
                    <a:lnTo>
                      <a:pt x="294" y="344"/>
                    </a:lnTo>
                    <a:lnTo>
                      <a:pt x="288" y="354"/>
                    </a:lnTo>
                    <a:lnTo>
                      <a:pt x="276" y="384"/>
                    </a:lnTo>
                    <a:lnTo>
                      <a:pt x="260" y="426"/>
                    </a:lnTo>
                    <a:lnTo>
                      <a:pt x="252" y="452"/>
                    </a:lnTo>
                    <a:lnTo>
                      <a:pt x="244" y="478"/>
                    </a:lnTo>
                    <a:lnTo>
                      <a:pt x="238" y="508"/>
                    </a:lnTo>
                    <a:lnTo>
                      <a:pt x="234" y="538"/>
                    </a:lnTo>
                    <a:lnTo>
                      <a:pt x="230" y="568"/>
                    </a:lnTo>
                    <a:lnTo>
                      <a:pt x="230" y="598"/>
                    </a:lnTo>
                    <a:lnTo>
                      <a:pt x="234" y="628"/>
                    </a:lnTo>
                    <a:lnTo>
                      <a:pt x="240" y="658"/>
                    </a:lnTo>
                    <a:lnTo>
                      <a:pt x="250" y="686"/>
                    </a:lnTo>
                    <a:lnTo>
                      <a:pt x="258" y="698"/>
                    </a:lnTo>
                    <a:lnTo>
                      <a:pt x="266" y="710"/>
                    </a:lnTo>
                    <a:lnTo>
                      <a:pt x="266" y="710"/>
                    </a:lnTo>
                    <a:lnTo>
                      <a:pt x="320" y="786"/>
                    </a:lnTo>
                    <a:lnTo>
                      <a:pt x="348" y="828"/>
                    </a:lnTo>
                    <a:lnTo>
                      <a:pt x="362" y="848"/>
                    </a:lnTo>
                    <a:lnTo>
                      <a:pt x="362" y="848"/>
                    </a:lnTo>
                    <a:lnTo>
                      <a:pt x="362" y="854"/>
                    </a:lnTo>
                    <a:lnTo>
                      <a:pt x="360" y="856"/>
                    </a:lnTo>
                    <a:lnTo>
                      <a:pt x="356" y="856"/>
                    </a:lnTo>
                    <a:lnTo>
                      <a:pt x="356" y="856"/>
                    </a:lnTo>
                    <a:lnTo>
                      <a:pt x="350" y="854"/>
                    </a:lnTo>
                    <a:lnTo>
                      <a:pt x="344" y="848"/>
                    </a:lnTo>
                    <a:lnTo>
                      <a:pt x="324" y="830"/>
                    </a:lnTo>
                    <a:lnTo>
                      <a:pt x="308" y="818"/>
                    </a:lnTo>
                    <a:lnTo>
                      <a:pt x="288" y="804"/>
                    </a:lnTo>
                    <a:lnTo>
                      <a:pt x="262" y="790"/>
                    </a:lnTo>
                    <a:lnTo>
                      <a:pt x="230" y="774"/>
                    </a:lnTo>
                    <a:lnTo>
                      <a:pt x="230" y="774"/>
                    </a:lnTo>
                    <a:lnTo>
                      <a:pt x="210" y="768"/>
                    </a:lnTo>
                    <a:lnTo>
                      <a:pt x="190" y="762"/>
                    </a:lnTo>
                    <a:lnTo>
                      <a:pt x="174" y="760"/>
                    </a:lnTo>
                    <a:lnTo>
                      <a:pt x="158" y="760"/>
                    </a:lnTo>
                    <a:lnTo>
                      <a:pt x="146" y="762"/>
                    </a:lnTo>
                    <a:lnTo>
                      <a:pt x="134" y="766"/>
                    </a:lnTo>
                    <a:lnTo>
                      <a:pt x="126" y="770"/>
                    </a:lnTo>
                    <a:lnTo>
                      <a:pt x="118" y="776"/>
                    </a:lnTo>
                    <a:lnTo>
                      <a:pt x="110" y="782"/>
                    </a:lnTo>
                    <a:lnTo>
                      <a:pt x="106" y="790"/>
                    </a:lnTo>
                    <a:lnTo>
                      <a:pt x="98" y="802"/>
                    </a:lnTo>
                    <a:lnTo>
                      <a:pt x="96" y="812"/>
                    </a:lnTo>
                    <a:lnTo>
                      <a:pt x="94" y="816"/>
                    </a:lnTo>
                    <a:lnTo>
                      <a:pt x="94" y="816"/>
                    </a:lnTo>
                    <a:lnTo>
                      <a:pt x="84" y="810"/>
                    </a:lnTo>
                    <a:lnTo>
                      <a:pt x="72" y="804"/>
                    </a:lnTo>
                    <a:lnTo>
                      <a:pt x="60" y="796"/>
                    </a:lnTo>
                    <a:lnTo>
                      <a:pt x="46" y="784"/>
                    </a:lnTo>
                    <a:lnTo>
                      <a:pt x="34" y="768"/>
                    </a:lnTo>
                    <a:lnTo>
                      <a:pt x="22" y="752"/>
                    </a:lnTo>
                    <a:lnTo>
                      <a:pt x="18" y="742"/>
                    </a:lnTo>
                    <a:lnTo>
                      <a:pt x="16" y="730"/>
                    </a:lnTo>
                    <a:lnTo>
                      <a:pt x="16" y="730"/>
                    </a:lnTo>
                    <a:lnTo>
                      <a:pt x="14" y="722"/>
                    </a:lnTo>
                    <a:lnTo>
                      <a:pt x="10" y="722"/>
                    </a:lnTo>
                    <a:lnTo>
                      <a:pt x="8" y="724"/>
                    </a:lnTo>
                    <a:lnTo>
                      <a:pt x="6" y="734"/>
                    </a:lnTo>
                    <a:lnTo>
                      <a:pt x="4" y="762"/>
                    </a:lnTo>
                    <a:lnTo>
                      <a:pt x="0" y="800"/>
                    </a:lnTo>
                    <a:lnTo>
                      <a:pt x="0" y="842"/>
                    </a:lnTo>
                    <a:lnTo>
                      <a:pt x="0" y="884"/>
                    </a:lnTo>
                    <a:lnTo>
                      <a:pt x="0" y="920"/>
                    </a:lnTo>
                    <a:lnTo>
                      <a:pt x="4" y="942"/>
                    </a:lnTo>
                    <a:lnTo>
                      <a:pt x="4" y="942"/>
                    </a:lnTo>
                    <a:lnTo>
                      <a:pt x="8" y="958"/>
                    </a:lnTo>
                    <a:lnTo>
                      <a:pt x="16" y="974"/>
                    </a:lnTo>
                    <a:lnTo>
                      <a:pt x="26" y="990"/>
                    </a:lnTo>
                    <a:lnTo>
                      <a:pt x="38" y="1006"/>
                    </a:lnTo>
                    <a:lnTo>
                      <a:pt x="52" y="1018"/>
                    </a:lnTo>
                    <a:lnTo>
                      <a:pt x="66" y="1030"/>
                    </a:lnTo>
                    <a:lnTo>
                      <a:pt x="80" y="1038"/>
                    </a:lnTo>
                    <a:lnTo>
                      <a:pt x="96" y="1042"/>
                    </a:lnTo>
                    <a:lnTo>
                      <a:pt x="96" y="1042"/>
                    </a:lnTo>
                    <a:lnTo>
                      <a:pt x="106" y="1046"/>
                    </a:lnTo>
                    <a:lnTo>
                      <a:pt x="118" y="1050"/>
                    </a:lnTo>
                    <a:lnTo>
                      <a:pt x="132" y="1058"/>
                    </a:lnTo>
                    <a:lnTo>
                      <a:pt x="146" y="1066"/>
                    </a:lnTo>
                    <a:lnTo>
                      <a:pt x="162" y="1078"/>
                    </a:lnTo>
                    <a:lnTo>
                      <a:pt x="176" y="1092"/>
                    </a:lnTo>
                    <a:lnTo>
                      <a:pt x="190" y="1106"/>
                    </a:lnTo>
                    <a:lnTo>
                      <a:pt x="200" y="1124"/>
                    </a:lnTo>
                    <a:lnTo>
                      <a:pt x="210" y="1142"/>
                    </a:lnTo>
                    <a:lnTo>
                      <a:pt x="214" y="1162"/>
                    </a:lnTo>
                    <a:lnTo>
                      <a:pt x="214" y="1172"/>
                    </a:lnTo>
                    <a:lnTo>
                      <a:pt x="214" y="1184"/>
                    </a:lnTo>
                    <a:lnTo>
                      <a:pt x="212" y="1194"/>
                    </a:lnTo>
                    <a:lnTo>
                      <a:pt x="208" y="1206"/>
                    </a:lnTo>
                    <a:lnTo>
                      <a:pt x="204" y="1218"/>
                    </a:lnTo>
                    <a:lnTo>
                      <a:pt x="198" y="1230"/>
                    </a:lnTo>
                    <a:lnTo>
                      <a:pt x="190" y="1242"/>
                    </a:lnTo>
                    <a:lnTo>
                      <a:pt x="180" y="1256"/>
                    </a:lnTo>
                    <a:lnTo>
                      <a:pt x="168" y="1268"/>
                    </a:lnTo>
                    <a:lnTo>
                      <a:pt x="154" y="1282"/>
                    </a:lnTo>
                    <a:lnTo>
                      <a:pt x="138" y="1294"/>
                    </a:lnTo>
                    <a:lnTo>
                      <a:pt x="120" y="1308"/>
                    </a:lnTo>
                    <a:lnTo>
                      <a:pt x="120" y="1308"/>
                    </a:lnTo>
                    <a:lnTo>
                      <a:pt x="136" y="1308"/>
                    </a:lnTo>
                    <a:lnTo>
                      <a:pt x="154" y="1310"/>
                    </a:lnTo>
                    <a:lnTo>
                      <a:pt x="178" y="1312"/>
                    </a:lnTo>
                    <a:lnTo>
                      <a:pt x="208" y="1318"/>
                    </a:lnTo>
                    <a:lnTo>
                      <a:pt x="242" y="1328"/>
                    </a:lnTo>
                    <a:lnTo>
                      <a:pt x="280" y="1342"/>
                    </a:lnTo>
                    <a:lnTo>
                      <a:pt x="320" y="1362"/>
                    </a:lnTo>
                    <a:lnTo>
                      <a:pt x="320" y="1362"/>
                    </a:lnTo>
                    <a:lnTo>
                      <a:pt x="338" y="1372"/>
                    </a:lnTo>
                    <a:lnTo>
                      <a:pt x="356" y="1376"/>
                    </a:lnTo>
                    <a:lnTo>
                      <a:pt x="374" y="1380"/>
                    </a:lnTo>
                    <a:lnTo>
                      <a:pt x="394" y="1382"/>
                    </a:lnTo>
                    <a:lnTo>
                      <a:pt x="412" y="1380"/>
                    </a:lnTo>
                    <a:lnTo>
                      <a:pt x="430" y="1378"/>
                    </a:lnTo>
                    <a:lnTo>
                      <a:pt x="448" y="1374"/>
                    </a:lnTo>
                    <a:lnTo>
                      <a:pt x="464" y="1370"/>
                    </a:lnTo>
                    <a:lnTo>
                      <a:pt x="496" y="1358"/>
                    </a:lnTo>
                    <a:lnTo>
                      <a:pt x="522" y="1344"/>
                    </a:lnTo>
                    <a:lnTo>
                      <a:pt x="544" y="1332"/>
                    </a:lnTo>
                    <a:lnTo>
                      <a:pt x="558" y="1324"/>
                    </a:lnTo>
                    <a:lnTo>
                      <a:pt x="558" y="1324"/>
                    </a:lnTo>
                    <a:lnTo>
                      <a:pt x="558" y="1362"/>
                    </a:lnTo>
                    <a:lnTo>
                      <a:pt x="558" y="1422"/>
                    </a:lnTo>
                    <a:lnTo>
                      <a:pt x="554" y="1496"/>
                    </a:lnTo>
                    <a:lnTo>
                      <a:pt x="550" y="1534"/>
                    </a:lnTo>
                    <a:lnTo>
                      <a:pt x="546" y="1576"/>
                    </a:lnTo>
                    <a:lnTo>
                      <a:pt x="540" y="1616"/>
                    </a:lnTo>
                    <a:lnTo>
                      <a:pt x="532" y="1656"/>
                    </a:lnTo>
                    <a:lnTo>
                      <a:pt x="524" y="1696"/>
                    </a:lnTo>
                    <a:lnTo>
                      <a:pt x="512" y="1732"/>
                    </a:lnTo>
                    <a:lnTo>
                      <a:pt x="498" y="1764"/>
                    </a:lnTo>
                    <a:lnTo>
                      <a:pt x="482" y="1794"/>
                    </a:lnTo>
                    <a:lnTo>
                      <a:pt x="474" y="1806"/>
                    </a:lnTo>
                    <a:lnTo>
                      <a:pt x="464" y="1816"/>
                    </a:lnTo>
                    <a:lnTo>
                      <a:pt x="454" y="1826"/>
                    </a:lnTo>
                    <a:lnTo>
                      <a:pt x="442" y="1834"/>
                    </a:lnTo>
                    <a:lnTo>
                      <a:pt x="442" y="1834"/>
                    </a:lnTo>
                    <a:lnTo>
                      <a:pt x="438" y="1838"/>
                    </a:lnTo>
                    <a:lnTo>
                      <a:pt x="434" y="1842"/>
                    </a:lnTo>
                    <a:lnTo>
                      <a:pt x="434" y="1846"/>
                    </a:lnTo>
                    <a:lnTo>
                      <a:pt x="434" y="1850"/>
                    </a:lnTo>
                    <a:lnTo>
                      <a:pt x="438" y="1854"/>
                    </a:lnTo>
                    <a:lnTo>
                      <a:pt x="442" y="1858"/>
                    </a:lnTo>
                    <a:lnTo>
                      <a:pt x="442" y="1858"/>
                    </a:lnTo>
                    <a:lnTo>
                      <a:pt x="450" y="1864"/>
                    </a:lnTo>
                    <a:lnTo>
                      <a:pt x="460" y="1868"/>
                    </a:lnTo>
                    <a:lnTo>
                      <a:pt x="470" y="1872"/>
                    </a:lnTo>
                    <a:lnTo>
                      <a:pt x="482" y="1874"/>
                    </a:lnTo>
                    <a:lnTo>
                      <a:pt x="496" y="1874"/>
                    </a:lnTo>
                    <a:lnTo>
                      <a:pt x="512" y="1870"/>
                    </a:lnTo>
                    <a:lnTo>
                      <a:pt x="528" y="1860"/>
                    </a:lnTo>
                    <a:lnTo>
                      <a:pt x="528" y="1860"/>
                    </a:lnTo>
                    <a:lnTo>
                      <a:pt x="532" y="1858"/>
                    </a:lnTo>
                    <a:lnTo>
                      <a:pt x="538" y="1856"/>
                    </a:lnTo>
                    <a:lnTo>
                      <a:pt x="546" y="1856"/>
                    </a:lnTo>
                    <a:lnTo>
                      <a:pt x="550" y="1854"/>
                    </a:lnTo>
                    <a:lnTo>
                      <a:pt x="554" y="1852"/>
                    </a:lnTo>
                    <a:lnTo>
                      <a:pt x="558" y="1848"/>
                    </a:lnTo>
                    <a:lnTo>
                      <a:pt x="562" y="1842"/>
                    </a:lnTo>
                    <a:lnTo>
                      <a:pt x="562" y="1842"/>
                    </a:lnTo>
                    <a:lnTo>
                      <a:pt x="574" y="1814"/>
                    </a:lnTo>
                    <a:lnTo>
                      <a:pt x="586" y="1776"/>
                    </a:lnTo>
                    <a:lnTo>
                      <a:pt x="596" y="1730"/>
                    </a:lnTo>
                    <a:lnTo>
                      <a:pt x="606" y="1672"/>
                    </a:lnTo>
                    <a:lnTo>
                      <a:pt x="614" y="1604"/>
                    </a:lnTo>
                    <a:lnTo>
                      <a:pt x="622" y="1524"/>
                    </a:lnTo>
                    <a:lnTo>
                      <a:pt x="628" y="1432"/>
                    </a:lnTo>
                    <a:lnTo>
                      <a:pt x="634" y="1326"/>
                    </a:lnTo>
                    <a:lnTo>
                      <a:pt x="634" y="1326"/>
                    </a:lnTo>
                    <a:lnTo>
                      <a:pt x="650" y="1338"/>
                    </a:lnTo>
                    <a:lnTo>
                      <a:pt x="672" y="1350"/>
                    </a:lnTo>
                    <a:lnTo>
                      <a:pt x="698" y="1362"/>
                    </a:lnTo>
                    <a:lnTo>
                      <a:pt x="730" y="1372"/>
                    </a:lnTo>
                    <a:lnTo>
                      <a:pt x="746" y="1376"/>
                    </a:lnTo>
                    <a:lnTo>
                      <a:pt x="762" y="1380"/>
                    </a:lnTo>
                    <a:lnTo>
                      <a:pt x="780" y="1382"/>
                    </a:lnTo>
                    <a:lnTo>
                      <a:pt x="796" y="1382"/>
                    </a:lnTo>
                    <a:lnTo>
                      <a:pt x="814" y="1380"/>
                    </a:lnTo>
                    <a:lnTo>
                      <a:pt x="832" y="1376"/>
                    </a:lnTo>
                    <a:lnTo>
                      <a:pt x="850" y="1370"/>
                    </a:lnTo>
                    <a:lnTo>
                      <a:pt x="866" y="1362"/>
                    </a:lnTo>
                    <a:lnTo>
                      <a:pt x="866" y="1362"/>
                    </a:lnTo>
                    <a:lnTo>
                      <a:pt x="906" y="1342"/>
                    </a:lnTo>
                    <a:lnTo>
                      <a:pt x="944" y="1328"/>
                    </a:lnTo>
                    <a:lnTo>
                      <a:pt x="978" y="1318"/>
                    </a:lnTo>
                    <a:lnTo>
                      <a:pt x="1008" y="1312"/>
                    </a:lnTo>
                    <a:lnTo>
                      <a:pt x="1032" y="1310"/>
                    </a:lnTo>
                    <a:lnTo>
                      <a:pt x="1050" y="1308"/>
                    </a:lnTo>
                    <a:lnTo>
                      <a:pt x="1066" y="1308"/>
                    </a:lnTo>
                    <a:lnTo>
                      <a:pt x="1066" y="1308"/>
                    </a:lnTo>
                    <a:lnTo>
                      <a:pt x="1048" y="1294"/>
                    </a:lnTo>
                    <a:lnTo>
                      <a:pt x="1032" y="1282"/>
                    </a:lnTo>
                    <a:lnTo>
                      <a:pt x="1018" y="1268"/>
                    </a:lnTo>
                    <a:lnTo>
                      <a:pt x="1006" y="1256"/>
                    </a:lnTo>
                    <a:lnTo>
                      <a:pt x="998" y="1242"/>
                    </a:lnTo>
                    <a:lnTo>
                      <a:pt x="988" y="1230"/>
                    </a:lnTo>
                    <a:lnTo>
                      <a:pt x="982" y="1218"/>
                    </a:lnTo>
                    <a:lnTo>
                      <a:pt x="978" y="1206"/>
                    </a:lnTo>
                    <a:lnTo>
                      <a:pt x="974" y="1194"/>
                    </a:lnTo>
                    <a:lnTo>
                      <a:pt x="972" y="1184"/>
                    </a:lnTo>
                    <a:lnTo>
                      <a:pt x="972" y="1172"/>
                    </a:lnTo>
                    <a:lnTo>
                      <a:pt x="972" y="1162"/>
                    </a:lnTo>
                    <a:lnTo>
                      <a:pt x="976" y="1142"/>
                    </a:lnTo>
                    <a:lnTo>
                      <a:pt x="986" y="1124"/>
                    </a:lnTo>
                    <a:lnTo>
                      <a:pt x="996" y="1106"/>
                    </a:lnTo>
                    <a:lnTo>
                      <a:pt x="1010" y="1092"/>
                    </a:lnTo>
                    <a:lnTo>
                      <a:pt x="1024" y="1078"/>
                    </a:lnTo>
                    <a:lnTo>
                      <a:pt x="1040" y="1066"/>
                    </a:lnTo>
                    <a:lnTo>
                      <a:pt x="1054" y="1058"/>
                    </a:lnTo>
                    <a:lnTo>
                      <a:pt x="1068" y="1050"/>
                    </a:lnTo>
                    <a:lnTo>
                      <a:pt x="1080" y="1046"/>
                    </a:lnTo>
                    <a:lnTo>
                      <a:pt x="1090" y="1042"/>
                    </a:lnTo>
                    <a:lnTo>
                      <a:pt x="1090" y="1042"/>
                    </a:lnTo>
                    <a:lnTo>
                      <a:pt x="1106" y="1038"/>
                    </a:lnTo>
                    <a:lnTo>
                      <a:pt x="1120" y="1030"/>
                    </a:lnTo>
                    <a:lnTo>
                      <a:pt x="1134" y="1018"/>
                    </a:lnTo>
                    <a:lnTo>
                      <a:pt x="1148" y="1006"/>
                    </a:lnTo>
                    <a:lnTo>
                      <a:pt x="1160" y="990"/>
                    </a:lnTo>
                    <a:lnTo>
                      <a:pt x="1170" y="974"/>
                    </a:lnTo>
                    <a:lnTo>
                      <a:pt x="1178" y="958"/>
                    </a:lnTo>
                    <a:lnTo>
                      <a:pt x="1182" y="942"/>
                    </a:lnTo>
                    <a:lnTo>
                      <a:pt x="1182" y="942"/>
                    </a:lnTo>
                    <a:lnTo>
                      <a:pt x="1186" y="920"/>
                    </a:lnTo>
                    <a:lnTo>
                      <a:pt x="1188" y="884"/>
                    </a:lnTo>
                    <a:lnTo>
                      <a:pt x="1186" y="842"/>
                    </a:lnTo>
                    <a:lnTo>
                      <a:pt x="1186" y="800"/>
                    </a:lnTo>
                    <a:lnTo>
                      <a:pt x="1182" y="762"/>
                    </a:lnTo>
                    <a:lnTo>
                      <a:pt x="1180" y="734"/>
                    </a:lnTo>
                    <a:lnTo>
                      <a:pt x="1178" y="724"/>
                    </a:lnTo>
                    <a:lnTo>
                      <a:pt x="1176" y="722"/>
                    </a:lnTo>
                    <a:lnTo>
                      <a:pt x="1172" y="722"/>
                    </a:lnTo>
                    <a:lnTo>
                      <a:pt x="1170" y="730"/>
                    </a:lnTo>
                    <a:lnTo>
                      <a:pt x="1170" y="730"/>
                    </a:lnTo>
                    <a:close/>
                  </a:path>
                </a:pathLst>
              </a:custGeom>
              <a:solidFill>
                <a:srgbClr val="ed4600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Freeform 39"/>
              <p:cNvSpPr/>
              <p:nvPr/>
            </p:nvSpPr>
            <p:spPr>
              <a:xfrm>
                <a:off x="8829360" y="1270440"/>
                <a:ext cx="314640" cy="776520"/>
              </a:xfrm>
              <a:custGeom>
                <a:avLst/>
                <a:gdLst>
                  <a:gd name="textAreaLeft" fmla="*/ 0 w 314640"/>
                  <a:gd name="textAreaRight" fmla="*/ 315000 w 314640"/>
                  <a:gd name="textAreaTop" fmla="*/ 0 h 776520"/>
                  <a:gd name="textAreaBottom" fmla="*/ 776880 h 776520"/>
                </a:gdLst>
                <a:ahLst/>
                <a:rect l="textAreaLeft" t="textAreaTop" r="textAreaRight" b="textAreaBottom"/>
                <a:pathLst>
                  <a:path w="280" h="690">
                    <a:moveTo>
                      <a:pt x="60" y="500"/>
                    </a:moveTo>
                    <a:lnTo>
                      <a:pt x="60" y="500"/>
                    </a:lnTo>
                    <a:lnTo>
                      <a:pt x="66" y="506"/>
                    </a:lnTo>
                    <a:lnTo>
                      <a:pt x="70" y="516"/>
                    </a:lnTo>
                    <a:lnTo>
                      <a:pt x="74" y="526"/>
                    </a:lnTo>
                    <a:lnTo>
                      <a:pt x="78" y="538"/>
                    </a:lnTo>
                    <a:lnTo>
                      <a:pt x="82" y="566"/>
                    </a:lnTo>
                    <a:lnTo>
                      <a:pt x="82" y="594"/>
                    </a:lnTo>
                    <a:lnTo>
                      <a:pt x="82" y="622"/>
                    </a:lnTo>
                    <a:lnTo>
                      <a:pt x="82" y="648"/>
                    </a:lnTo>
                    <a:lnTo>
                      <a:pt x="78" y="684"/>
                    </a:lnTo>
                    <a:lnTo>
                      <a:pt x="78" y="684"/>
                    </a:lnTo>
                    <a:lnTo>
                      <a:pt x="76" y="690"/>
                    </a:lnTo>
                    <a:lnTo>
                      <a:pt x="78" y="690"/>
                    </a:lnTo>
                    <a:lnTo>
                      <a:pt x="78" y="690"/>
                    </a:lnTo>
                    <a:lnTo>
                      <a:pt x="110" y="672"/>
                    </a:lnTo>
                    <a:lnTo>
                      <a:pt x="132" y="658"/>
                    </a:lnTo>
                    <a:lnTo>
                      <a:pt x="158" y="646"/>
                    </a:lnTo>
                    <a:lnTo>
                      <a:pt x="184" y="636"/>
                    </a:lnTo>
                    <a:lnTo>
                      <a:pt x="210" y="628"/>
                    </a:lnTo>
                    <a:lnTo>
                      <a:pt x="234" y="624"/>
                    </a:lnTo>
                    <a:lnTo>
                      <a:pt x="244" y="624"/>
                    </a:lnTo>
                    <a:lnTo>
                      <a:pt x="252" y="626"/>
                    </a:lnTo>
                    <a:lnTo>
                      <a:pt x="252" y="626"/>
                    </a:lnTo>
                    <a:lnTo>
                      <a:pt x="260" y="612"/>
                    </a:lnTo>
                    <a:lnTo>
                      <a:pt x="280" y="582"/>
                    </a:lnTo>
                    <a:lnTo>
                      <a:pt x="280" y="0"/>
                    </a:lnTo>
                    <a:lnTo>
                      <a:pt x="280" y="0"/>
                    </a:lnTo>
                    <a:lnTo>
                      <a:pt x="250" y="2"/>
                    </a:lnTo>
                    <a:lnTo>
                      <a:pt x="250" y="2"/>
                    </a:lnTo>
                    <a:lnTo>
                      <a:pt x="232" y="4"/>
                    </a:lnTo>
                    <a:lnTo>
                      <a:pt x="216" y="8"/>
                    </a:lnTo>
                    <a:lnTo>
                      <a:pt x="204" y="12"/>
                    </a:lnTo>
                    <a:lnTo>
                      <a:pt x="192" y="18"/>
                    </a:lnTo>
                    <a:lnTo>
                      <a:pt x="182" y="24"/>
                    </a:lnTo>
                    <a:lnTo>
                      <a:pt x="174" y="32"/>
                    </a:lnTo>
                    <a:lnTo>
                      <a:pt x="160" y="46"/>
                    </a:lnTo>
                    <a:lnTo>
                      <a:pt x="152" y="60"/>
                    </a:lnTo>
                    <a:lnTo>
                      <a:pt x="148" y="72"/>
                    </a:lnTo>
                    <a:lnTo>
                      <a:pt x="146" y="84"/>
                    </a:lnTo>
                    <a:lnTo>
                      <a:pt x="146" y="84"/>
                    </a:lnTo>
                    <a:lnTo>
                      <a:pt x="168" y="88"/>
                    </a:lnTo>
                    <a:lnTo>
                      <a:pt x="186" y="94"/>
                    </a:lnTo>
                    <a:lnTo>
                      <a:pt x="202" y="98"/>
                    </a:lnTo>
                    <a:lnTo>
                      <a:pt x="214" y="104"/>
                    </a:lnTo>
                    <a:lnTo>
                      <a:pt x="222" y="110"/>
                    </a:lnTo>
                    <a:lnTo>
                      <a:pt x="228" y="116"/>
                    </a:lnTo>
                    <a:lnTo>
                      <a:pt x="230" y="124"/>
                    </a:lnTo>
                    <a:lnTo>
                      <a:pt x="230" y="130"/>
                    </a:lnTo>
                    <a:lnTo>
                      <a:pt x="230" y="138"/>
                    </a:lnTo>
                    <a:lnTo>
                      <a:pt x="226" y="146"/>
                    </a:lnTo>
                    <a:lnTo>
                      <a:pt x="220" y="152"/>
                    </a:lnTo>
                    <a:lnTo>
                      <a:pt x="212" y="160"/>
                    </a:lnTo>
                    <a:lnTo>
                      <a:pt x="192" y="176"/>
                    </a:lnTo>
                    <a:lnTo>
                      <a:pt x="168" y="190"/>
                    </a:lnTo>
                    <a:lnTo>
                      <a:pt x="142" y="206"/>
                    </a:lnTo>
                    <a:lnTo>
                      <a:pt x="114" y="218"/>
                    </a:lnTo>
                    <a:lnTo>
                      <a:pt x="58" y="242"/>
                    </a:lnTo>
                    <a:lnTo>
                      <a:pt x="16" y="258"/>
                    </a:lnTo>
                    <a:lnTo>
                      <a:pt x="0" y="264"/>
                    </a:lnTo>
                    <a:lnTo>
                      <a:pt x="0" y="264"/>
                    </a:lnTo>
                    <a:lnTo>
                      <a:pt x="20" y="266"/>
                    </a:lnTo>
                    <a:lnTo>
                      <a:pt x="38" y="270"/>
                    </a:lnTo>
                    <a:lnTo>
                      <a:pt x="52" y="274"/>
                    </a:lnTo>
                    <a:lnTo>
                      <a:pt x="66" y="278"/>
                    </a:lnTo>
                    <a:lnTo>
                      <a:pt x="78" y="284"/>
                    </a:lnTo>
                    <a:lnTo>
                      <a:pt x="88" y="290"/>
                    </a:lnTo>
                    <a:lnTo>
                      <a:pt x="96" y="298"/>
                    </a:lnTo>
                    <a:lnTo>
                      <a:pt x="104" y="306"/>
                    </a:lnTo>
                    <a:lnTo>
                      <a:pt x="108" y="316"/>
                    </a:lnTo>
                    <a:lnTo>
                      <a:pt x="112" y="324"/>
                    </a:lnTo>
                    <a:lnTo>
                      <a:pt x="116" y="334"/>
                    </a:lnTo>
                    <a:lnTo>
                      <a:pt x="116" y="344"/>
                    </a:lnTo>
                    <a:lnTo>
                      <a:pt x="116" y="366"/>
                    </a:lnTo>
                    <a:lnTo>
                      <a:pt x="114" y="386"/>
                    </a:lnTo>
                    <a:lnTo>
                      <a:pt x="108" y="408"/>
                    </a:lnTo>
                    <a:lnTo>
                      <a:pt x="100" y="428"/>
                    </a:lnTo>
                    <a:lnTo>
                      <a:pt x="90" y="448"/>
                    </a:lnTo>
                    <a:lnTo>
                      <a:pt x="82" y="464"/>
                    </a:lnTo>
                    <a:lnTo>
                      <a:pt x="66" y="490"/>
                    </a:lnTo>
                    <a:lnTo>
                      <a:pt x="60" y="500"/>
                    </a:lnTo>
                    <a:lnTo>
                      <a:pt x="60" y="500"/>
                    </a:lnTo>
                    <a:close/>
                  </a:path>
                </a:pathLst>
              </a:custGeom>
              <a:solidFill>
                <a:srgbClr val="ed4600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Freeform 88"/>
              <p:cNvSpPr/>
              <p:nvPr/>
            </p:nvSpPr>
            <p:spPr>
              <a:xfrm>
                <a:off x="17280" y="5117400"/>
                <a:ext cx="691920" cy="902880"/>
              </a:xfrm>
              <a:custGeom>
                <a:avLst/>
                <a:gdLst>
                  <a:gd name="textAreaLeft" fmla="*/ 0 w 691920"/>
                  <a:gd name="textAreaRight" fmla="*/ 692280 w 691920"/>
                  <a:gd name="textAreaTop" fmla="*/ 0 h 902880"/>
                  <a:gd name="textAreaBottom" fmla="*/ 903240 h 902880"/>
                </a:gdLst>
                <a:ahLst/>
                <a:rect l="textAreaLeft" t="textAreaTop" r="textAreaRight" b="textAreaBottom"/>
                <a:pathLst>
                  <a:path w="632" h="824">
                    <a:moveTo>
                      <a:pt x="632" y="784"/>
                    </a:moveTo>
                    <a:lnTo>
                      <a:pt x="632" y="784"/>
                    </a:lnTo>
                    <a:lnTo>
                      <a:pt x="628" y="772"/>
                    </a:lnTo>
                    <a:lnTo>
                      <a:pt x="622" y="760"/>
                    </a:lnTo>
                    <a:lnTo>
                      <a:pt x="602" y="726"/>
                    </a:lnTo>
                    <a:lnTo>
                      <a:pt x="572" y="684"/>
                    </a:lnTo>
                    <a:lnTo>
                      <a:pt x="530" y="632"/>
                    </a:lnTo>
                    <a:lnTo>
                      <a:pt x="530" y="632"/>
                    </a:lnTo>
                    <a:lnTo>
                      <a:pt x="520" y="616"/>
                    </a:lnTo>
                    <a:lnTo>
                      <a:pt x="512" y="598"/>
                    </a:lnTo>
                    <a:lnTo>
                      <a:pt x="504" y="580"/>
                    </a:lnTo>
                    <a:lnTo>
                      <a:pt x="500" y="560"/>
                    </a:lnTo>
                    <a:lnTo>
                      <a:pt x="492" y="520"/>
                    </a:lnTo>
                    <a:lnTo>
                      <a:pt x="486" y="476"/>
                    </a:lnTo>
                    <a:lnTo>
                      <a:pt x="486" y="432"/>
                    </a:lnTo>
                    <a:lnTo>
                      <a:pt x="488" y="388"/>
                    </a:lnTo>
                    <a:lnTo>
                      <a:pt x="490" y="346"/>
                    </a:lnTo>
                    <a:lnTo>
                      <a:pt x="496" y="306"/>
                    </a:lnTo>
                    <a:lnTo>
                      <a:pt x="496" y="306"/>
                    </a:lnTo>
                    <a:lnTo>
                      <a:pt x="496" y="288"/>
                    </a:lnTo>
                    <a:lnTo>
                      <a:pt x="496" y="272"/>
                    </a:lnTo>
                    <a:lnTo>
                      <a:pt x="494" y="256"/>
                    </a:lnTo>
                    <a:lnTo>
                      <a:pt x="492" y="244"/>
                    </a:lnTo>
                    <a:lnTo>
                      <a:pt x="486" y="232"/>
                    </a:lnTo>
                    <a:lnTo>
                      <a:pt x="482" y="222"/>
                    </a:lnTo>
                    <a:lnTo>
                      <a:pt x="470" y="206"/>
                    </a:lnTo>
                    <a:lnTo>
                      <a:pt x="456" y="196"/>
                    </a:lnTo>
                    <a:lnTo>
                      <a:pt x="446" y="188"/>
                    </a:lnTo>
                    <a:lnTo>
                      <a:pt x="434" y="184"/>
                    </a:lnTo>
                    <a:lnTo>
                      <a:pt x="434" y="184"/>
                    </a:lnTo>
                    <a:lnTo>
                      <a:pt x="424" y="206"/>
                    </a:lnTo>
                    <a:lnTo>
                      <a:pt x="416" y="222"/>
                    </a:lnTo>
                    <a:lnTo>
                      <a:pt x="408" y="236"/>
                    </a:lnTo>
                    <a:lnTo>
                      <a:pt x="400" y="248"/>
                    </a:lnTo>
                    <a:lnTo>
                      <a:pt x="392" y="254"/>
                    </a:lnTo>
                    <a:lnTo>
                      <a:pt x="384" y="260"/>
                    </a:lnTo>
                    <a:lnTo>
                      <a:pt x="376" y="260"/>
                    </a:lnTo>
                    <a:lnTo>
                      <a:pt x="370" y="260"/>
                    </a:lnTo>
                    <a:lnTo>
                      <a:pt x="362" y="256"/>
                    </a:lnTo>
                    <a:lnTo>
                      <a:pt x="356" y="250"/>
                    </a:lnTo>
                    <a:lnTo>
                      <a:pt x="350" y="244"/>
                    </a:lnTo>
                    <a:lnTo>
                      <a:pt x="344" y="234"/>
                    </a:lnTo>
                    <a:lnTo>
                      <a:pt x="332" y="212"/>
                    </a:lnTo>
                    <a:lnTo>
                      <a:pt x="322" y="184"/>
                    </a:lnTo>
                    <a:lnTo>
                      <a:pt x="312" y="154"/>
                    </a:lnTo>
                    <a:lnTo>
                      <a:pt x="304" y="122"/>
                    </a:lnTo>
                    <a:lnTo>
                      <a:pt x="292" y="62"/>
                    </a:lnTo>
                    <a:lnTo>
                      <a:pt x="284" y="18"/>
                    </a:lnTo>
                    <a:lnTo>
                      <a:pt x="282" y="0"/>
                    </a:lnTo>
                    <a:lnTo>
                      <a:pt x="282" y="0"/>
                    </a:lnTo>
                    <a:lnTo>
                      <a:pt x="276" y="18"/>
                    </a:lnTo>
                    <a:lnTo>
                      <a:pt x="270" y="36"/>
                    </a:lnTo>
                    <a:lnTo>
                      <a:pt x="262" y="50"/>
                    </a:lnTo>
                    <a:lnTo>
                      <a:pt x="254" y="64"/>
                    </a:lnTo>
                    <a:lnTo>
                      <a:pt x="246" y="74"/>
                    </a:lnTo>
                    <a:lnTo>
                      <a:pt x="238" y="82"/>
                    </a:lnTo>
                    <a:lnTo>
                      <a:pt x="228" y="90"/>
                    </a:lnTo>
                    <a:lnTo>
                      <a:pt x="218" y="94"/>
                    </a:lnTo>
                    <a:lnTo>
                      <a:pt x="208" y="98"/>
                    </a:lnTo>
                    <a:lnTo>
                      <a:pt x="198" y="100"/>
                    </a:lnTo>
                    <a:lnTo>
                      <a:pt x="188" y="100"/>
                    </a:lnTo>
                    <a:lnTo>
                      <a:pt x="178" y="100"/>
                    </a:lnTo>
                    <a:lnTo>
                      <a:pt x="156" y="96"/>
                    </a:lnTo>
                    <a:lnTo>
                      <a:pt x="136" y="88"/>
                    </a:lnTo>
                    <a:lnTo>
                      <a:pt x="116" y="78"/>
                    </a:lnTo>
                    <a:lnTo>
                      <a:pt x="96" y="66"/>
                    </a:lnTo>
                    <a:lnTo>
                      <a:pt x="80" y="52"/>
                    </a:lnTo>
                    <a:lnTo>
                      <a:pt x="64" y="40"/>
                    </a:lnTo>
                    <a:lnTo>
                      <a:pt x="42" y="18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26" y="14"/>
                    </a:lnTo>
                    <a:lnTo>
                      <a:pt x="18" y="16"/>
                    </a:lnTo>
                    <a:lnTo>
                      <a:pt x="0" y="20"/>
                    </a:lnTo>
                    <a:lnTo>
                      <a:pt x="0" y="456"/>
                    </a:lnTo>
                    <a:lnTo>
                      <a:pt x="0" y="456"/>
                    </a:lnTo>
                    <a:lnTo>
                      <a:pt x="42" y="468"/>
                    </a:lnTo>
                    <a:lnTo>
                      <a:pt x="80" y="482"/>
                    </a:lnTo>
                    <a:lnTo>
                      <a:pt x="96" y="490"/>
                    </a:lnTo>
                    <a:lnTo>
                      <a:pt x="112" y="498"/>
                    </a:lnTo>
                    <a:lnTo>
                      <a:pt x="124" y="506"/>
                    </a:lnTo>
                    <a:lnTo>
                      <a:pt x="136" y="516"/>
                    </a:lnTo>
                    <a:lnTo>
                      <a:pt x="142" y="526"/>
                    </a:lnTo>
                    <a:lnTo>
                      <a:pt x="146" y="536"/>
                    </a:lnTo>
                    <a:lnTo>
                      <a:pt x="146" y="546"/>
                    </a:lnTo>
                    <a:lnTo>
                      <a:pt x="142" y="556"/>
                    </a:lnTo>
                    <a:lnTo>
                      <a:pt x="134" y="568"/>
                    </a:lnTo>
                    <a:lnTo>
                      <a:pt x="120" y="580"/>
                    </a:lnTo>
                    <a:lnTo>
                      <a:pt x="100" y="592"/>
                    </a:lnTo>
                    <a:lnTo>
                      <a:pt x="76" y="604"/>
                    </a:lnTo>
                    <a:lnTo>
                      <a:pt x="76" y="604"/>
                    </a:lnTo>
                    <a:lnTo>
                      <a:pt x="78" y="610"/>
                    </a:lnTo>
                    <a:lnTo>
                      <a:pt x="82" y="616"/>
                    </a:lnTo>
                    <a:lnTo>
                      <a:pt x="90" y="622"/>
                    </a:lnTo>
                    <a:lnTo>
                      <a:pt x="104" y="626"/>
                    </a:lnTo>
                    <a:lnTo>
                      <a:pt x="122" y="630"/>
                    </a:lnTo>
                    <a:lnTo>
                      <a:pt x="148" y="630"/>
                    </a:lnTo>
                    <a:lnTo>
                      <a:pt x="182" y="626"/>
                    </a:lnTo>
                    <a:lnTo>
                      <a:pt x="182" y="626"/>
                    </a:lnTo>
                    <a:lnTo>
                      <a:pt x="220" y="620"/>
                    </a:lnTo>
                    <a:lnTo>
                      <a:pt x="260" y="614"/>
                    </a:lnTo>
                    <a:lnTo>
                      <a:pt x="300" y="610"/>
                    </a:lnTo>
                    <a:lnTo>
                      <a:pt x="342" y="610"/>
                    </a:lnTo>
                    <a:lnTo>
                      <a:pt x="382" y="610"/>
                    </a:lnTo>
                    <a:lnTo>
                      <a:pt x="422" y="616"/>
                    </a:lnTo>
                    <a:lnTo>
                      <a:pt x="440" y="620"/>
                    </a:lnTo>
                    <a:lnTo>
                      <a:pt x="458" y="624"/>
                    </a:lnTo>
                    <a:lnTo>
                      <a:pt x="476" y="630"/>
                    </a:lnTo>
                    <a:lnTo>
                      <a:pt x="492" y="636"/>
                    </a:lnTo>
                    <a:lnTo>
                      <a:pt x="492" y="636"/>
                    </a:lnTo>
                    <a:lnTo>
                      <a:pt x="526" y="674"/>
                    </a:lnTo>
                    <a:lnTo>
                      <a:pt x="544" y="698"/>
                    </a:lnTo>
                    <a:lnTo>
                      <a:pt x="562" y="722"/>
                    </a:lnTo>
                    <a:lnTo>
                      <a:pt x="576" y="748"/>
                    </a:lnTo>
                    <a:lnTo>
                      <a:pt x="588" y="772"/>
                    </a:lnTo>
                    <a:lnTo>
                      <a:pt x="590" y="784"/>
                    </a:lnTo>
                    <a:lnTo>
                      <a:pt x="594" y="796"/>
                    </a:lnTo>
                    <a:lnTo>
                      <a:pt x="594" y="806"/>
                    </a:lnTo>
                    <a:lnTo>
                      <a:pt x="592" y="818"/>
                    </a:lnTo>
                    <a:lnTo>
                      <a:pt x="592" y="818"/>
                    </a:lnTo>
                    <a:lnTo>
                      <a:pt x="592" y="822"/>
                    </a:lnTo>
                    <a:lnTo>
                      <a:pt x="594" y="824"/>
                    </a:lnTo>
                    <a:lnTo>
                      <a:pt x="598" y="824"/>
                    </a:lnTo>
                    <a:lnTo>
                      <a:pt x="598" y="824"/>
                    </a:lnTo>
                    <a:lnTo>
                      <a:pt x="602" y="824"/>
                    </a:lnTo>
                    <a:lnTo>
                      <a:pt x="612" y="822"/>
                    </a:lnTo>
                    <a:lnTo>
                      <a:pt x="616" y="818"/>
                    </a:lnTo>
                    <a:lnTo>
                      <a:pt x="620" y="814"/>
                    </a:lnTo>
                    <a:lnTo>
                      <a:pt x="624" y="808"/>
                    </a:lnTo>
                    <a:lnTo>
                      <a:pt x="626" y="800"/>
                    </a:lnTo>
                    <a:lnTo>
                      <a:pt x="626" y="800"/>
                    </a:lnTo>
                    <a:lnTo>
                      <a:pt x="630" y="796"/>
                    </a:lnTo>
                    <a:lnTo>
                      <a:pt x="632" y="792"/>
                    </a:lnTo>
                    <a:lnTo>
                      <a:pt x="632" y="784"/>
                    </a:lnTo>
                    <a:close/>
                  </a:path>
                </a:pathLst>
              </a:custGeom>
              <a:solidFill>
                <a:srgbClr val="ed4600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Freeform 47"/>
              <p:cNvSpPr/>
              <p:nvPr/>
            </p:nvSpPr>
            <p:spPr>
              <a:xfrm>
                <a:off x="6480" y="2438280"/>
                <a:ext cx="453240" cy="852480"/>
              </a:xfrm>
              <a:custGeom>
                <a:avLst/>
                <a:gdLst>
                  <a:gd name="textAreaLeft" fmla="*/ 0 w 453240"/>
                  <a:gd name="textAreaRight" fmla="*/ 453600 w 453240"/>
                  <a:gd name="textAreaTop" fmla="*/ 0 h 852480"/>
                  <a:gd name="textAreaBottom" fmla="*/ 852840 h 852480"/>
                </a:gdLst>
                <a:ahLst/>
                <a:rect l="textAreaLeft" t="textAreaTop" r="textAreaRight" b="textAreaBottom"/>
                <a:pathLst>
                  <a:path w="382" h="718">
                    <a:moveTo>
                      <a:pt x="170" y="452"/>
                    </a:moveTo>
                    <a:lnTo>
                      <a:pt x="170" y="452"/>
                    </a:lnTo>
                    <a:lnTo>
                      <a:pt x="194" y="442"/>
                    </a:lnTo>
                    <a:lnTo>
                      <a:pt x="208" y="434"/>
                    </a:lnTo>
                    <a:lnTo>
                      <a:pt x="224" y="424"/>
                    </a:lnTo>
                    <a:lnTo>
                      <a:pt x="238" y="410"/>
                    </a:lnTo>
                    <a:lnTo>
                      <a:pt x="250" y="396"/>
                    </a:lnTo>
                    <a:lnTo>
                      <a:pt x="260" y="378"/>
                    </a:lnTo>
                    <a:lnTo>
                      <a:pt x="264" y="368"/>
                    </a:lnTo>
                    <a:lnTo>
                      <a:pt x="266" y="358"/>
                    </a:lnTo>
                    <a:lnTo>
                      <a:pt x="266" y="358"/>
                    </a:lnTo>
                    <a:lnTo>
                      <a:pt x="270" y="334"/>
                    </a:lnTo>
                    <a:lnTo>
                      <a:pt x="276" y="312"/>
                    </a:lnTo>
                    <a:lnTo>
                      <a:pt x="284" y="294"/>
                    </a:lnTo>
                    <a:lnTo>
                      <a:pt x="292" y="278"/>
                    </a:lnTo>
                    <a:lnTo>
                      <a:pt x="304" y="256"/>
                    </a:lnTo>
                    <a:lnTo>
                      <a:pt x="310" y="250"/>
                    </a:lnTo>
                    <a:lnTo>
                      <a:pt x="310" y="250"/>
                    </a:lnTo>
                    <a:lnTo>
                      <a:pt x="286" y="256"/>
                    </a:lnTo>
                    <a:lnTo>
                      <a:pt x="266" y="258"/>
                    </a:lnTo>
                    <a:lnTo>
                      <a:pt x="248" y="258"/>
                    </a:lnTo>
                    <a:lnTo>
                      <a:pt x="234" y="254"/>
                    </a:lnTo>
                    <a:lnTo>
                      <a:pt x="220" y="250"/>
                    </a:lnTo>
                    <a:lnTo>
                      <a:pt x="212" y="242"/>
                    </a:lnTo>
                    <a:lnTo>
                      <a:pt x="204" y="234"/>
                    </a:lnTo>
                    <a:lnTo>
                      <a:pt x="198" y="224"/>
                    </a:lnTo>
                    <a:lnTo>
                      <a:pt x="194" y="212"/>
                    </a:lnTo>
                    <a:lnTo>
                      <a:pt x="192" y="202"/>
                    </a:lnTo>
                    <a:lnTo>
                      <a:pt x="190" y="180"/>
                    </a:lnTo>
                    <a:lnTo>
                      <a:pt x="194" y="160"/>
                    </a:lnTo>
                    <a:lnTo>
                      <a:pt x="198" y="148"/>
                    </a:lnTo>
                    <a:lnTo>
                      <a:pt x="198" y="148"/>
                    </a:lnTo>
                    <a:lnTo>
                      <a:pt x="200" y="140"/>
                    </a:lnTo>
                    <a:lnTo>
                      <a:pt x="202" y="130"/>
                    </a:lnTo>
                    <a:lnTo>
                      <a:pt x="202" y="120"/>
                    </a:lnTo>
                    <a:lnTo>
                      <a:pt x="200" y="110"/>
                    </a:lnTo>
                    <a:lnTo>
                      <a:pt x="194" y="90"/>
                    </a:lnTo>
                    <a:lnTo>
                      <a:pt x="188" y="80"/>
                    </a:lnTo>
                    <a:lnTo>
                      <a:pt x="184" y="72"/>
                    </a:lnTo>
                    <a:lnTo>
                      <a:pt x="184" y="72"/>
                    </a:lnTo>
                    <a:lnTo>
                      <a:pt x="174" y="64"/>
                    </a:lnTo>
                    <a:lnTo>
                      <a:pt x="158" y="50"/>
                    </a:lnTo>
                    <a:lnTo>
                      <a:pt x="120" y="22"/>
                    </a:lnTo>
                    <a:lnTo>
                      <a:pt x="88" y="4"/>
                    </a:lnTo>
                    <a:lnTo>
                      <a:pt x="80" y="0"/>
                    </a:lnTo>
                    <a:lnTo>
                      <a:pt x="80" y="2"/>
                    </a:lnTo>
                    <a:lnTo>
                      <a:pt x="84" y="6"/>
                    </a:lnTo>
                    <a:lnTo>
                      <a:pt x="84" y="6"/>
                    </a:lnTo>
                    <a:lnTo>
                      <a:pt x="90" y="16"/>
                    </a:lnTo>
                    <a:lnTo>
                      <a:pt x="94" y="28"/>
                    </a:lnTo>
                    <a:lnTo>
                      <a:pt x="96" y="38"/>
                    </a:lnTo>
                    <a:lnTo>
                      <a:pt x="98" y="48"/>
                    </a:lnTo>
                    <a:lnTo>
                      <a:pt x="96" y="64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88" y="68"/>
                    </a:lnTo>
                    <a:lnTo>
                      <a:pt x="80" y="66"/>
                    </a:lnTo>
                    <a:lnTo>
                      <a:pt x="70" y="68"/>
                    </a:lnTo>
                    <a:lnTo>
                      <a:pt x="58" y="72"/>
                    </a:lnTo>
                    <a:lnTo>
                      <a:pt x="48" y="82"/>
                    </a:lnTo>
                    <a:lnTo>
                      <a:pt x="44" y="88"/>
                    </a:lnTo>
                    <a:lnTo>
                      <a:pt x="38" y="96"/>
                    </a:lnTo>
                    <a:lnTo>
                      <a:pt x="34" y="106"/>
                    </a:lnTo>
                    <a:lnTo>
                      <a:pt x="30" y="118"/>
                    </a:lnTo>
                    <a:lnTo>
                      <a:pt x="30" y="118"/>
                    </a:lnTo>
                    <a:lnTo>
                      <a:pt x="26" y="138"/>
                    </a:lnTo>
                    <a:lnTo>
                      <a:pt x="24" y="154"/>
                    </a:lnTo>
                    <a:lnTo>
                      <a:pt x="24" y="180"/>
                    </a:lnTo>
                    <a:lnTo>
                      <a:pt x="24" y="194"/>
                    </a:lnTo>
                    <a:lnTo>
                      <a:pt x="24" y="202"/>
                    </a:lnTo>
                    <a:lnTo>
                      <a:pt x="24" y="202"/>
                    </a:lnTo>
                    <a:lnTo>
                      <a:pt x="22" y="204"/>
                    </a:lnTo>
                    <a:lnTo>
                      <a:pt x="20" y="204"/>
                    </a:lnTo>
                    <a:lnTo>
                      <a:pt x="20" y="202"/>
                    </a:lnTo>
                    <a:lnTo>
                      <a:pt x="20" y="202"/>
                    </a:lnTo>
                    <a:lnTo>
                      <a:pt x="16" y="194"/>
                    </a:lnTo>
                    <a:lnTo>
                      <a:pt x="0" y="146"/>
                    </a:lnTo>
                    <a:lnTo>
                      <a:pt x="0" y="662"/>
                    </a:lnTo>
                    <a:lnTo>
                      <a:pt x="0" y="662"/>
                    </a:lnTo>
                    <a:lnTo>
                      <a:pt x="12" y="650"/>
                    </a:lnTo>
                    <a:lnTo>
                      <a:pt x="30" y="636"/>
                    </a:lnTo>
                    <a:lnTo>
                      <a:pt x="52" y="620"/>
                    </a:lnTo>
                    <a:lnTo>
                      <a:pt x="80" y="606"/>
                    </a:lnTo>
                    <a:lnTo>
                      <a:pt x="80" y="606"/>
                    </a:lnTo>
                    <a:lnTo>
                      <a:pt x="90" y="600"/>
                    </a:lnTo>
                    <a:lnTo>
                      <a:pt x="100" y="594"/>
                    </a:lnTo>
                    <a:lnTo>
                      <a:pt x="108" y="586"/>
                    </a:lnTo>
                    <a:lnTo>
                      <a:pt x="114" y="578"/>
                    </a:lnTo>
                    <a:lnTo>
                      <a:pt x="126" y="560"/>
                    </a:lnTo>
                    <a:lnTo>
                      <a:pt x="132" y="542"/>
                    </a:lnTo>
                    <a:lnTo>
                      <a:pt x="138" y="524"/>
                    </a:lnTo>
                    <a:lnTo>
                      <a:pt x="142" y="508"/>
                    </a:lnTo>
                    <a:lnTo>
                      <a:pt x="144" y="484"/>
                    </a:lnTo>
                    <a:lnTo>
                      <a:pt x="144" y="484"/>
                    </a:lnTo>
                    <a:lnTo>
                      <a:pt x="188" y="518"/>
                    </a:lnTo>
                    <a:lnTo>
                      <a:pt x="220" y="544"/>
                    </a:lnTo>
                    <a:lnTo>
                      <a:pt x="254" y="576"/>
                    </a:lnTo>
                    <a:lnTo>
                      <a:pt x="286" y="610"/>
                    </a:lnTo>
                    <a:lnTo>
                      <a:pt x="300" y="626"/>
                    </a:lnTo>
                    <a:lnTo>
                      <a:pt x="312" y="644"/>
                    </a:lnTo>
                    <a:lnTo>
                      <a:pt x="322" y="662"/>
                    </a:lnTo>
                    <a:lnTo>
                      <a:pt x="330" y="678"/>
                    </a:lnTo>
                    <a:lnTo>
                      <a:pt x="336" y="694"/>
                    </a:lnTo>
                    <a:lnTo>
                      <a:pt x="336" y="710"/>
                    </a:lnTo>
                    <a:lnTo>
                      <a:pt x="336" y="710"/>
                    </a:lnTo>
                    <a:lnTo>
                      <a:pt x="336" y="712"/>
                    </a:lnTo>
                    <a:lnTo>
                      <a:pt x="336" y="716"/>
                    </a:lnTo>
                    <a:lnTo>
                      <a:pt x="340" y="718"/>
                    </a:lnTo>
                    <a:lnTo>
                      <a:pt x="346" y="718"/>
                    </a:lnTo>
                    <a:lnTo>
                      <a:pt x="346" y="718"/>
                    </a:lnTo>
                    <a:lnTo>
                      <a:pt x="352" y="716"/>
                    </a:lnTo>
                    <a:lnTo>
                      <a:pt x="362" y="710"/>
                    </a:lnTo>
                    <a:lnTo>
                      <a:pt x="368" y="706"/>
                    </a:lnTo>
                    <a:lnTo>
                      <a:pt x="372" y="698"/>
                    </a:lnTo>
                    <a:lnTo>
                      <a:pt x="376" y="690"/>
                    </a:lnTo>
                    <a:lnTo>
                      <a:pt x="376" y="680"/>
                    </a:lnTo>
                    <a:lnTo>
                      <a:pt x="376" y="680"/>
                    </a:lnTo>
                    <a:lnTo>
                      <a:pt x="378" y="674"/>
                    </a:lnTo>
                    <a:lnTo>
                      <a:pt x="380" y="670"/>
                    </a:lnTo>
                    <a:lnTo>
                      <a:pt x="382" y="666"/>
                    </a:lnTo>
                    <a:lnTo>
                      <a:pt x="380" y="658"/>
                    </a:lnTo>
                    <a:lnTo>
                      <a:pt x="380" y="658"/>
                    </a:lnTo>
                    <a:lnTo>
                      <a:pt x="372" y="644"/>
                    </a:lnTo>
                    <a:lnTo>
                      <a:pt x="358" y="626"/>
                    </a:lnTo>
                    <a:lnTo>
                      <a:pt x="340" y="606"/>
                    </a:lnTo>
                    <a:lnTo>
                      <a:pt x="318" y="582"/>
                    </a:lnTo>
                    <a:lnTo>
                      <a:pt x="290" y="554"/>
                    </a:lnTo>
                    <a:lnTo>
                      <a:pt x="256" y="524"/>
                    </a:lnTo>
                    <a:lnTo>
                      <a:pt x="170" y="452"/>
                    </a:lnTo>
                    <a:lnTo>
                      <a:pt x="170" y="452"/>
                    </a:lnTo>
                    <a:close/>
                  </a:path>
                </a:pathLst>
              </a:custGeom>
              <a:solidFill>
                <a:srgbClr val="ed4600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3"/>
              <p:cNvSpPr/>
              <p:nvPr/>
            </p:nvSpPr>
            <p:spPr>
              <a:xfrm>
                <a:off x="8551800" y="6180840"/>
                <a:ext cx="592200" cy="677160"/>
              </a:xfrm>
              <a:custGeom>
                <a:avLst/>
                <a:gdLst>
                  <a:gd name="textAreaLeft" fmla="*/ 0 w 592200"/>
                  <a:gd name="textAreaRight" fmla="*/ 592560 w 592200"/>
                  <a:gd name="textAreaTop" fmla="*/ 0 h 677160"/>
                  <a:gd name="textAreaBottom" fmla="*/ 677520 h 677160"/>
                </a:gdLst>
                <a:ahLst/>
                <a:rect l="textAreaLeft" t="textAreaTop" r="textAreaRight" b="textAreaBottom"/>
                <a:pathLst>
                  <a:path w="560" h="640">
                    <a:moveTo>
                      <a:pt x="560" y="100"/>
                    </a:moveTo>
                    <a:lnTo>
                      <a:pt x="560" y="100"/>
                    </a:lnTo>
                    <a:lnTo>
                      <a:pt x="536" y="100"/>
                    </a:lnTo>
                    <a:lnTo>
                      <a:pt x="512" y="98"/>
                    </a:lnTo>
                    <a:lnTo>
                      <a:pt x="512" y="98"/>
                    </a:lnTo>
                    <a:lnTo>
                      <a:pt x="496" y="106"/>
                    </a:lnTo>
                    <a:lnTo>
                      <a:pt x="480" y="114"/>
                    </a:lnTo>
                    <a:lnTo>
                      <a:pt x="464" y="118"/>
                    </a:lnTo>
                    <a:lnTo>
                      <a:pt x="456" y="118"/>
                    </a:lnTo>
                    <a:lnTo>
                      <a:pt x="448" y="118"/>
                    </a:lnTo>
                    <a:lnTo>
                      <a:pt x="442" y="116"/>
                    </a:lnTo>
                    <a:lnTo>
                      <a:pt x="438" y="110"/>
                    </a:lnTo>
                    <a:lnTo>
                      <a:pt x="436" y="104"/>
                    </a:lnTo>
                    <a:lnTo>
                      <a:pt x="434" y="94"/>
                    </a:lnTo>
                    <a:lnTo>
                      <a:pt x="436" y="82"/>
                    </a:lnTo>
                    <a:lnTo>
                      <a:pt x="442" y="66"/>
                    </a:lnTo>
                    <a:lnTo>
                      <a:pt x="442" y="66"/>
                    </a:lnTo>
                    <a:lnTo>
                      <a:pt x="428" y="76"/>
                    </a:lnTo>
                    <a:lnTo>
                      <a:pt x="396" y="106"/>
                    </a:lnTo>
                    <a:lnTo>
                      <a:pt x="378" y="126"/>
                    </a:lnTo>
                    <a:lnTo>
                      <a:pt x="360" y="146"/>
                    </a:lnTo>
                    <a:lnTo>
                      <a:pt x="342" y="170"/>
                    </a:lnTo>
                    <a:lnTo>
                      <a:pt x="328" y="192"/>
                    </a:lnTo>
                    <a:lnTo>
                      <a:pt x="328" y="192"/>
                    </a:lnTo>
                    <a:lnTo>
                      <a:pt x="312" y="160"/>
                    </a:lnTo>
                    <a:lnTo>
                      <a:pt x="300" y="134"/>
                    </a:lnTo>
                    <a:lnTo>
                      <a:pt x="290" y="108"/>
                    </a:lnTo>
                    <a:lnTo>
                      <a:pt x="280" y="80"/>
                    </a:lnTo>
                    <a:lnTo>
                      <a:pt x="276" y="52"/>
                    </a:lnTo>
                    <a:lnTo>
                      <a:pt x="274" y="38"/>
                    </a:lnTo>
                    <a:lnTo>
                      <a:pt x="274" y="26"/>
                    </a:lnTo>
                    <a:lnTo>
                      <a:pt x="276" y="16"/>
                    </a:lnTo>
                    <a:lnTo>
                      <a:pt x="280" y="6"/>
                    </a:lnTo>
                    <a:lnTo>
                      <a:pt x="280" y="6"/>
                    </a:lnTo>
                    <a:lnTo>
                      <a:pt x="282" y="4"/>
                    </a:lnTo>
                    <a:lnTo>
                      <a:pt x="280" y="2"/>
                    </a:lnTo>
                    <a:lnTo>
                      <a:pt x="280" y="0"/>
                    </a:lnTo>
                    <a:lnTo>
                      <a:pt x="262" y="0"/>
                    </a:lnTo>
                    <a:lnTo>
                      <a:pt x="262" y="0"/>
                    </a:lnTo>
                    <a:lnTo>
                      <a:pt x="254" y="4"/>
                    </a:lnTo>
                    <a:lnTo>
                      <a:pt x="252" y="8"/>
                    </a:lnTo>
                    <a:lnTo>
                      <a:pt x="248" y="14"/>
                    </a:lnTo>
                    <a:lnTo>
                      <a:pt x="248" y="14"/>
                    </a:lnTo>
                    <a:lnTo>
                      <a:pt x="246" y="16"/>
                    </a:lnTo>
                    <a:lnTo>
                      <a:pt x="244" y="18"/>
                    </a:lnTo>
                    <a:lnTo>
                      <a:pt x="242" y="20"/>
                    </a:lnTo>
                    <a:lnTo>
                      <a:pt x="240" y="26"/>
                    </a:lnTo>
                    <a:lnTo>
                      <a:pt x="240" y="26"/>
                    </a:lnTo>
                    <a:lnTo>
                      <a:pt x="240" y="36"/>
                    </a:lnTo>
                    <a:lnTo>
                      <a:pt x="244" y="50"/>
                    </a:lnTo>
                    <a:lnTo>
                      <a:pt x="254" y="88"/>
                    </a:lnTo>
                    <a:lnTo>
                      <a:pt x="274" y="138"/>
                    </a:lnTo>
                    <a:lnTo>
                      <a:pt x="304" y="204"/>
                    </a:lnTo>
                    <a:lnTo>
                      <a:pt x="304" y="204"/>
                    </a:lnTo>
                    <a:lnTo>
                      <a:pt x="278" y="202"/>
                    </a:lnTo>
                    <a:lnTo>
                      <a:pt x="250" y="204"/>
                    </a:lnTo>
                    <a:lnTo>
                      <a:pt x="222" y="206"/>
                    </a:lnTo>
                    <a:lnTo>
                      <a:pt x="196" y="210"/>
                    </a:lnTo>
                    <a:lnTo>
                      <a:pt x="154" y="220"/>
                    </a:lnTo>
                    <a:lnTo>
                      <a:pt x="136" y="224"/>
                    </a:lnTo>
                    <a:lnTo>
                      <a:pt x="136" y="224"/>
                    </a:lnTo>
                    <a:lnTo>
                      <a:pt x="152" y="230"/>
                    </a:lnTo>
                    <a:lnTo>
                      <a:pt x="164" y="234"/>
                    </a:lnTo>
                    <a:lnTo>
                      <a:pt x="172" y="242"/>
                    </a:lnTo>
                    <a:lnTo>
                      <a:pt x="176" y="248"/>
                    </a:lnTo>
                    <a:lnTo>
                      <a:pt x="178" y="254"/>
                    </a:lnTo>
                    <a:lnTo>
                      <a:pt x="176" y="260"/>
                    </a:lnTo>
                    <a:lnTo>
                      <a:pt x="172" y="266"/>
                    </a:lnTo>
                    <a:lnTo>
                      <a:pt x="166" y="272"/>
                    </a:lnTo>
                    <a:lnTo>
                      <a:pt x="154" y="284"/>
                    </a:lnTo>
                    <a:lnTo>
                      <a:pt x="138" y="292"/>
                    </a:lnTo>
                    <a:lnTo>
                      <a:pt x="122" y="300"/>
                    </a:lnTo>
                    <a:lnTo>
                      <a:pt x="122" y="300"/>
                    </a:lnTo>
                    <a:lnTo>
                      <a:pt x="108" y="326"/>
                    </a:lnTo>
                    <a:lnTo>
                      <a:pt x="90" y="348"/>
                    </a:lnTo>
                    <a:lnTo>
                      <a:pt x="72" y="368"/>
                    </a:lnTo>
                    <a:lnTo>
                      <a:pt x="54" y="386"/>
                    </a:lnTo>
                    <a:lnTo>
                      <a:pt x="22" y="414"/>
                    </a:lnTo>
                    <a:lnTo>
                      <a:pt x="0" y="428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48" y="414"/>
                    </a:lnTo>
                    <a:lnTo>
                      <a:pt x="86" y="406"/>
                    </a:lnTo>
                    <a:lnTo>
                      <a:pt x="102" y="404"/>
                    </a:lnTo>
                    <a:lnTo>
                      <a:pt x="116" y="404"/>
                    </a:lnTo>
                    <a:lnTo>
                      <a:pt x="126" y="404"/>
                    </a:lnTo>
                    <a:lnTo>
                      <a:pt x="136" y="406"/>
                    </a:lnTo>
                    <a:lnTo>
                      <a:pt x="144" y="410"/>
                    </a:lnTo>
                    <a:lnTo>
                      <a:pt x="148" y="414"/>
                    </a:lnTo>
                    <a:lnTo>
                      <a:pt x="152" y="418"/>
                    </a:lnTo>
                    <a:lnTo>
                      <a:pt x="156" y="424"/>
                    </a:lnTo>
                    <a:lnTo>
                      <a:pt x="156" y="430"/>
                    </a:lnTo>
                    <a:lnTo>
                      <a:pt x="156" y="438"/>
                    </a:lnTo>
                    <a:lnTo>
                      <a:pt x="154" y="454"/>
                    </a:lnTo>
                    <a:lnTo>
                      <a:pt x="146" y="470"/>
                    </a:lnTo>
                    <a:lnTo>
                      <a:pt x="138" y="486"/>
                    </a:lnTo>
                    <a:lnTo>
                      <a:pt x="116" y="518"/>
                    </a:lnTo>
                    <a:lnTo>
                      <a:pt x="98" y="540"/>
                    </a:lnTo>
                    <a:lnTo>
                      <a:pt x="90" y="550"/>
                    </a:lnTo>
                    <a:lnTo>
                      <a:pt x="90" y="550"/>
                    </a:lnTo>
                    <a:lnTo>
                      <a:pt x="110" y="544"/>
                    </a:lnTo>
                    <a:lnTo>
                      <a:pt x="126" y="542"/>
                    </a:lnTo>
                    <a:lnTo>
                      <a:pt x="138" y="542"/>
                    </a:lnTo>
                    <a:lnTo>
                      <a:pt x="148" y="544"/>
                    </a:lnTo>
                    <a:lnTo>
                      <a:pt x="158" y="550"/>
                    </a:lnTo>
                    <a:lnTo>
                      <a:pt x="164" y="556"/>
                    </a:lnTo>
                    <a:lnTo>
                      <a:pt x="168" y="564"/>
                    </a:lnTo>
                    <a:lnTo>
                      <a:pt x="170" y="572"/>
                    </a:lnTo>
                    <a:lnTo>
                      <a:pt x="172" y="592"/>
                    </a:lnTo>
                    <a:lnTo>
                      <a:pt x="172" y="608"/>
                    </a:lnTo>
                    <a:lnTo>
                      <a:pt x="168" y="626"/>
                    </a:lnTo>
                    <a:lnTo>
                      <a:pt x="168" y="626"/>
                    </a:lnTo>
                    <a:lnTo>
                      <a:pt x="178" y="624"/>
                    </a:lnTo>
                    <a:lnTo>
                      <a:pt x="186" y="626"/>
                    </a:lnTo>
                    <a:lnTo>
                      <a:pt x="192" y="632"/>
                    </a:lnTo>
                    <a:lnTo>
                      <a:pt x="198" y="640"/>
                    </a:lnTo>
                    <a:lnTo>
                      <a:pt x="280" y="640"/>
                    </a:lnTo>
                    <a:lnTo>
                      <a:pt x="280" y="640"/>
                    </a:lnTo>
                    <a:lnTo>
                      <a:pt x="296" y="632"/>
                    </a:lnTo>
                    <a:lnTo>
                      <a:pt x="310" y="628"/>
                    </a:lnTo>
                    <a:lnTo>
                      <a:pt x="320" y="628"/>
                    </a:lnTo>
                    <a:lnTo>
                      <a:pt x="322" y="628"/>
                    </a:lnTo>
                    <a:lnTo>
                      <a:pt x="322" y="628"/>
                    </a:lnTo>
                    <a:lnTo>
                      <a:pt x="322" y="620"/>
                    </a:lnTo>
                    <a:lnTo>
                      <a:pt x="324" y="608"/>
                    </a:lnTo>
                    <a:lnTo>
                      <a:pt x="330" y="580"/>
                    </a:lnTo>
                    <a:lnTo>
                      <a:pt x="344" y="530"/>
                    </a:lnTo>
                    <a:lnTo>
                      <a:pt x="344" y="530"/>
                    </a:lnTo>
                    <a:lnTo>
                      <a:pt x="346" y="526"/>
                    </a:lnTo>
                    <a:lnTo>
                      <a:pt x="348" y="522"/>
                    </a:lnTo>
                    <a:lnTo>
                      <a:pt x="352" y="524"/>
                    </a:lnTo>
                    <a:lnTo>
                      <a:pt x="354" y="526"/>
                    </a:lnTo>
                    <a:lnTo>
                      <a:pt x="356" y="530"/>
                    </a:lnTo>
                    <a:lnTo>
                      <a:pt x="358" y="534"/>
                    </a:lnTo>
                    <a:lnTo>
                      <a:pt x="358" y="534"/>
                    </a:lnTo>
                    <a:lnTo>
                      <a:pt x="358" y="544"/>
                    </a:lnTo>
                    <a:lnTo>
                      <a:pt x="358" y="556"/>
                    </a:lnTo>
                    <a:lnTo>
                      <a:pt x="364" y="584"/>
                    </a:lnTo>
                    <a:lnTo>
                      <a:pt x="372" y="612"/>
                    </a:lnTo>
                    <a:lnTo>
                      <a:pt x="382" y="640"/>
                    </a:lnTo>
                    <a:lnTo>
                      <a:pt x="424" y="640"/>
                    </a:lnTo>
                    <a:lnTo>
                      <a:pt x="424" y="640"/>
                    </a:lnTo>
                    <a:lnTo>
                      <a:pt x="432" y="630"/>
                    </a:lnTo>
                    <a:lnTo>
                      <a:pt x="438" y="624"/>
                    </a:lnTo>
                    <a:lnTo>
                      <a:pt x="446" y="620"/>
                    </a:lnTo>
                    <a:lnTo>
                      <a:pt x="452" y="620"/>
                    </a:lnTo>
                    <a:lnTo>
                      <a:pt x="458" y="622"/>
                    </a:lnTo>
                    <a:lnTo>
                      <a:pt x="464" y="628"/>
                    </a:lnTo>
                    <a:lnTo>
                      <a:pt x="470" y="632"/>
                    </a:lnTo>
                    <a:lnTo>
                      <a:pt x="474" y="640"/>
                    </a:lnTo>
                    <a:lnTo>
                      <a:pt x="560" y="640"/>
                    </a:lnTo>
                    <a:lnTo>
                      <a:pt x="560" y="100"/>
                    </a:lnTo>
                    <a:close/>
                  </a:path>
                </a:pathLst>
              </a:custGeom>
              <a:solidFill>
                <a:srgbClr val="ed4600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" name="Group 26"/>
            <p:cNvGrpSpPr/>
            <p:nvPr/>
          </p:nvGrpSpPr>
          <p:grpSpPr>
            <a:xfrm>
              <a:off x="-10440" y="0"/>
              <a:ext cx="9472680" cy="6858000"/>
              <a:chOff x="-10440" y="0"/>
              <a:chExt cx="9472680" cy="6858000"/>
            </a:xfrm>
          </p:grpSpPr>
          <p:sp>
            <p:nvSpPr>
              <p:cNvPr id="25" name="Freeform 16"/>
              <p:cNvSpPr/>
              <p:nvPr/>
            </p:nvSpPr>
            <p:spPr>
              <a:xfrm rot="9111600">
                <a:off x="7790040" y="1465200"/>
                <a:ext cx="1284480" cy="1965960"/>
              </a:xfrm>
              <a:custGeom>
                <a:avLst/>
                <a:gdLst>
                  <a:gd name="textAreaLeft" fmla="*/ 0 w 1284480"/>
                  <a:gd name="textAreaRight" fmla="*/ 1284840 w 1284480"/>
                  <a:gd name="textAreaTop" fmla="*/ 0 h 1965960"/>
                  <a:gd name="textAreaBottom" fmla="*/ 1966320 h 1965960"/>
                </a:gdLst>
                <a:ahLst/>
                <a:rect l="textAreaLeft" t="textAreaTop" r="textAreaRight" b="textAreaBottom"/>
                <a:pathLst>
                  <a:path w="944" h="1444">
                    <a:moveTo>
                      <a:pt x="924" y="732"/>
                    </a:moveTo>
                    <a:lnTo>
                      <a:pt x="924" y="732"/>
                    </a:lnTo>
                    <a:lnTo>
                      <a:pt x="932" y="706"/>
                    </a:lnTo>
                    <a:lnTo>
                      <a:pt x="938" y="678"/>
                    </a:lnTo>
                    <a:lnTo>
                      <a:pt x="942" y="650"/>
                    </a:lnTo>
                    <a:lnTo>
                      <a:pt x="944" y="622"/>
                    </a:lnTo>
                    <a:lnTo>
                      <a:pt x="942" y="598"/>
                    </a:lnTo>
                    <a:lnTo>
                      <a:pt x="938" y="578"/>
                    </a:lnTo>
                    <a:lnTo>
                      <a:pt x="934" y="570"/>
                    </a:lnTo>
                    <a:lnTo>
                      <a:pt x="932" y="564"/>
                    </a:lnTo>
                    <a:lnTo>
                      <a:pt x="926" y="558"/>
                    </a:lnTo>
                    <a:lnTo>
                      <a:pt x="922" y="556"/>
                    </a:lnTo>
                    <a:lnTo>
                      <a:pt x="922" y="556"/>
                    </a:lnTo>
                    <a:lnTo>
                      <a:pt x="916" y="554"/>
                    </a:lnTo>
                    <a:lnTo>
                      <a:pt x="906" y="552"/>
                    </a:lnTo>
                    <a:lnTo>
                      <a:pt x="886" y="554"/>
                    </a:lnTo>
                    <a:lnTo>
                      <a:pt x="862" y="558"/>
                    </a:lnTo>
                    <a:lnTo>
                      <a:pt x="838" y="566"/>
                    </a:lnTo>
                    <a:lnTo>
                      <a:pt x="788" y="582"/>
                    </a:lnTo>
                    <a:lnTo>
                      <a:pt x="752" y="596"/>
                    </a:lnTo>
                    <a:lnTo>
                      <a:pt x="752" y="596"/>
                    </a:lnTo>
                    <a:lnTo>
                      <a:pt x="750" y="596"/>
                    </a:lnTo>
                    <a:lnTo>
                      <a:pt x="750" y="596"/>
                    </a:lnTo>
                    <a:lnTo>
                      <a:pt x="726" y="608"/>
                    </a:lnTo>
                    <a:lnTo>
                      <a:pt x="706" y="618"/>
                    </a:lnTo>
                    <a:lnTo>
                      <a:pt x="692" y="630"/>
                    </a:lnTo>
                    <a:lnTo>
                      <a:pt x="678" y="638"/>
                    </a:lnTo>
                    <a:lnTo>
                      <a:pt x="662" y="654"/>
                    </a:lnTo>
                    <a:lnTo>
                      <a:pt x="658" y="658"/>
                    </a:lnTo>
                    <a:lnTo>
                      <a:pt x="654" y="660"/>
                    </a:lnTo>
                    <a:lnTo>
                      <a:pt x="654" y="660"/>
                    </a:lnTo>
                    <a:lnTo>
                      <a:pt x="650" y="660"/>
                    </a:lnTo>
                    <a:lnTo>
                      <a:pt x="648" y="658"/>
                    </a:lnTo>
                    <a:lnTo>
                      <a:pt x="650" y="654"/>
                    </a:lnTo>
                    <a:lnTo>
                      <a:pt x="650" y="654"/>
                    </a:lnTo>
                    <a:lnTo>
                      <a:pt x="660" y="638"/>
                    </a:lnTo>
                    <a:lnTo>
                      <a:pt x="724" y="548"/>
                    </a:lnTo>
                    <a:lnTo>
                      <a:pt x="724" y="548"/>
                    </a:lnTo>
                    <a:lnTo>
                      <a:pt x="736" y="528"/>
                    </a:lnTo>
                    <a:lnTo>
                      <a:pt x="744" y="506"/>
                    </a:lnTo>
                    <a:lnTo>
                      <a:pt x="748" y="484"/>
                    </a:lnTo>
                    <a:lnTo>
                      <a:pt x="750" y="462"/>
                    </a:lnTo>
                    <a:lnTo>
                      <a:pt x="750" y="438"/>
                    </a:lnTo>
                    <a:lnTo>
                      <a:pt x="748" y="414"/>
                    </a:lnTo>
                    <a:lnTo>
                      <a:pt x="744" y="390"/>
                    </a:lnTo>
                    <a:lnTo>
                      <a:pt x="740" y="368"/>
                    </a:lnTo>
                    <a:lnTo>
                      <a:pt x="728" y="328"/>
                    </a:lnTo>
                    <a:lnTo>
                      <a:pt x="716" y="294"/>
                    </a:lnTo>
                    <a:lnTo>
                      <a:pt x="702" y="264"/>
                    </a:lnTo>
                    <a:lnTo>
                      <a:pt x="702" y="264"/>
                    </a:lnTo>
                    <a:lnTo>
                      <a:pt x="680" y="260"/>
                    </a:lnTo>
                    <a:lnTo>
                      <a:pt x="660" y="254"/>
                    </a:lnTo>
                    <a:lnTo>
                      <a:pt x="642" y="248"/>
                    </a:lnTo>
                    <a:lnTo>
                      <a:pt x="624" y="240"/>
                    </a:lnTo>
                    <a:lnTo>
                      <a:pt x="594" y="224"/>
                    </a:lnTo>
                    <a:lnTo>
                      <a:pt x="566" y="204"/>
                    </a:lnTo>
                    <a:lnTo>
                      <a:pt x="544" y="184"/>
                    </a:lnTo>
                    <a:lnTo>
                      <a:pt x="526" y="162"/>
                    </a:lnTo>
                    <a:lnTo>
                      <a:pt x="510" y="138"/>
                    </a:lnTo>
                    <a:lnTo>
                      <a:pt x="498" y="116"/>
                    </a:lnTo>
                    <a:lnTo>
                      <a:pt x="490" y="92"/>
                    </a:lnTo>
                    <a:lnTo>
                      <a:pt x="482" y="72"/>
                    </a:lnTo>
                    <a:lnTo>
                      <a:pt x="478" y="52"/>
                    </a:lnTo>
                    <a:lnTo>
                      <a:pt x="474" y="34"/>
                    </a:lnTo>
                    <a:lnTo>
                      <a:pt x="472" y="8"/>
                    </a:lnTo>
                    <a:lnTo>
                      <a:pt x="472" y="0"/>
                    </a:lnTo>
                    <a:lnTo>
                      <a:pt x="472" y="2"/>
                    </a:lnTo>
                    <a:lnTo>
                      <a:pt x="472" y="0"/>
                    </a:lnTo>
                    <a:lnTo>
                      <a:pt x="472" y="0"/>
                    </a:lnTo>
                    <a:lnTo>
                      <a:pt x="470" y="8"/>
                    </a:lnTo>
                    <a:lnTo>
                      <a:pt x="468" y="34"/>
                    </a:lnTo>
                    <a:lnTo>
                      <a:pt x="466" y="52"/>
                    </a:lnTo>
                    <a:lnTo>
                      <a:pt x="460" y="72"/>
                    </a:lnTo>
                    <a:lnTo>
                      <a:pt x="454" y="92"/>
                    </a:lnTo>
                    <a:lnTo>
                      <a:pt x="444" y="116"/>
                    </a:lnTo>
                    <a:lnTo>
                      <a:pt x="432" y="138"/>
                    </a:lnTo>
                    <a:lnTo>
                      <a:pt x="418" y="162"/>
                    </a:lnTo>
                    <a:lnTo>
                      <a:pt x="398" y="184"/>
                    </a:lnTo>
                    <a:lnTo>
                      <a:pt x="376" y="204"/>
                    </a:lnTo>
                    <a:lnTo>
                      <a:pt x="350" y="224"/>
                    </a:lnTo>
                    <a:lnTo>
                      <a:pt x="318" y="240"/>
                    </a:lnTo>
                    <a:lnTo>
                      <a:pt x="300" y="248"/>
                    </a:lnTo>
                    <a:lnTo>
                      <a:pt x="282" y="254"/>
                    </a:lnTo>
                    <a:lnTo>
                      <a:pt x="262" y="260"/>
                    </a:lnTo>
                    <a:lnTo>
                      <a:pt x="240" y="264"/>
                    </a:lnTo>
                    <a:lnTo>
                      <a:pt x="240" y="264"/>
                    </a:lnTo>
                    <a:lnTo>
                      <a:pt x="226" y="294"/>
                    </a:lnTo>
                    <a:lnTo>
                      <a:pt x="214" y="328"/>
                    </a:lnTo>
                    <a:lnTo>
                      <a:pt x="202" y="368"/>
                    </a:lnTo>
                    <a:lnTo>
                      <a:pt x="198" y="390"/>
                    </a:lnTo>
                    <a:lnTo>
                      <a:pt x="194" y="414"/>
                    </a:lnTo>
                    <a:lnTo>
                      <a:pt x="192" y="438"/>
                    </a:lnTo>
                    <a:lnTo>
                      <a:pt x="192" y="462"/>
                    </a:lnTo>
                    <a:lnTo>
                      <a:pt x="194" y="484"/>
                    </a:lnTo>
                    <a:lnTo>
                      <a:pt x="198" y="506"/>
                    </a:lnTo>
                    <a:lnTo>
                      <a:pt x="208" y="528"/>
                    </a:lnTo>
                    <a:lnTo>
                      <a:pt x="218" y="548"/>
                    </a:lnTo>
                    <a:lnTo>
                      <a:pt x="218" y="548"/>
                    </a:lnTo>
                    <a:lnTo>
                      <a:pt x="282" y="638"/>
                    </a:lnTo>
                    <a:lnTo>
                      <a:pt x="292" y="654"/>
                    </a:lnTo>
                    <a:lnTo>
                      <a:pt x="292" y="654"/>
                    </a:lnTo>
                    <a:lnTo>
                      <a:pt x="294" y="658"/>
                    </a:lnTo>
                    <a:lnTo>
                      <a:pt x="292" y="660"/>
                    </a:lnTo>
                    <a:lnTo>
                      <a:pt x="288" y="660"/>
                    </a:lnTo>
                    <a:lnTo>
                      <a:pt x="288" y="660"/>
                    </a:lnTo>
                    <a:lnTo>
                      <a:pt x="284" y="658"/>
                    </a:lnTo>
                    <a:lnTo>
                      <a:pt x="280" y="654"/>
                    </a:lnTo>
                    <a:lnTo>
                      <a:pt x="266" y="640"/>
                    </a:lnTo>
                    <a:lnTo>
                      <a:pt x="254" y="632"/>
                    </a:lnTo>
                    <a:lnTo>
                      <a:pt x="240" y="622"/>
                    </a:lnTo>
                    <a:lnTo>
                      <a:pt x="224" y="612"/>
                    </a:lnTo>
                    <a:lnTo>
                      <a:pt x="202" y="602"/>
                    </a:lnTo>
                    <a:lnTo>
                      <a:pt x="202" y="600"/>
                    </a:lnTo>
                    <a:lnTo>
                      <a:pt x="202" y="600"/>
                    </a:lnTo>
                    <a:lnTo>
                      <a:pt x="180" y="592"/>
                    </a:lnTo>
                    <a:lnTo>
                      <a:pt x="126" y="572"/>
                    </a:lnTo>
                    <a:lnTo>
                      <a:pt x="96" y="562"/>
                    </a:lnTo>
                    <a:lnTo>
                      <a:pt x="66" y="556"/>
                    </a:lnTo>
                    <a:lnTo>
                      <a:pt x="42" y="552"/>
                    </a:lnTo>
                    <a:lnTo>
                      <a:pt x="30" y="552"/>
                    </a:lnTo>
                    <a:lnTo>
                      <a:pt x="22" y="556"/>
                    </a:lnTo>
                    <a:lnTo>
                      <a:pt x="22" y="556"/>
                    </a:lnTo>
                    <a:lnTo>
                      <a:pt x="18" y="558"/>
                    </a:lnTo>
                    <a:lnTo>
                      <a:pt x="14" y="562"/>
                    </a:lnTo>
                    <a:lnTo>
                      <a:pt x="8" y="576"/>
                    </a:lnTo>
                    <a:lnTo>
                      <a:pt x="2" y="594"/>
                    </a:lnTo>
                    <a:lnTo>
                      <a:pt x="0" y="616"/>
                    </a:lnTo>
                    <a:lnTo>
                      <a:pt x="2" y="640"/>
                    </a:lnTo>
                    <a:lnTo>
                      <a:pt x="4" y="666"/>
                    </a:lnTo>
                    <a:lnTo>
                      <a:pt x="8" y="692"/>
                    </a:lnTo>
                    <a:lnTo>
                      <a:pt x="16" y="718"/>
                    </a:lnTo>
                    <a:lnTo>
                      <a:pt x="16" y="718"/>
                    </a:lnTo>
                    <a:lnTo>
                      <a:pt x="16" y="726"/>
                    </a:lnTo>
                    <a:lnTo>
                      <a:pt x="16" y="726"/>
                    </a:lnTo>
                    <a:lnTo>
                      <a:pt x="22" y="740"/>
                    </a:lnTo>
                    <a:lnTo>
                      <a:pt x="30" y="754"/>
                    </a:lnTo>
                    <a:lnTo>
                      <a:pt x="38" y="768"/>
                    </a:lnTo>
                    <a:lnTo>
                      <a:pt x="50" y="782"/>
                    </a:lnTo>
                    <a:lnTo>
                      <a:pt x="50" y="782"/>
                    </a:lnTo>
                    <a:lnTo>
                      <a:pt x="52" y="782"/>
                    </a:lnTo>
                    <a:lnTo>
                      <a:pt x="52" y="782"/>
                    </a:lnTo>
                    <a:lnTo>
                      <a:pt x="60" y="790"/>
                    </a:lnTo>
                    <a:lnTo>
                      <a:pt x="70" y="796"/>
                    </a:lnTo>
                    <a:lnTo>
                      <a:pt x="78" y="800"/>
                    </a:lnTo>
                    <a:lnTo>
                      <a:pt x="88" y="804"/>
                    </a:lnTo>
                    <a:lnTo>
                      <a:pt x="88" y="804"/>
                    </a:lnTo>
                    <a:lnTo>
                      <a:pt x="104" y="808"/>
                    </a:lnTo>
                    <a:lnTo>
                      <a:pt x="128" y="822"/>
                    </a:lnTo>
                    <a:lnTo>
                      <a:pt x="138" y="830"/>
                    </a:lnTo>
                    <a:lnTo>
                      <a:pt x="150" y="840"/>
                    </a:lnTo>
                    <a:lnTo>
                      <a:pt x="160" y="852"/>
                    </a:lnTo>
                    <a:lnTo>
                      <a:pt x="168" y="866"/>
                    </a:lnTo>
                    <a:lnTo>
                      <a:pt x="176" y="880"/>
                    </a:lnTo>
                    <a:lnTo>
                      <a:pt x="178" y="896"/>
                    </a:lnTo>
                    <a:lnTo>
                      <a:pt x="178" y="912"/>
                    </a:lnTo>
                    <a:lnTo>
                      <a:pt x="174" y="930"/>
                    </a:lnTo>
                    <a:lnTo>
                      <a:pt x="166" y="948"/>
                    </a:lnTo>
                    <a:lnTo>
                      <a:pt x="152" y="968"/>
                    </a:lnTo>
                    <a:lnTo>
                      <a:pt x="132" y="988"/>
                    </a:lnTo>
                    <a:lnTo>
                      <a:pt x="106" y="1008"/>
                    </a:lnTo>
                    <a:lnTo>
                      <a:pt x="106" y="1008"/>
                    </a:lnTo>
                    <a:lnTo>
                      <a:pt x="118" y="1008"/>
                    </a:lnTo>
                    <a:lnTo>
                      <a:pt x="132" y="1008"/>
                    </a:lnTo>
                    <a:lnTo>
                      <a:pt x="152" y="1012"/>
                    </a:lnTo>
                    <a:lnTo>
                      <a:pt x="174" y="1016"/>
                    </a:lnTo>
                    <a:lnTo>
                      <a:pt x="202" y="1024"/>
                    </a:lnTo>
                    <a:lnTo>
                      <a:pt x="230" y="1034"/>
                    </a:lnTo>
                    <a:lnTo>
                      <a:pt x="260" y="1050"/>
                    </a:lnTo>
                    <a:lnTo>
                      <a:pt x="260" y="1050"/>
                    </a:lnTo>
                    <a:lnTo>
                      <a:pt x="274" y="1056"/>
                    </a:lnTo>
                    <a:lnTo>
                      <a:pt x="288" y="1060"/>
                    </a:lnTo>
                    <a:lnTo>
                      <a:pt x="304" y="1064"/>
                    </a:lnTo>
                    <a:lnTo>
                      <a:pt x="318" y="1064"/>
                    </a:lnTo>
                    <a:lnTo>
                      <a:pt x="332" y="1064"/>
                    </a:lnTo>
                    <a:lnTo>
                      <a:pt x="346" y="1062"/>
                    </a:lnTo>
                    <a:lnTo>
                      <a:pt x="372" y="1056"/>
                    </a:lnTo>
                    <a:lnTo>
                      <a:pt x="396" y="1046"/>
                    </a:lnTo>
                    <a:lnTo>
                      <a:pt x="418" y="1036"/>
                    </a:lnTo>
                    <a:lnTo>
                      <a:pt x="444" y="1020"/>
                    </a:lnTo>
                    <a:lnTo>
                      <a:pt x="444" y="1020"/>
                    </a:lnTo>
                    <a:lnTo>
                      <a:pt x="444" y="1050"/>
                    </a:lnTo>
                    <a:lnTo>
                      <a:pt x="444" y="1096"/>
                    </a:lnTo>
                    <a:lnTo>
                      <a:pt x="442" y="1152"/>
                    </a:lnTo>
                    <a:lnTo>
                      <a:pt x="436" y="1214"/>
                    </a:lnTo>
                    <a:lnTo>
                      <a:pt x="430" y="1246"/>
                    </a:lnTo>
                    <a:lnTo>
                      <a:pt x="424" y="1276"/>
                    </a:lnTo>
                    <a:lnTo>
                      <a:pt x="418" y="1306"/>
                    </a:lnTo>
                    <a:lnTo>
                      <a:pt x="408" y="1334"/>
                    </a:lnTo>
                    <a:lnTo>
                      <a:pt x="398" y="1360"/>
                    </a:lnTo>
                    <a:lnTo>
                      <a:pt x="386" y="1382"/>
                    </a:lnTo>
                    <a:lnTo>
                      <a:pt x="372" y="1400"/>
                    </a:lnTo>
                    <a:lnTo>
                      <a:pt x="364" y="1408"/>
                    </a:lnTo>
                    <a:lnTo>
                      <a:pt x="356" y="1414"/>
                    </a:lnTo>
                    <a:lnTo>
                      <a:pt x="356" y="1414"/>
                    </a:lnTo>
                    <a:lnTo>
                      <a:pt x="352" y="1416"/>
                    </a:lnTo>
                    <a:lnTo>
                      <a:pt x="350" y="1420"/>
                    </a:lnTo>
                    <a:lnTo>
                      <a:pt x="348" y="1422"/>
                    </a:lnTo>
                    <a:lnTo>
                      <a:pt x="350" y="1426"/>
                    </a:lnTo>
                    <a:lnTo>
                      <a:pt x="352" y="1428"/>
                    </a:lnTo>
                    <a:lnTo>
                      <a:pt x="354" y="1432"/>
                    </a:lnTo>
                    <a:lnTo>
                      <a:pt x="354" y="1432"/>
                    </a:lnTo>
                    <a:lnTo>
                      <a:pt x="362" y="1438"/>
                    </a:lnTo>
                    <a:lnTo>
                      <a:pt x="368" y="1440"/>
                    </a:lnTo>
                    <a:lnTo>
                      <a:pt x="376" y="1444"/>
                    </a:lnTo>
                    <a:lnTo>
                      <a:pt x="386" y="1444"/>
                    </a:lnTo>
                    <a:lnTo>
                      <a:pt x="398" y="1444"/>
                    </a:lnTo>
                    <a:lnTo>
                      <a:pt x="410" y="1440"/>
                    </a:lnTo>
                    <a:lnTo>
                      <a:pt x="422" y="1434"/>
                    </a:lnTo>
                    <a:lnTo>
                      <a:pt x="422" y="1434"/>
                    </a:lnTo>
                    <a:lnTo>
                      <a:pt x="428" y="1430"/>
                    </a:lnTo>
                    <a:lnTo>
                      <a:pt x="434" y="1430"/>
                    </a:lnTo>
                    <a:lnTo>
                      <a:pt x="442" y="1428"/>
                    </a:lnTo>
                    <a:lnTo>
                      <a:pt x="444" y="1424"/>
                    </a:lnTo>
                    <a:lnTo>
                      <a:pt x="448" y="1418"/>
                    </a:lnTo>
                    <a:lnTo>
                      <a:pt x="448" y="1418"/>
                    </a:lnTo>
                    <a:lnTo>
                      <a:pt x="458" y="1398"/>
                    </a:lnTo>
                    <a:lnTo>
                      <a:pt x="466" y="1370"/>
                    </a:lnTo>
                    <a:lnTo>
                      <a:pt x="474" y="1334"/>
                    </a:lnTo>
                    <a:lnTo>
                      <a:pt x="482" y="1288"/>
                    </a:lnTo>
                    <a:lnTo>
                      <a:pt x="488" y="1236"/>
                    </a:lnTo>
                    <a:lnTo>
                      <a:pt x="494" y="1174"/>
                    </a:lnTo>
                    <a:lnTo>
                      <a:pt x="498" y="1104"/>
                    </a:lnTo>
                    <a:lnTo>
                      <a:pt x="502" y="1022"/>
                    </a:lnTo>
                    <a:lnTo>
                      <a:pt x="502" y="1022"/>
                    </a:lnTo>
                    <a:lnTo>
                      <a:pt x="516" y="1030"/>
                    </a:lnTo>
                    <a:lnTo>
                      <a:pt x="532" y="1040"/>
                    </a:lnTo>
                    <a:lnTo>
                      <a:pt x="552" y="1050"/>
                    </a:lnTo>
                    <a:lnTo>
                      <a:pt x="576" y="1058"/>
                    </a:lnTo>
                    <a:lnTo>
                      <a:pt x="602" y="1062"/>
                    </a:lnTo>
                    <a:lnTo>
                      <a:pt x="616" y="1064"/>
                    </a:lnTo>
                    <a:lnTo>
                      <a:pt x="628" y="1064"/>
                    </a:lnTo>
                    <a:lnTo>
                      <a:pt x="642" y="1064"/>
                    </a:lnTo>
                    <a:lnTo>
                      <a:pt x="656" y="1060"/>
                    </a:lnTo>
                    <a:lnTo>
                      <a:pt x="668" y="1056"/>
                    </a:lnTo>
                    <a:lnTo>
                      <a:pt x="682" y="1050"/>
                    </a:lnTo>
                    <a:lnTo>
                      <a:pt x="682" y="1050"/>
                    </a:lnTo>
                    <a:lnTo>
                      <a:pt x="712" y="1034"/>
                    </a:lnTo>
                    <a:lnTo>
                      <a:pt x="742" y="1024"/>
                    </a:lnTo>
                    <a:lnTo>
                      <a:pt x="768" y="1016"/>
                    </a:lnTo>
                    <a:lnTo>
                      <a:pt x="790" y="1012"/>
                    </a:lnTo>
                    <a:lnTo>
                      <a:pt x="810" y="1008"/>
                    </a:lnTo>
                    <a:lnTo>
                      <a:pt x="824" y="1008"/>
                    </a:lnTo>
                    <a:lnTo>
                      <a:pt x="836" y="1008"/>
                    </a:lnTo>
                    <a:lnTo>
                      <a:pt x="836" y="1008"/>
                    </a:lnTo>
                    <a:lnTo>
                      <a:pt x="810" y="988"/>
                    </a:lnTo>
                    <a:lnTo>
                      <a:pt x="790" y="968"/>
                    </a:lnTo>
                    <a:lnTo>
                      <a:pt x="776" y="948"/>
                    </a:lnTo>
                    <a:lnTo>
                      <a:pt x="768" y="930"/>
                    </a:lnTo>
                    <a:lnTo>
                      <a:pt x="764" y="912"/>
                    </a:lnTo>
                    <a:lnTo>
                      <a:pt x="764" y="896"/>
                    </a:lnTo>
                    <a:lnTo>
                      <a:pt x="768" y="880"/>
                    </a:lnTo>
                    <a:lnTo>
                      <a:pt x="774" y="866"/>
                    </a:lnTo>
                    <a:lnTo>
                      <a:pt x="782" y="852"/>
                    </a:lnTo>
                    <a:lnTo>
                      <a:pt x="792" y="840"/>
                    </a:lnTo>
                    <a:lnTo>
                      <a:pt x="804" y="830"/>
                    </a:lnTo>
                    <a:lnTo>
                      <a:pt x="816" y="822"/>
                    </a:lnTo>
                    <a:lnTo>
                      <a:pt x="838" y="808"/>
                    </a:lnTo>
                    <a:lnTo>
                      <a:pt x="854" y="804"/>
                    </a:lnTo>
                    <a:lnTo>
                      <a:pt x="854" y="804"/>
                    </a:lnTo>
                    <a:lnTo>
                      <a:pt x="868" y="798"/>
                    </a:lnTo>
                    <a:lnTo>
                      <a:pt x="882" y="790"/>
                    </a:lnTo>
                    <a:lnTo>
                      <a:pt x="882" y="790"/>
                    </a:lnTo>
                    <a:lnTo>
                      <a:pt x="882" y="790"/>
                    </a:lnTo>
                    <a:lnTo>
                      <a:pt x="892" y="782"/>
                    </a:lnTo>
                    <a:lnTo>
                      <a:pt x="902" y="772"/>
                    </a:lnTo>
                    <a:lnTo>
                      <a:pt x="910" y="762"/>
                    </a:lnTo>
                    <a:lnTo>
                      <a:pt x="918" y="748"/>
                    </a:lnTo>
                    <a:lnTo>
                      <a:pt x="918" y="748"/>
                    </a:lnTo>
                    <a:lnTo>
                      <a:pt x="924" y="732"/>
                    </a:lnTo>
                    <a:lnTo>
                      <a:pt x="924" y="732"/>
                    </a:lnTo>
                    <a:close/>
                  </a:path>
                </a:pathLst>
              </a:custGeom>
              <a:solidFill>
                <a:srgbClr val="ed4600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4"/>
              <p:cNvSpPr/>
              <p:nvPr/>
            </p:nvSpPr>
            <p:spPr>
              <a:xfrm rot="4324800">
                <a:off x="8243640" y="5300640"/>
                <a:ext cx="474120" cy="1153080"/>
              </a:xfrm>
              <a:custGeom>
                <a:avLst/>
                <a:gdLst>
                  <a:gd name="textAreaLeft" fmla="*/ 0 w 474120"/>
                  <a:gd name="textAreaRight" fmla="*/ 474480 w 474120"/>
                  <a:gd name="textAreaTop" fmla="*/ 0 h 1153080"/>
                  <a:gd name="textAreaBottom" fmla="*/ 1153440 h 1153080"/>
                </a:gdLst>
                <a:ahLst/>
                <a:rect l="textAreaLeft" t="textAreaTop" r="textAreaRight" b="textAreaBottom"/>
                <a:pathLst>
                  <a:path w="494" h="1202">
                    <a:moveTo>
                      <a:pt x="152" y="0"/>
                    </a:moveTo>
                    <a:lnTo>
                      <a:pt x="152" y="0"/>
                    </a:lnTo>
                    <a:lnTo>
                      <a:pt x="160" y="26"/>
                    </a:lnTo>
                    <a:lnTo>
                      <a:pt x="164" y="50"/>
                    </a:lnTo>
                    <a:lnTo>
                      <a:pt x="166" y="76"/>
                    </a:lnTo>
                    <a:lnTo>
                      <a:pt x="164" y="102"/>
                    </a:lnTo>
                    <a:lnTo>
                      <a:pt x="160" y="128"/>
                    </a:lnTo>
                    <a:lnTo>
                      <a:pt x="154" y="154"/>
                    </a:lnTo>
                    <a:lnTo>
                      <a:pt x="148" y="180"/>
                    </a:lnTo>
                    <a:lnTo>
                      <a:pt x="138" y="206"/>
                    </a:lnTo>
                    <a:lnTo>
                      <a:pt x="116" y="258"/>
                    </a:lnTo>
                    <a:lnTo>
                      <a:pt x="92" y="310"/>
                    </a:lnTo>
                    <a:lnTo>
                      <a:pt x="70" y="358"/>
                    </a:lnTo>
                    <a:lnTo>
                      <a:pt x="48" y="404"/>
                    </a:lnTo>
                    <a:lnTo>
                      <a:pt x="48" y="404"/>
                    </a:lnTo>
                    <a:lnTo>
                      <a:pt x="32" y="446"/>
                    </a:lnTo>
                    <a:lnTo>
                      <a:pt x="18" y="488"/>
                    </a:lnTo>
                    <a:lnTo>
                      <a:pt x="10" y="528"/>
                    </a:lnTo>
                    <a:lnTo>
                      <a:pt x="4" y="562"/>
                    </a:lnTo>
                    <a:lnTo>
                      <a:pt x="2" y="592"/>
                    </a:lnTo>
                    <a:lnTo>
                      <a:pt x="0" y="614"/>
                    </a:lnTo>
                    <a:lnTo>
                      <a:pt x="0" y="634"/>
                    </a:lnTo>
                    <a:lnTo>
                      <a:pt x="0" y="634"/>
                    </a:lnTo>
                    <a:lnTo>
                      <a:pt x="6" y="682"/>
                    </a:lnTo>
                    <a:lnTo>
                      <a:pt x="14" y="724"/>
                    </a:lnTo>
                    <a:lnTo>
                      <a:pt x="24" y="762"/>
                    </a:lnTo>
                    <a:lnTo>
                      <a:pt x="36" y="796"/>
                    </a:lnTo>
                    <a:lnTo>
                      <a:pt x="48" y="824"/>
                    </a:lnTo>
                    <a:lnTo>
                      <a:pt x="64" y="850"/>
                    </a:lnTo>
                    <a:lnTo>
                      <a:pt x="80" y="872"/>
                    </a:lnTo>
                    <a:lnTo>
                      <a:pt x="96" y="890"/>
                    </a:lnTo>
                    <a:lnTo>
                      <a:pt x="114" y="906"/>
                    </a:lnTo>
                    <a:lnTo>
                      <a:pt x="132" y="918"/>
                    </a:lnTo>
                    <a:lnTo>
                      <a:pt x="152" y="928"/>
                    </a:lnTo>
                    <a:lnTo>
                      <a:pt x="170" y="936"/>
                    </a:lnTo>
                    <a:lnTo>
                      <a:pt x="188" y="942"/>
                    </a:lnTo>
                    <a:lnTo>
                      <a:pt x="204" y="946"/>
                    </a:lnTo>
                    <a:lnTo>
                      <a:pt x="236" y="950"/>
                    </a:lnTo>
                    <a:lnTo>
                      <a:pt x="236" y="950"/>
                    </a:lnTo>
                    <a:lnTo>
                      <a:pt x="230" y="982"/>
                    </a:lnTo>
                    <a:lnTo>
                      <a:pt x="220" y="1016"/>
                    </a:lnTo>
                    <a:lnTo>
                      <a:pt x="210" y="1050"/>
                    </a:lnTo>
                    <a:lnTo>
                      <a:pt x="200" y="1082"/>
                    </a:lnTo>
                    <a:lnTo>
                      <a:pt x="186" y="1114"/>
                    </a:lnTo>
                    <a:lnTo>
                      <a:pt x="170" y="1140"/>
                    </a:lnTo>
                    <a:lnTo>
                      <a:pt x="162" y="1150"/>
                    </a:lnTo>
                    <a:lnTo>
                      <a:pt x="152" y="1160"/>
                    </a:lnTo>
                    <a:lnTo>
                      <a:pt x="142" y="1168"/>
                    </a:lnTo>
                    <a:lnTo>
                      <a:pt x="132" y="1174"/>
                    </a:lnTo>
                    <a:lnTo>
                      <a:pt x="132" y="1174"/>
                    </a:lnTo>
                    <a:lnTo>
                      <a:pt x="130" y="1176"/>
                    </a:lnTo>
                    <a:lnTo>
                      <a:pt x="126" y="1178"/>
                    </a:lnTo>
                    <a:lnTo>
                      <a:pt x="126" y="1182"/>
                    </a:lnTo>
                    <a:lnTo>
                      <a:pt x="130" y="1188"/>
                    </a:lnTo>
                    <a:lnTo>
                      <a:pt x="130" y="1188"/>
                    </a:lnTo>
                    <a:lnTo>
                      <a:pt x="134" y="1192"/>
                    </a:lnTo>
                    <a:lnTo>
                      <a:pt x="146" y="1200"/>
                    </a:lnTo>
                    <a:lnTo>
                      <a:pt x="154" y="1202"/>
                    </a:lnTo>
                    <a:lnTo>
                      <a:pt x="162" y="1202"/>
                    </a:lnTo>
                    <a:lnTo>
                      <a:pt x="172" y="1202"/>
                    </a:lnTo>
                    <a:lnTo>
                      <a:pt x="184" y="1198"/>
                    </a:lnTo>
                    <a:lnTo>
                      <a:pt x="184" y="1198"/>
                    </a:lnTo>
                    <a:lnTo>
                      <a:pt x="190" y="1196"/>
                    </a:lnTo>
                    <a:lnTo>
                      <a:pt x="194" y="1196"/>
                    </a:lnTo>
                    <a:lnTo>
                      <a:pt x="200" y="1194"/>
                    </a:lnTo>
                    <a:lnTo>
                      <a:pt x="206" y="1188"/>
                    </a:lnTo>
                    <a:lnTo>
                      <a:pt x="206" y="1188"/>
                    </a:lnTo>
                    <a:lnTo>
                      <a:pt x="214" y="1174"/>
                    </a:lnTo>
                    <a:lnTo>
                      <a:pt x="224" y="1156"/>
                    </a:lnTo>
                    <a:lnTo>
                      <a:pt x="232" y="1134"/>
                    </a:lnTo>
                    <a:lnTo>
                      <a:pt x="242" y="1108"/>
                    </a:lnTo>
                    <a:lnTo>
                      <a:pt x="262" y="1038"/>
                    </a:lnTo>
                    <a:lnTo>
                      <a:pt x="282" y="946"/>
                    </a:lnTo>
                    <a:lnTo>
                      <a:pt x="282" y="946"/>
                    </a:lnTo>
                    <a:lnTo>
                      <a:pt x="288" y="946"/>
                    </a:lnTo>
                    <a:lnTo>
                      <a:pt x="288" y="946"/>
                    </a:lnTo>
                    <a:lnTo>
                      <a:pt x="312" y="928"/>
                    </a:lnTo>
                    <a:lnTo>
                      <a:pt x="334" y="912"/>
                    </a:lnTo>
                    <a:lnTo>
                      <a:pt x="354" y="894"/>
                    </a:lnTo>
                    <a:lnTo>
                      <a:pt x="374" y="876"/>
                    </a:lnTo>
                    <a:lnTo>
                      <a:pt x="392" y="858"/>
                    </a:lnTo>
                    <a:lnTo>
                      <a:pt x="408" y="840"/>
                    </a:lnTo>
                    <a:lnTo>
                      <a:pt x="422" y="822"/>
                    </a:lnTo>
                    <a:lnTo>
                      <a:pt x="434" y="802"/>
                    </a:lnTo>
                    <a:lnTo>
                      <a:pt x="446" y="784"/>
                    </a:lnTo>
                    <a:lnTo>
                      <a:pt x="456" y="764"/>
                    </a:lnTo>
                    <a:lnTo>
                      <a:pt x="466" y="746"/>
                    </a:lnTo>
                    <a:lnTo>
                      <a:pt x="472" y="726"/>
                    </a:lnTo>
                    <a:lnTo>
                      <a:pt x="484" y="688"/>
                    </a:lnTo>
                    <a:lnTo>
                      <a:pt x="490" y="648"/>
                    </a:lnTo>
                    <a:lnTo>
                      <a:pt x="494" y="608"/>
                    </a:lnTo>
                    <a:lnTo>
                      <a:pt x="492" y="568"/>
                    </a:lnTo>
                    <a:lnTo>
                      <a:pt x="486" y="530"/>
                    </a:lnTo>
                    <a:lnTo>
                      <a:pt x="478" y="490"/>
                    </a:lnTo>
                    <a:lnTo>
                      <a:pt x="468" y="452"/>
                    </a:lnTo>
                    <a:lnTo>
                      <a:pt x="454" y="414"/>
                    </a:lnTo>
                    <a:lnTo>
                      <a:pt x="438" y="376"/>
                    </a:lnTo>
                    <a:lnTo>
                      <a:pt x="420" y="340"/>
                    </a:lnTo>
                    <a:lnTo>
                      <a:pt x="400" y="304"/>
                    </a:lnTo>
                    <a:lnTo>
                      <a:pt x="380" y="270"/>
                    </a:lnTo>
                    <a:lnTo>
                      <a:pt x="358" y="238"/>
                    </a:lnTo>
                    <a:lnTo>
                      <a:pt x="336" y="206"/>
                    </a:lnTo>
                    <a:lnTo>
                      <a:pt x="290" y="148"/>
                    </a:lnTo>
                    <a:lnTo>
                      <a:pt x="248" y="98"/>
                    </a:lnTo>
                    <a:lnTo>
                      <a:pt x="210" y="58"/>
                    </a:lnTo>
                    <a:lnTo>
                      <a:pt x="180" y="26"/>
                    </a:lnTo>
                    <a:lnTo>
                      <a:pt x="152" y="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ed4600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8"/>
              <p:cNvSpPr/>
              <p:nvPr/>
            </p:nvSpPr>
            <p:spPr>
              <a:xfrm rot="19659000">
                <a:off x="7188480" y="3993480"/>
                <a:ext cx="941760" cy="1486800"/>
              </a:xfrm>
              <a:custGeom>
                <a:avLst/>
                <a:gdLst>
                  <a:gd name="textAreaLeft" fmla="*/ 0 w 941760"/>
                  <a:gd name="textAreaRight" fmla="*/ 942120 w 941760"/>
                  <a:gd name="textAreaTop" fmla="*/ 0 h 1486800"/>
                  <a:gd name="textAreaBottom" fmla="*/ 1487160 h 1486800"/>
                </a:gdLst>
                <a:ahLst/>
                <a:rect l="textAreaLeft" t="textAreaTop" r="textAreaRight" b="textAreaBottom"/>
                <a:pathLst>
                  <a:path w="1188" h="1874">
                    <a:moveTo>
                      <a:pt x="1170" y="730"/>
                    </a:moveTo>
                    <a:lnTo>
                      <a:pt x="1170" y="730"/>
                    </a:lnTo>
                    <a:lnTo>
                      <a:pt x="1168" y="742"/>
                    </a:lnTo>
                    <a:lnTo>
                      <a:pt x="1164" y="752"/>
                    </a:lnTo>
                    <a:lnTo>
                      <a:pt x="1154" y="768"/>
                    </a:lnTo>
                    <a:lnTo>
                      <a:pt x="1140" y="784"/>
                    </a:lnTo>
                    <a:lnTo>
                      <a:pt x="1126" y="796"/>
                    </a:lnTo>
                    <a:lnTo>
                      <a:pt x="1114" y="804"/>
                    </a:lnTo>
                    <a:lnTo>
                      <a:pt x="1102" y="810"/>
                    </a:lnTo>
                    <a:lnTo>
                      <a:pt x="1092" y="816"/>
                    </a:lnTo>
                    <a:lnTo>
                      <a:pt x="1092" y="816"/>
                    </a:lnTo>
                    <a:lnTo>
                      <a:pt x="1090" y="812"/>
                    </a:lnTo>
                    <a:lnTo>
                      <a:pt x="1088" y="802"/>
                    </a:lnTo>
                    <a:lnTo>
                      <a:pt x="1080" y="790"/>
                    </a:lnTo>
                    <a:lnTo>
                      <a:pt x="1076" y="782"/>
                    </a:lnTo>
                    <a:lnTo>
                      <a:pt x="1068" y="776"/>
                    </a:lnTo>
                    <a:lnTo>
                      <a:pt x="1060" y="770"/>
                    </a:lnTo>
                    <a:lnTo>
                      <a:pt x="1052" y="766"/>
                    </a:lnTo>
                    <a:lnTo>
                      <a:pt x="1040" y="762"/>
                    </a:lnTo>
                    <a:lnTo>
                      <a:pt x="1028" y="760"/>
                    </a:lnTo>
                    <a:lnTo>
                      <a:pt x="1012" y="760"/>
                    </a:lnTo>
                    <a:lnTo>
                      <a:pt x="996" y="762"/>
                    </a:lnTo>
                    <a:lnTo>
                      <a:pt x="976" y="768"/>
                    </a:lnTo>
                    <a:lnTo>
                      <a:pt x="956" y="774"/>
                    </a:lnTo>
                    <a:lnTo>
                      <a:pt x="956" y="774"/>
                    </a:lnTo>
                    <a:lnTo>
                      <a:pt x="924" y="790"/>
                    </a:lnTo>
                    <a:lnTo>
                      <a:pt x="898" y="804"/>
                    </a:lnTo>
                    <a:lnTo>
                      <a:pt x="878" y="818"/>
                    </a:lnTo>
                    <a:lnTo>
                      <a:pt x="862" y="830"/>
                    </a:lnTo>
                    <a:lnTo>
                      <a:pt x="842" y="848"/>
                    </a:lnTo>
                    <a:lnTo>
                      <a:pt x="836" y="854"/>
                    </a:lnTo>
                    <a:lnTo>
                      <a:pt x="830" y="856"/>
                    </a:lnTo>
                    <a:lnTo>
                      <a:pt x="830" y="856"/>
                    </a:lnTo>
                    <a:lnTo>
                      <a:pt x="826" y="856"/>
                    </a:lnTo>
                    <a:lnTo>
                      <a:pt x="824" y="854"/>
                    </a:lnTo>
                    <a:lnTo>
                      <a:pt x="824" y="848"/>
                    </a:lnTo>
                    <a:lnTo>
                      <a:pt x="824" y="848"/>
                    </a:lnTo>
                    <a:lnTo>
                      <a:pt x="838" y="828"/>
                    </a:lnTo>
                    <a:lnTo>
                      <a:pt x="866" y="786"/>
                    </a:lnTo>
                    <a:lnTo>
                      <a:pt x="920" y="710"/>
                    </a:lnTo>
                    <a:lnTo>
                      <a:pt x="920" y="710"/>
                    </a:lnTo>
                    <a:lnTo>
                      <a:pt x="928" y="698"/>
                    </a:lnTo>
                    <a:lnTo>
                      <a:pt x="936" y="686"/>
                    </a:lnTo>
                    <a:lnTo>
                      <a:pt x="946" y="658"/>
                    </a:lnTo>
                    <a:lnTo>
                      <a:pt x="952" y="628"/>
                    </a:lnTo>
                    <a:lnTo>
                      <a:pt x="956" y="598"/>
                    </a:lnTo>
                    <a:lnTo>
                      <a:pt x="956" y="568"/>
                    </a:lnTo>
                    <a:lnTo>
                      <a:pt x="952" y="538"/>
                    </a:lnTo>
                    <a:lnTo>
                      <a:pt x="948" y="508"/>
                    </a:lnTo>
                    <a:lnTo>
                      <a:pt x="942" y="478"/>
                    </a:lnTo>
                    <a:lnTo>
                      <a:pt x="934" y="452"/>
                    </a:lnTo>
                    <a:lnTo>
                      <a:pt x="926" y="426"/>
                    </a:lnTo>
                    <a:lnTo>
                      <a:pt x="910" y="384"/>
                    </a:lnTo>
                    <a:lnTo>
                      <a:pt x="898" y="354"/>
                    </a:lnTo>
                    <a:lnTo>
                      <a:pt x="892" y="344"/>
                    </a:lnTo>
                    <a:lnTo>
                      <a:pt x="892" y="344"/>
                    </a:lnTo>
                    <a:lnTo>
                      <a:pt x="864" y="338"/>
                    </a:lnTo>
                    <a:lnTo>
                      <a:pt x="838" y="330"/>
                    </a:lnTo>
                    <a:lnTo>
                      <a:pt x="814" y="322"/>
                    </a:lnTo>
                    <a:lnTo>
                      <a:pt x="792" y="312"/>
                    </a:lnTo>
                    <a:lnTo>
                      <a:pt x="770" y="302"/>
                    </a:lnTo>
                    <a:lnTo>
                      <a:pt x="752" y="290"/>
                    </a:lnTo>
                    <a:lnTo>
                      <a:pt x="734" y="278"/>
                    </a:lnTo>
                    <a:lnTo>
                      <a:pt x="716" y="266"/>
                    </a:lnTo>
                    <a:lnTo>
                      <a:pt x="702" y="252"/>
                    </a:lnTo>
                    <a:lnTo>
                      <a:pt x="688" y="238"/>
                    </a:lnTo>
                    <a:lnTo>
                      <a:pt x="664" y="210"/>
                    </a:lnTo>
                    <a:lnTo>
                      <a:pt x="644" y="180"/>
                    </a:lnTo>
                    <a:lnTo>
                      <a:pt x="628" y="150"/>
                    </a:lnTo>
                    <a:lnTo>
                      <a:pt x="616" y="122"/>
                    </a:lnTo>
                    <a:lnTo>
                      <a:pt x="608" y="94"/>
                    </a:lnTo>
                    <a:lnTo>
                      <a:pt x="600" y="68"/>
                    </a:lnTo>
                    <a:lnTo>
                      <a:pt x="596" y="46"/>
                    </a:lnTo>
                    <a:lnTo>
                      <a:pt x="594" y="12"/>
                    </a:lnTo>
                    <a:lnTo>
                      <a:pt x="594" y="0"/>
                    </a:lnTo>
                    <a:lnTo>
                      <a:pt x="594" y="4"/>
                    </a:lnTo>
                    <a:lnTo>
                      <a:pt x="592" y="0"/>
                    </a:lnTo>
                    <a:lnTo>
                      <a:pt x="592" y="0"/>
                    </a:lnTo>
                    <a:lnTo>
                      <a:pt x="592" y="12"/>
                    </a:lnTo>
                    <a:lnTo>
                      <a:pt x="590" y="46"/>
                    </a:lnTo>
                    <a:lnTo>
                      <a:pt x="586" y="68"/>
                    </a:lnTo>
                    <a:lnTo>
                      <a:pt x="578" y="94"/>
                    </a:lnTo>
                    <a:lnTo>
                      <a:pt x="570" y="122"/>
                    </a:lnTo>
                    <a:lnTo>
                      <a:pt x="558" y="150"/>
                    </a:lnTo>
                    <a:lnTo>
                      <a:pt x="542" y="180"/>
                    </a:lnTo>
                    <a:lnTo>
                      <a:pt x="522" y="210"/>
                    </a:lnTo>
                    <a:lnTo>
                      <a:pt x="498" y="238"/>
                    </a:lnTo>
                    <a:lnTo>
                      <a:pt x="484" y="252"/>
                    </a:lnTo>
                    <a:lnTo>
                      <a:pt x="470" y="266"/>
                    </a:lnTo>
                    <a:lnTo>
                      <a:pt x="452" y="278"/>
                    </a:lnTo>
                    <a:lnTo>
                      <a:pt x="434" y="290"/>
                    </a:lnTo>
                    <a:lnTo>
                      <a:pt x="416" y="302"/>
                    </a:lnTo>
                    <a:lnTo>
                      <a:pt x="394" y="312"/>
                    </a:lnTo>
                    <a:lnTo>
                      <a:pt x="372" y="322"/>
                    </a:lnTo>
                    <a:lnTo>
                      <a:pt x="348" y="330"/>
                    </a:lnTo>
                    <a:lnTo>
                      <a:pt x="322" y="338"/>
                    </a:lnTo>
                    <a:lnTo>
                      <a:pt x="294" y="344"/>
                    </a:lnTo>
                    <a:lnTo>
                      <a:pt x="294" y="344"/>
                    </a:lnTo>
                    <a:lnTo>
                      <a:pt x="288" y="354"/>
                    </a:lnTo>
                    <a:lnTo>
                      <a:pt x="276" y="384"/>
                    </a:lnTo>
                    <a:lnTo>
                      <a:pt x="260" y="426"/>
                    </a:lnTo>
                    <a:lnTo>
                      <a:pt x="252" y="452"/>
                    </a:lnTo>
                    <a:lnTo>
                      <a:pt x="244" y="478"/>
                    </a:lnTo>
                    <a:lnTo>
                      <a:pt x="238" y="508"/>
                    </a:lnTo>
                    <a:lnTo>
                      <a:pt x="234" y="538"/>
                    </a:lnTo>
                    <a:lnTo>
                      <a:pt x="230" y="568"/>
                    </a:lnTo>
                    <a:lnTo>
                      <a:pt x="230" y="598"/>
                    </a:lnTo>
                    <a:lnTo>
                      <a:pt x="234" y="628"/>
                    </a:lnTo>
                    <a:lnTo>
                      <a:pt x="240" y="658"/>
                    </a:lnTo>
                    <a:lnTo>
                      <a:pt x="250" y="686"/>
                    </a:lnTo>
                    <a:lnTo>
                      <a:pt x="258" y="698"/>
                    </a:lnTo>
                    <a:lnTo>
                      <a:pt x="266" y="710"/>
                    </a:lnTo>
                    <a:lnTo>
                      <a:pt x="266" y="710"/>
                    </a:lnTo>
                    <a:lnTo>
                      <a:pt x="320" y="786"/>
                    </a:lnTo>
                    <a:lnTo>
                      <a:pt x="348" y="828"/>
                    </a:lnTo>
                    <a:lnTo>
                      <a:pt x="362" y="848"/>
                    </a:lnTo>
                    <a:lnTo>
                      <a:pt x="362" y="848"/>
                    </a:lnTo>
                    <a:lnTo>
                      <a:pt x="362" y="854"/>
                    </a:lnTo>
                    <a:lnTo>
                      <a:pt x="360" y="856"/>
                    </a:lnTo>
                    <a:lnTo>
                      <a:pt x="356" y="856"/>
                    </a:lnTo>
                    <a:lnTo>
                      <a:pt x="356" y="856"/>
                    </a:lnTo>
                    <a:lnTo>
                      <a:pt x="350" y="854"/>
                    </a:lnTo>
                    <a:lnTo>
                      <a:pt x="344" y="848"/>
                    </a:lnTo>
                    <a:lnTo>
                      <a:pt x="324" y="830"/>
                    </a:lnTo>
                    <a:lnTo>
                      <a:pt x="308" y="818"/>
                    </a:lnTo>
                    <a:lnTo>
                      <a:pt x="288" y="804"/>
                    </a:lnTo>
                    <a:lnTo>
                      <a:pt x="262" y="790"/>
                    </a:lnTo>
                    <a:lnTo>
                      <a:pt x="230" y="774"/>
                    </a:lnTo>
                    <a:lnTo>
                      <a:pt x="230" y="774"/>
                    </a:lnTo>
                    <a:lnTo>
                      <a:pt x="210" y="768"/>
                    </a:lnTo>
                    <a:lnTo>
                      <a:pt x="190" y="762"/>
                    </a:lnTo>
                    <a:lnTo>
                      <a:pt x="174" y="760"/>
                    </a:lnTo>
                    <a:lnTo>
                      <a:pt x="158" y="760"/>
                    </a:lnTo>
                    <a:lnTo>
                      <a:pt x="146" y="762"/>
                    </a:lnTo>
                    <a:lnTo>
                      <a:pt x="134" y="766"/>
                    </a:lnTo>
                    <a:lnTo>
                      <a:pt x="126" y="770"/>
                    </a:lnTo>
                    <a:lnTo>
                      <a:pt x="118" y="776"/>
                    </a:lnTo>
                    <a:lnTo>
                      <a:pt x="110" y="782"/>
                    </a:lnTo>
                    <a:lnTo>
                      <a:pt x="106" y="790"/>
                    </a:lnTo>
                    <a:lnTo>
                      <a:pt x="98" y="802"/>
                    </a:lnTo>
                    <a:lnTo>
                      <a:pt x="96" y="812"/>
                    </a:lnTo>
                    <a:lnTo>
                      <a:pt x="94" y="816"/>
                    </a:lnTo>
                    <a:lnTo>
                      <a:pt x="94" y="816"/>
                    </a:lnTo>
                    <a:lnTo>
                      <a:pt x="84" y="810"/>
                    </a:lnTo>
                    <a:lnTo>
                      <a:pt x="72" y="804"/>
                    </a:lnTo>
                    <a:lnTo>
                      <a:pt x="60" y="796"/>
                    </a:lnTo>
                    <a:lnTo>
                      <a:pt x="46" y="784"/>
                    </a:lnTo>
                    <a:lnTo>
                      <a:pt x="34" y="768"/>
                    </a:lnTo>
                    <a:lnTo>
                      <a:pt x="22" y="752"/>
                    </a:lnTo>
                    <a:lnTo>
                      <a:pt x="18" y="742"/>
                    </a:lnTo>
                    <a:lnTo>
                      <a:pt x="16" y="730"/>
                    </a:lnTo>
                    <a:lnTo>
                      <a:pt x="16" y="730"/>
                    </a:lnTo>
                    <a:lnTo>
                      <a:pt x="14" y="722"/>
                    </a:lnTo>
                    <a:lnTo>
                      <a:pt x="10" y="722"/>
                    </a:lnTo>
                    <a:lnTo>
                      <a:pt x="8" y="724"/>
                    </a:lnTo>
                    <a:lnTo>
                      <a:pt x="6" y="734"/>
                    </a:lnTo>
                    <a:lnTo>
                      <a:pt x="4" y="762"/>
                    </a:lnTo>
                    <a:lnTo>
                      <a:pt x="0" y="800"/>
                    </a:lnTo>
                    <a:lnTo>
                      <a:pt x="0" y="842"/>
                    </a:lnTo>
                    <a:lnTo>
                      <a:pt x="0" y="884"/>
                    </a:lnTo>
                    <a:lnTo>
                      <a:pt x="0" y="920"/>
                    </a:lnTo>
                    <a:lnTo>
                      <a:pt x="4" y="942"/>
                    </a:lnTo>
                    <a:lnTo>
                      <a:pt x="4" y="942"/>
                    </a:lnTo>
                    <a:lnTo>
                      <a:pt x="8" y="958"/>
                    </a:lnTo>
                    <a:lnTo>
                      <a:pt x="16" y="974"/>
                    </a:lnTo>
                    <a:lnTo>
                      <a:pt x="26" y="990"/>
                    </a:lnTo>
                    <a:lnTo>
                      <a:pt x="38" y="1006"/>
                    </a:lnTo>
                    <a:lnTo>
                      <a:pt x="52" y="1018"/>
                    </a:lnTo>
                    <a:lnTo>
                      <a:pt x="66" y="1030"/>
                    </a:lnTo>
                    <a:lnTo>
                      <a:pt x="80" y="1038"/>
                    </a:lnTo>
                    <a:lnTo>
                      <a:pt x="96" y="1042"/>
                    </a:lnTo>
                    <a:lnTo>
                      <a:pt x="96" y="1042"/>
                    </a:lnTo>
                    <a:lnTo>
                      <a:pt x="106" y="1046"/>
                    </a:lnTo>
                    <a:lnTo>
                      <a:pt x="118" y="1050"/>
                    </a:lnTo>
                    <a:lnTo>
                      <a:pt x="132" y="1058"/>
                    </a:lnTo>
                    <a:lnTo>
                      <a:pt x="146" y="1066"/>
                    </a:lnTo>
                    <a:lnTo>
                      <a:pt x="162" y="1078"/>
                    </a:lnTo>
                    <a:lnTo>
                      <a:pt x="176" y="1092"/>
                    </a:lnTo>
                    <a:lnTo>
                      <a:pt x="190" y="1106"/>
                    </a:lnTo>
                    <a:lnTo>
                      <a:pt x="200" y="1124"/>
                    </a:lnTo>
                    <a:lnTo>
                      <a:pt x="210" y="1142"/>
                    </a:lnTo>
                    <a:lnTo>
                      <a:pt x="214" y="1162"/>
                    </a:lnTo>
                    <a:lnTo>
                      <a:pt x="214" y="1172"/>
                    </a:lnTo>
                    <a:lnTo>
                      <a:pt x="214" y="1184"/>
                    </a:lnTo>
                    <a:lnTo>
                      <a:pt x="212" y="1194"/>
                    </a:lnTo>
                    <a:lnTo>
                      <a:pt x="208" y="1206"/>
                    </a:lnTo>
                    <a:lnTo>
                      <a:pt x="204" y="1218"/>
                    </a:lnTo>
                    <a:lnTo>
                      <a:pt x="198" y="1230"/>
                    </a:lnTo>
                    <a:lnTo>
                      <a:pt x="190" y="1242"/>
                    </a:lnTo>
                    <a:lnTo>
                      <a:pt x="180" y="1256"/>
                    </a:lnTo>
                    <a:lnTo>
                      <a:pt x="168" y="1268"/>
                    </a:lnTo>
                    <a:lnTo>
                      <a:pt x="154" y="1282"/>
                    </a:lnTo>
                    <a:lnTo>
                      <a:pt x="138" y="1294"/>
                    </a:lnTo>
                    <a:lnTo>
                      <a:pt x="120" y="1308"/>
                    </a:lnTo>
                    <a:lnTo>
                      <a:pt x="120" y="1308"/>
                    </a:lnTo>
                    <a:lnTo>
                      <a:pt x="136" y="1308"/>
                    </a:lnTo>
                    <a:lnTo>
                      <a:pt x="154" y="1310"/>
                    </a:lnTo>
                    <a:lnTo>
                      <a:pt x="178" y="1312"/>
                    </a:lnTo>
                    <a:lnTo>
                      <a:pt x="208" y="1318"/>
                    </a:lnTo>
                    <a:lnTo>
                      <a:pt x="242" y="1328"/>
                    </a:lnTo>
                    <a:lnTo>
                      <a:pt x="280" y="1342"/>
                    </a:lnTo>
                    <a:lnTo>
                      <a:pt x="320" y="1362"/>
                    </a:lnTo>
                    <a:lnTo>
                      <a:pt x="320" y="1362"/>
                    </a:lnTo>
                    <a:lnTo>
                      <a:pt x="338" y="1372"/>
                    </a:lnTo>
                    <a:lnTo>
                      <a:pt x="356" y="1376"/>
                    </a:lnTo>
                    <a:lnTo>
                      <a:pt x="374" y="1380"/>
                    </a:lnTo>
                    <a:lnTo>
                      <a:pt x="394" y="1382"/>
                    </a:lnTo>
                    <a:lnTo>
                      <a:pt x="412" y="1380"/>
                    </a:lnTo>
                    <a:lnTo>
                      <a:pt x="430" y="1378"/>
                    </a:lnTo>
                    <a:lnTo>
                      <a:pt x="448" y="1374"/>
                    </a:lnTo>
                    <a:lnTo>
                      <a:pt x="464" y="1370"/>
                    </a:lnTo>
                    <a:lnTo>
                      <a:pt x="496" y="1358"/>
                    </a:lnTo>
                    <a:lnTo>
                      <a:pt x="522" y="1344"/>
                    </a:lnTo>
                    <a:lnTo>
                      <a:pt x="544" y="1332"/>
                    </a:lnTo>
                    <a:lnTo>
                      <a:pt x="558" y="1324"/>
                    </a:lnTo>
                    <a:lnTo>
                      <a:pt x="558" y="1324"/>
                    </a:lnTo>
                    <a:lnTo>
                      <a:pt x="558" y="1362"/>
                    </a:lnTo>
                    <a:lnTo>
                      <a:pt x="558" y="1422"/>
                    </a:lnTo>
                    <a:lnTo>
                      <a:pt x="554" y="1496"/>
                    </a:lnTo>
                    <a:lnTo>
                      <a:pt x="550" y="1534"/>
                    </a:lnTo>
                    <a:lnTo>
                      <a:pt x="546" y="1576"/>
                    </a:lnTo>
                    <a:lnTo>
                      <a:pt x="540" y="1616"/>
                    </a:lnTo>
                    <a:lnTo>
                      <a:pt x="532" y="1656"/>
                    </a:lnTo>
                    <a:lnTo>
                      <a:pt x="524" y="1696"/>
                    </a:lnTo>
                    <a:lnTo>
                      <a:pt x="512" y="1732"/>
                    </a:lnTo>
                    <a:lnTo>
                      <a:pt x="498" y="1764"/>
                    </a:lnTo>
                    <a:lnTo>
                      <a:pt x="482" y="1794"/>
                    </a:lnTo>
                    <a:lnTo>
                      <a:pt x="474" y="1806"/>
                    </a:lnTo>
                    <a:lnTo>
                      <a:pt x="464" y="1816"/>
                    </a:lnTo>
                    <a:lnTo>
                      <a:pt x="454" y="1826"/>
                    </a:lnTo>
                    <a:lnTo>
                      <a:pt x="442" y="1834"/>
                    </a:lnTo>
                    <a:lnTo>
                      <a:pt x="442" y="1834"/>
                    </a:lnTo>
                    <a:lnTo>
                      <a:pt x="438" y="1838"/>
                    </a:lnTo>
                    <a:lnTo>
                      <a:pt x="434" y="1842"/>
                    </a:lnTo>
                    <a:lnTo>
                      <a:pt x="434" y="1846"/>
                    </a:lnTo>
                    <a:lnTo>
                      <a:pt x="434" y="1850"/>
                    </a:lnTo>
                    <a:lnTo>
                      <a:pt x="438" y="1854"/>
                    </a:lnTo>
                    <a:lnTo>
                      <a:pt x="442" y="1858"/>
                    </a:lnTo>
                    <a:lnTo>
                      <a:pt x="442" y="1858"/>
                    </a:lnTo>
                    <a:lnTo>
                      <a:pt x="450" y="1864"/>
                    </a:lnTo>
                    <a:lnTo>
                      <a:pt x="460" y="1868"/>
                    </a:lnTo>
                    <a:lnTo>
                      <a:pt x="470" y="1872"/>
                    </a:lnTo>
                    <a:lnTo>
                      <a:pt x="482" y="1874"/>
                    </a:lnTo>
                    <a:lnTo>
                      <a:pt x="496" y="1874"/>
                    </a:lnTo>
                    <a:lnTo>
                      <a:pt x="512" y="1870"/>
                    </a:lnTo>
                    <a:lnTo>
                      <a:pt x="528" y="1860"/>
                    </a:lnTo>
                    <a:lnTo>
                      <a:pt x="528" y="1860"/>
                    </a:lnTo>
                    <a:lnTo>
                      <a:pt x="532" y="1858"/>
                    </a:lnTo>
                    <a:lnTo>
                      <a:pt x="538" y="1856"/>
                    </a:lnTo>
                    <a:lnTo>
                      <a:pt x="546" y="1856"/>
                    </a:lnTo>
                    <a:lnTo>
                      <a:pt x="550" y="1854"/>
                    </a:lnTo>
                    <a:lnTo>
                      <a:pt x="554" y="1852"/>
                    </a:lnTo>
                    <a:lnTo>
                      <a:pt x="558" y="1848"/>
                    </a:lnTo>
                    <a:lnTo>
                      <a:pt x="562" y="1842"/>
                    </a:lnTo>
                    <a:lnTo>
                      <a:pt x="562" y="1842"/>
                    </a:lnTo>
                    <a:lnTo>
                      <a:pt x="574" y="1814"/>
                    </a:lnTo>
                    <a:lnTo>
                      <a:pt x="586" y="1776"/>
                    </a:lnTo>
                    <a:lnTo>
                      <a:pt x="596" y="1730"/>
                    </a:lnTo>
                    <a:lnTo>
                      <a:pt x="606" y="1672"/>
                    </a:lnTo>
                    <a:lnTo>
                      <a:pt x="614" y="1604"/>
                    </a:lnTo>
                    <a:lnTo>
                      <a:pt x="622" y="1524"/>
                    </a:lnTo>
                    <a:lnTo>
                      <a:pt x="628" y="1432"/>
                    </a:lnTo>
                    <a:lnTo>
                      <a:pt x="634" y="1326"/>
                    </a:lnTo>
                    <a:lnTo>
                      <a:pt x="634" y="1326"/>
                    </a:lnTo>
                    <a:lnTo>
                      <a:pt x="650" y="1338"/>
                    </a:lnTo>
                    <a:lnTo>
                      <a:pt x="672" y="1350"/>
                    </a:lnTo>
                    <a:lnTo>
                      <a:pt x="698" y="1362"/>
                    </a:lnTo>
                    <a:lnTo>
                      <a:pt x="730" y="1372"/>
                    </a:lnTo>
                    <a:lnTo>
                      <a:pt x="746" y="1376"/>
                    </a:lnTo>
                    <a:lnTo>
                      <a:pt x="762" y="1380"/>
                    </a:lnTo>
                    <a:lnTo>
                      <a:pt x="780" y="1382"/>
                    </a:lnTo>
                    <a:lnTo>
                      <a:pt x="796" y="1382"/>
                    </a:lnTo>
                    <a:lnTo>
                      <a:pt x="814" y="1380"/>
                    </a:lnTo>
                    <a:lnTo>
                      <a:pt x="832" y="1376"/>
                    </a:lnTo>
                    <a:lnTo>
                      <a:pt x="850" y="1370"/>
                    </a:lnTo>
                    <a:lnTo>
                      <a:pt x="866" y="1362"/>
                    </a:lnTo>
                    <a:lnTo>
                      <a:pt x="866" y="1362"/>
                    </a:lnTo>
                    <a:lnTo>
                      <a:pt x="906" y="1342"/>
                    </a:lnTo>
                    <a:lnTo>
                      <a:pt x="944" y="1328"/>
                    </a:lnTo>
                    <a:lnTo>
                      <a:pt x="978" y="1318"/>
                    </a:lnTo>
                    <a:lnTo>
                      <a:pt x="1008" y="1312"/>
                    </a:lnTo>
                    <a:lnTo>
                      <a:pt x="1032" y="1310"/>
                    </a:lnTo>
                    <a:lnTo>
                      <a:pt x="1050" y="1308"/>
                    </a:lnTo>
                    <a:lnTo>
                      <a:pt x="1066" y="1308"/>
                    </a:lnTo>
                    <a:lnTo>
                      <a:pt x="1066" y="1308"/>
                    </a:lnTo>
                    <a:lnTo>
                      <a:pt x="1048" y="1294"/>
                    </a:lnTo>
                    <a:lnTo>
                      <a:pt x="1032" y="1282"/>
                    </a:lnTo>
                    <a:lnTo>
                      <a:pt x="1018" y="1268"/>
                    </a:lnTo>
                    <a:lnTo>
                      <a:pt x="1006" y="1256"/>
                    </a:lnTo>
                    <a:lnTo>
                      <a:pt x="998" y="1242"/>
                    </a:lnTo>
                    <a:lnTo>
                      <a:pt x="988" y="1230"/>
                    </a:lnTo>
                    <a:lnTo>
                      <a:pt x="982" y="1218"/>
                    </a:lnTo>
                    <a:lnTo>
                      <a:pt x="978" y="1206"/>
                    </a:lnTo>
                    <a:lnTo>
                      <a:pt x="974" y="1194"/>
                    </a:lnTo>
                    <a:lnTo>
                      <a:pt x="972" y="1184"/>
                    </a:lnTo>
                    <a:lnTo>
                      <a:pt x="972" y="1172"/>
                    </a:lnTo>
                    <a:lnTo>
                      <a:pt x="972" y="1162"/>
                    </a:lnTo>
                    <a:lnTo>
                      <a:pt x="976" y="1142"/>
                    </a:lnTo>
                    <a:lnTo>
                      <a:pt x="986" y="1124"/>
                    </a:lnTo>
                    <a:lnTo>
                      <a:pt x="996" y="1106"/>
                    </a:lnTo>
                    <a:lnTo>
                      <a:pt x="1010" y="1092"/>
                    </a:lnTo>
                    <a:lnTo>
                      <a:pt x="1024" y="1078"/>
                    </a:lnTo>
                    <a:lnTo>
                      <a:pt x="1040" y="1066"/>
                    </a:lnTo>
                    <a:lnTo>
                      <a:pt x="1054" y="1058"/>
                    </a:lnTo>
                    <a:lnTo>
                      <a:pt x="1068" y="1050"/>
                    </a:lnTo>
                    <a:lnTo>
                      <a:pt x="1080" y="1046"/>
                    </a:lnTo>
                    <a:lnTo>
                      <a:pt x="1090" y="1042"/>
                    </a:lnTo>
                    <a:lnTo>
                      <a:pt x="1090" y="1042"/>
                    </a:lnTo>
                    <a:lnTo>
                      <a:pt x="1106" y="1038"/>
                    </a:lnTo>
                    <a:lnTo>
                      <a:pt x="1120" y="1030"/>
                    </a:lnTo>
                    <a:lnTo>
                      <a:pt x="1134" y="1018"/>
                    </a:lnTo>
                    <a:lnTo>
                      <a:pt x="1148" y="1006"/>
                    </a:lnTo>
                    <a:lnTo>
                      <a:pt x="1160" y="990"/>
                    </a:lnTo>
                    <a:lnTo>
                      <a:pt x="1170" y="974"/>
                    </a:lnTo>
                    <a:lnTo>
                      <a:pt x="1178" y="958"/>
                    </a:lnTo>
                    <a:lnTo>
                      <a:pt x="1182" y="942"/>
                    </a:lnTo>
                    <a:lnTo>
                      <a:pt x="1182" y="942"/>
                    </a:lnTo>
                    <a:lnTo>
                      <a:pt x="1186" y="920"/>
                    </a:lnTo>
                    <a:lnTo>
                      <a:pt x="1188" y="884"/>
                    </a:lnTo>
                    <a:lnTo>
                      <a:pt x="1186" y="842"/>
                    </a:lnTo>
                    <a:lnTo>
                      <a:pt x="1186" y="800"/>
                    </a:lnTo>
                    <a:lnTo>
                      <a:pt x="1182" y="762"/>
                    </a:lnTo>
                    <a:lnTo>
                      <a:pt x="1180" y="734"/>
                    </a:lnTo>
                    <a:lnTo>
                      <a:pt x="1178" y="724"/>
                    </a:lnTo>
                    <a:lnTo>
                      <a:pt x="1176" y="722"/>
                    </a:lnTo>
                    <a:lnTo>
                      <a:pt x="1172" y="722"/>
                    </a:lnTo>
                    <a:lnTo>
                      <a:pt x="1170" y="730"/>
                    </a:lnTo>
                    <a:lnTo>
                      <a:pt x="1170" y="730"/>
                    </a:lnTo>
                    <a:close/>
                  </a:path>
                </a:pathLst>
              </a:custGeom>
              <a:solidFill>
                <a:srgbClr val="ed4600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2"/>
              <p:cNvSpPr/>
              <p:nvPr/>
            </p:nvSpPr>
            <p:spPr>
              <a:xfrm rot="1177800">
                <a:off x="7824960" y="381240"/>
                <a:ext cx="510840" cy="1209600"/>
              </a:xfrm>
              <a:custGeom>
                <a:avLst/>
                <a:gdLst>
                  <a:gd name="textAreaLeft" fmla="*/ 0 w 510840"/>
                  <a:gd name="textAreaRight" fmla="*/ 511200 w 510840"/>
                  <a:gd name="textAreaTop" fmla="*/ 0 h 1209600"/>
                  <a:gd name="textAreaBottom" fmla="*/ 1209960 h 1209600"/>
                </a:gdLst>
                <a:ahLst/>
                <a:rect l="textAreaLeft" t="textAreaTop" r="textAreaRight" b="textAreaBottom"/>
                <a:pathLst>
                  <a:path w="574" h="1358">
                    <a:moveTo>
                      <a:pt x="518" y="468"/>
                    </a:moveTo>
                    <a:lnTo>
                      <a:pt x="518" y="468"/>
                    </a:lnTo>
                    <a:lnTo>
                      <a:pt x="494" y="416"/>
                    </a:lnTo>
                    <a:lnTo>
                      <a:pt x="466" y="358"/>
                    </a:lnTo>
                    <a:lnTo>
                      <a:pt x="438" y="300"/>
                    </a:lnTo>
                    <a:lnTo>
                      <a:pt x="414" y="238"/>
                    </a:lnTo>
                    <a:lnTo>
                      <a:pt x="402" y="208"/>
                    </a:lnTo>
                    <a:lnTo>
                      <a:pt x="394" y="178"/>
                    </a:lnTo>
                    <a:lnTo>
                      <a:pt x="388" y="146"/>
                    </a:lnTo>
                    <a:lnTo>
                      <a:pt x="382" y="116"/>
                    </a:lnTo>
                    <a:lnTo>
                      <a:pt x="382" y="86"/>
                    </a:lnTo>
                    <a:lnTo>
                      <a:pt x="382" y="56"/>
                    </a:lnTo>
                    <a:lnTo>
                      <a:pt x="388" y="28"/>
                    </a:lnTo>
                    <a:lnTo>
                      <a:pt x="396" y="0"/>
                    </a:lnTo>
                    <a:lnTo>
                      <a:pt x="396" y="0"/>
                    </a:lnTo>
                    <a:lnTo>
                      <a:pt x="364" y="30"/>
                    </a:lnTo>
                    <a:lnTo>
                      <a:pt x="330" y="66"/>
                    </a:lnTo>
                    <a:lnTo>
                      <a:pt x="286" y="114"/>
                    </a:lnTo>
                    <a:lnTo>
                      <a:pt x="236" y="170"/>
                    </a:lnTo>
                    <a:lnTo>
                      <a:pt x="210" y="204"/>
                    </a:lnTo>
                    <a:lnTo>
                      <a:pt x="184" y="238"/>
                    </a:lnTo>
                    <a:lnTo>
                      <a:pt x="158" y="274"/>
                    </a:lnTo>
                    <a:lnTo>
                      <a:pt x="134" y="312"/>
                    </a:lnTo>
                    <a:lnTo>
                      <a:pt x="110" y="352"/>
                    </a:lnTo>
                    <a:lnTo>
                      <a:pt x="86" y="394"/>
                    </a:lnTo>
                    <a:lnTo>
                      <a:pt x="66" y="436"/>
                    </a:lnTo>
                    <a:lnTo>
                      <a:pt x="48" y="478"/>
                    </a:lnTo>
                    <a:lnTo>
                      <a:pt x="32" y="522"/>
                    </a:lnTo>
                    <a:lnTo>
                      <a:pt x="18" y="568"/>
                    </a:lnTo>
                    <a:lnTo>
                      <a:pt x="8" y="614"/>
                    </a:lnTo>
                    <a:lnTo>
                      <a:pt x="2" y="658"/>
                    </a:lnTo>
                    <a:lnTo>
                      <a:pt x="0" y="704"/>
                    </a:lnTo>
                    <a:lnTo>
                      <a:pt x="2" y="728"/>
                    </a:lnTo>
                    <a:lnTo>
                      <a:pt x="4" y="750"/>
                    </a:lnTo>
                    <a:lnTo>
                      <a:pt x="6" y="774"/>
                    </a:lnTo>
                    <a:lnTo>
                      <a:pt x="10" y="796"/>
                    </a:lnTo>
                    <a:lnTo>
                      <a:pt x="16" y="818"/>
                    </a:lnTo>
                    <a:lnTo>
                      <a:pt x="24" y="842"/>
                    </a:lnTo>
                    <a:lnTo>
                      <a:pt x="32" y="864"/>
                    </a:lnTo>
                    <a:lnTo>
                      <a:pt x="42" y="886"/>
                    </a:lnTo>
                    <a:lnTo>
                      <a:pt x="54" y="908"/>
                    </a:lnTo>
                    <a:lnTo>
                      <a:pt x="68" y="930"/>
                    </a:lnTo>
                    <a:lnTo>
                      <a:pt x="82" y="952"/>
                    </a:lnTo>
                    <a:lnTo>
                      <a:pt x="100" y="974"/>
                    </a:lnTo>
                    <a:lnTo>
                      <a:pt x="118" y="994"/>
                    </a:lnTo>
                    <a:lnTo>
                      <a:pt x="138" y="1016"/>
                    </a:lnTo>
                    <a:lnTo>
                      <a:pt x="160" y="1036"/>
                    </a:lnTo>
                    <a:lnTo>
                      <a:pt x="184" y="1056"/>
                    </a:lnTo>
                    <a:lnTo>
                      <a:pt x="210" y="1076"/>
                    </a:lnTo>
                    <a:lnTo>
                      <a:pt x="238" y="1096"/>
                    </a:lnTo>
                    <a:lnTo>
                      <a:pt x="238" y="1096"/>
                    </a:lnTo>
                    <a:lnTo>
                      <a:pt x="232" y="1130"/>
                    </a:lnTo>
                    <a:lnTo>
                      <a:pt x="222" y="1164"/>
                    </a:lnTo>
                    <a:lnTo>
                      <a:pt x="212" y="1200"/>
                    </a:lnTo>
                    <a:lnTo>
                      <a:pt x="202" y="1234"/>
                    </a:lnTo>
                    <a:lnTo>
                      <a:pt x="188" y="1266"/>
                    </a:lnTo>
                    <a:lnTo>
                      <a:pt x="172" y="1294"/>
                    </a:lnTo>
                    <a:lnTo>
                      <a:pt x="162" y="1306"/>
                    </a:lnTo>
                    <a:lnTo>
                      <a:pt x="152" y="1316"/>
                    </a:lnTo>
                    <a:lnTo>
                      <a:pt x="142" y="1324"/>
                    </a:lnTo>
                    <a:lnTo>
                      <a:pt x="132" y="1330"/>
                    </a:lnTo>
                    <a:lnTo>
                      <a:pt x="132" y="1330"/>
                    </a:lnTo>
                    <a:lnTo>
                      <a:pt x="130" y="1332"/>
                    </a:lnTo>
                    <a:lnTo>
                      <a:pt x="126" y="1334"/>
                    </a:lnTo>
                    <a:lnTo>
                      <a:pt x="126" y="1338"/>
                    </a:lnTo>
                    <a:lnTo>
                      <a:pt x="130" y="1344"/>
                    </a:lnTo>
                    <a:lnTo>
                      <a:pt x="130" y="1344"/>
                    </a:lnTo>
                    <a:lnTo>
                      <a:pt x="134" y="1348"/>
                    </a:lnTo>
                    <a:lnTo>
                      <a:pt x="146" y="1356"/>
                    </a:lnTo>
                    <a:lnTo>
                      <a:pt x="154" y="1358"/>
                    </a:lnTo>
                    <a:lnTo>
                      <a:pt x="162" y="1358"/>
                    </a:lnTo>
                    <a:lnTo>
                      <a:pt x="172" y="1358"/>
                    </a:lnTo>
                    <a:lnTo>
                      <a:pt x="184" y="1354"/>
                    </a:lnTo>
                    <a:lnTo>
                      <a:pt x="184" y="1354"/>
                    </a:lnTo>
                    <a:lnTo>
                      <a:pt x="190" y="1352"/>
                    </a:lnTo>
                    <a:lnTo>
                      <a:pt x="194" y="1352"/>
                    </a:lnTo>
                    <a:lnTo>
                      <a:pt x="200" y="1350"/>
                    </a:lnTo>
                    <a:lnTo>
                      <a:pt x="206" y="1344"/>
                    </a:lnTo>
                    <a:lnTo>
                      <a:pt x="206" y="1344"/>
                    </a:lnTo>
                    <a:lnTo>
                      <a:pt x="214" y="1330"/>
                    </a:lnTo>
                    <a:lnTo>
                      <a:pt x="224" y="1312"/>
                    </a:lnTo>
                    <a:lnTo>
                      <a:pt x="232" y="1290"/>
                    </a:lnTo>
                    <a:lnTo>
                      <a:pt x="242" y="1264"/>
                    </a:lnTo>
                    <a:lnTo>
                      <a:pt x="262" y="1194"/>
                    </a:lnTo>
                    <a:lnTo>
                      <a:pt x="282" y="1102"/>
                    </a:lnTo>
                    <a:lnTo>
                      <a:pt x="282" y="1102"/>
                    </a:lnTo>
                    <a:lnTo>
                      <a:pt x="298" y="1102"/>
                    </a:lnTo>
                    <a:lnTo>
                      <a:pt x="318" y="1100"/>
                    </a:lnTo>
                    <a:lnTo>
                      <a:pt x="338" y="1098"/>
                    </a:lnTo>
                    <a:lnTo>
                      <a:pt x="360" y="1092"/>
                    </a:lnTo>
                    <a:lnTo>
                      <a:pt x="382" y="1086"/>
                    </a:lnTo>
                    <a:lnTo>
                      <a:pt x="404" y="1074"/>
                    </a:lnTo>
                    <a:lnTo>
                      <a:pt x="426" y="1062"/>
                    </a:lnTo>
                    <a:lnTo>
                      <a:pt x="450" y="1044"/>
                    </a:lnTo>
                    <a:lnTo>
                      <a:pt x="472" y="1024"/>
                    </a:lnTo>
                    <a:lnTo>
                      <a:pt x="492" y="998"/>
                    </a:lnTo>
                    <a:lnTo>
                      <a:pt x="512" y="968"/>
                    </a:lnTo>
                    <a:lnTo>
                      <a:pt x="528" y="934"/>
                    </a:lnTo>
                    <a:lnTo>
                      <a:pt x="544" y="894"/>
                    </a:lnTo>
                    <a:lnTo>
                      <a:pt x="556" y="846"/>
                    </a:lnTo>
                    <a:lnTo>
                      <a:pt x="566" y="794"/>
                    </a:lnTo>
                    <a:lnTo>
                      <a:pt x="574" y="736"/>
                    </a:lnTo>
                    <a:lnTo>
                      <a:pt x="574" y="736"/>
                    </a:lnTo>
                    <a:lnTo>
                      <a:pt x="574" y="712"/>
                    </a:lnTo>
                    <a:lnTo>
                      <a:pt x="572" y="686"/>
                    </a:lnTo>
                    <a:lnTo>
                      <a:pt x="568" y="652"/>
                    </a:lnTo>
                    <a:lnTo>
                      <a:pt x="562" y="612"/>
                    </a:lnTo>
                    <a:lnTo>
                      <a:pt x="552" y="566"/>
                    </a:lnTo>
                    <a:lnTo>
                      <a:pt x="538" y="518"/>
                    </a:lnTo>
                    <a:lnTo>
                      <a:pt x="528" y="494"/>
                    </a:lnTo>
                    <a:lnTo>
                      <a:pt x="518" y="468"/>
                    </a:lnTo>
                    <a:lnTo>
                      <a:pt x="518" y="468"/>
                    </a:lnTo>
                    <a:close/>
                  </a:path>
                </a:pathLst>
              </a:custGeom>
              <a:solidFill>
                <a:srgbClr val="ed4600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12"/>
              <p:cNvSpPr/>
              <p:nvPr/>
            </p:nvSpPr>
            <p:spPr>
              <a:xfrm rot="7111200">
                <a:off x="8078400" y="3447360"/>
                <a:ext cx="969120" cy="1008360"/>
              </a:xfrm>
              <a:custGeom>
                <a:avLst/>
                <a:gdLst>
                  <a:gd name="textAreaLeft" fmla="*/ 0 w 969120"/>
                  <a:gd name="textAreaRight" fmla="*/ 969480 w 969120"/>
                  <a:gd name="textAreaTop" fmla="*/ 0 h 1008360"/>
                  <a:gd name="textAreaBottom" fmla="*/ 1008720 h 1008360"/>
                </a:gdLst>
                <a:ahLst/>
                <a:rect l="textAreaLeft" t="textAreaTop" r="textAreaRight" b="textAreaBottom"/>
                <a:pathLst>
                  <a:path w="1356" h="1412">
                    <a:moveTo>
                      <a:pt x="1306" y="704"/>
                    </a:moveTo>
                    <a:lnTo>
                      <a:pt x="1306" y="704"/>
                    </a:lnTo>
                    <a:lnTo>
                      <a:pt x="1272" y="698"/>
                    </a:lnTo>
                    <a:lnTo>
                      <a:pt x="1246" y="690"/>
                    </a:lnTo>
                    <a:lnTo>
                      <a:pt x="1236" y="684"/>
                    </a:lnTo>
                    <a:lnTo>
                      <a:pt x="1226" y="680"/>
                    </a:lnTo>
                    <a:lnTo>
                      <a:pt x="1218" y="674"/>
                    </a:lnTo>
                    <a:lnTo>
                      <a:pt x="1212" y="666"/>
                    </a:lnTo>
                    <a:lnTo>
                      <a:pt x="1208" y="660"/>
                    </a:lnTo>
                    <a:lnTo>
                      <a:pt x="1204" y="652"/>
                    </a:lnTo>
                    <a:lnTo>
                      <a:pt x="1200" y="638"/>
                    </a:lnTo>
                    <a:lnTo>
                      <a:pt x="1198" y="622"/>
                    </a:lnTo>
                    <a:lnTo>
                      <a:pt x="1202" y="606"/>
                    </a:lnTo>
                    <a:lnTo>
                      <a:pt x="1206" y="592"/>
                    </a:lnTo>
                    <a:lnTo>
                      <a:pt x="1214" y="576"/>
                    </a:lnTo>
                    <a:lnTo>
                      <a:pt x="1230" y="552"/>
                    </a:lnTo>
                    <a:lnTo>
                      <a:pt x="1242" y="534"/>
                    </a:lnTo>
                    <a:lnTo>
                      <a:pt x="1248" y="526"/>
                    </a:lnTo>
                    <a:lnTo>
                      <a:pt x="1248" y="526"/>
                    </a:lnTo>
                    <a:lnTo>
                      <a:pt x="1240" y="526"/>
                    </a:lnTo>
                    <a:lnTo>
                      <a:pt x="1234" y="524"/>
                    </a:lnTo>
                    <a:lnTo>
                      <a:pt x="1228" y="522"/>
                    </a:lnTo>
                    <a:lnTo>
                      <a:pt x="1224" y="518"/>
                    </a:lnTo>
                    <a:lnTo>
                      <a:pt x="1220" y="512"/>
                    </a:lnTo>
                    <a:lnTo>
                      <a:pt x="1218" y="506"/>
                    </a:lnTo>
                    <a:lnTo>
                      <a:pt x="1214" y="494"/>
                    </a:lnTo>
                    <a:lnTo>
                      <a:pt x="1214" y="478"/>
                    </a:lnTo>
                    <a:lnTo>
                      <a:pt x="1216" y="460"/>
                    </a:lnTo>
                    <a:lnTo>
                      <a:pt x="1218" y="440"/>
                    </a:lnTo>
                    <a:lnTo>
                      <a:pt x="1224" y="420"/>
                    </a:lnTo>
                    <a:lnTo>
                      <a:pt x="1236" y="380"/>
                    </a:lnTo>
                    <a:lnTo>
                      <a:pt x="1250" y="346"/>
                    </a:lnTo>
                    <a:lnTo>
                      <a:pt x="1266" y="312"/>
                    </a:lnTo>
                    <a:lnTo>
                      <a:pt x="1266" y="312"/>
                    </a:lnTo>
                    <a:lnTo>
                      <a:pt x="1238" y="340"/>
                    </a:lnTo>
                    <a:lnTo>
                      <a:pt x="1210" y="362"/>
                    </a:lnTo>
                    <a:lnTo>
                      <a:pt x="1184" y="380"/>
                    </a:lnTo>
                    <a:lnTo>
                      <a:pt x="1160" y="394"/>
                    </a:lnTo>
                    <a:lnTo>
                      <a:pt x="1138" y="404"/>
                    </a:lnTo>
                    <a:lnTo>
                      <a:pt x="1118" y="410"/>
                    </a:lnTo>
                    <a:lnTo>
                      <a:pt x="1098" y="414"/>
                    </a:lnTo>
                    <a:lnTo>
                      <a:pt x="1082" y="416"/>
                    </a:lnTo>
                    <a:lnTo>
                      <a:pt x="1066" y="416"/>
                    </a:lnTo>
                    <a:lnTo>
                      <a:pt x="1052" y="414"/>
                    </a:lnTo>
                    <a:lnTo>
                      <a:pt x="1030" y="410"/>
                    </a:lnTo>
                    <a:lnTo>
                      <a:pt x="1016" y="404"/>
                    </a:lnTo>
                    <a:lnTo>
                      <a:pt x="1012" y="402"/>
                    </a:lnTo>
                    <a:lnTo>
                      <a:pt x="1012" y="402"/>
                    </a:lnTo>
                    <a:lnTo>
                      <a:pt x="1006" y="414"/>
                    </a:lnTo>
                    <a:lnTo>
                      <a:pt x="996" y="430"/>
                    </a:lnTo>
                    <a:lnTo>
                      <a:pt x="964" y="468"/>
                    </a:lnTo>
                    <a:lnTo>
                      <a:pt x="928" y="506"/>
                    </a:lnTo>
                    <a:lnTo>
                      <a:pt x="902" y="532"/>
                    </a:lnTo>
                    <a:lnTo>
                      <a:pt x="902" y="532"/>
                    </a:lnTo>
                    <a:lnTo>
                      <a:pt x="894" y="538"/>
                    </a:lnTo>
                    <a:lnTo>
                      <a:pt x="888" y="540"/>
                    </a:lnTo>
                    <a:lnTo>
                      <a:pt x="886" y="538"/>
                    </a:lnTo>
                    <a:lnTo>
                      <a:pt x="884" y="532"/>
                    </a:lnTo>
                    <a:lnTo>
                      <a:pt x="882" y="522"/>
                    </a:lnTo>
                    <a:lnTo>
                      <a:pt x="882" y="516"/>
                    </a:lnTo>
                    <a:lnTo>
                      <a:pt x="882" y="516"/>
                    </a:lnTo>
                    <a:lnTo>
                      <a:pt x="890" y="502"/>
                    </a:lnTo>
                    <a:lnTo>
                      <a:pt x="898" y="486"/>
                    </a:lnTo>
                    <a:lnTo>
                      <a:pt x="910" y="448"/>
                    </a:lnTo>
                    <a:lnTo>
                      <a:pt x="920" y="404"/>
                    </a:lnTo>
                    <a:lnTo>
                      <a:pt x="928" y="360"/>
                    </a:lnTo>
                    <a:lnTo>
                      <a:pt x="938" y="282"/>
                    </a:lnTo>
                    <a:lnTo>
                      <a:pt x="942" y="250"/>
                    </a:lnTo>
                    <a:lnTo>
                      <a:pt x="942" y="250"/>
                    </a:lnTo>
                    <a:lnTo>
                      <a:pt x="904" y="278"/>
                    </a:lnTo>
                    <a:lnTo>
                      <a:pt x="874" y="298"/>
                    </a:lnTo>
                    <a:lnTo>
                      <a:pt x="850" y="310"/>
                    </a:lnTo>
                    <a:lnTo>
                      <a:pt x="840" y="312"/>
                    </a:lnTo>
                    <a:lnTo>
                      <a:pt x="830" y="314"/>
                    </a:lnTo>
                    <a:lnTo>
                      <a:pt x="822" y="314"/>
                    </a:lnTo>
                    <a:lnTo>
                      <a:pt x="816" y="312"/>
                    </a:lnTo>
                    <a:lnTo>
                      <a:pt x="810" y="310"/>
                    </a:lnTo>
                    <a:lnTo>
                      <a:pt x="804" y="306"/>
                    </a:lnTo>
                    <a:lnTo>
                      <a:pt x="800" y="300"/>
                    </a:lnTo>
                    <a:lnTo>
                      <a:pt x="796" y="294"/>
                    </a:lnTo>
                    <a:lnTo>
                      <a:pt x="792" y="280"/>
                    </a:lnTo>
                    <a:lnTo>
                      <a:pt x="790" y="264"/>
                    </a:lnTo>
                    <a:lnTo>
                      <a:pt x="790" y="246"/>
                    </a:lnTo>
                    <a:lnTo>
                      <a:pt x="792" y="212"/>
                    </a:lnTo>
                    <a:lnTo>
                      <a:pt x="798" y="186"/>
                    </a:lnTo>
                    <a:lnTo>
                      <a:pt x="800" y="176"/>
                    </a:lnTo>
                    <a:lnTo>
                      <a:pt x="800" y="176"/>
                    </a:lnTo>
                    <a:lnTo>
                      <a:pt x="792" y="184"/>
                    </a:lnTo>
                    <a:lnTo>
                      <a:pt x="782" y="190"/>
                    </a:lnTo>
                    <a:lnTo>
                      <a:pt x="774" y="194"/>
                    </a:lnTo>
                    <a:lnTo>
                      <a:pt x="766" y="198"/>
                    </a:lnTo>
                    <a:lnTo>
                      <a:pt x="758" y="198"/>
                    </a:lnTo>
                    <a:lnTo>
                      <a:pt x="750" y="196"/>
                    </a:lnTo>
                    <a:lnTo>
                      <a:pt x="744" y="194"/>
                    </a:lnTo>
                    <a:lnTo>
                      <a:pt x="738" y="190"/>
                    </a:lnTo>
                    <a:lnTo>
                      <a:pt x="726" y="180"/>
                    </a:lnTo>
                    <a:lnTo>
                      <a:pt x="716" y="164"/>
                    </a:lnTo>
                    <a:lnTo>
                      <a:pt x="708" y="146"/>
                    </a:lnTo>
                    <a:lnTo>
                      <a:pt x="700" y="126"/>
                    </a:lnTo>
                    <a:lnTo>
                      <a:pt x="694" y="104"/>
                    </a:lnTo>
                    <a:lnTo>
                      <a:pt x="690" y="82"/>
                    </a:lnTo>
                    <a:lnTo>
                      <a:pt x="684" y="42"/>
                    </a:lnTo>
                    <a:lnTo>
                      <a:pt x="678" y="0"/>
                    </a:lnTo>
                    <a:lnTo>
                      <a:pt x="678" y="0"/>
                    </a:lnTo>
                    <a:lnTo>
                      <a:pt x="678" y="8"/>
                    </a:lnTo>
                    <a:lnTo>
                      <a:pt x="678" y="8"/>
                    </a:lnTo>
                    <a:lnTo>
                      <a:pt x="678" y="0"/>
                    </a:lnTo>
                    <a:lnTo>
                      <a:pt x="678" y="0"/>
                    </a:lnTo>
                    <a:lnTo>
                      <a:pt x="672" y="42"/>
                    </a:lnTo>
                    <a:lnTo>
                      <a:pt x="666" y="82"/>
                    </a:lnTo>
                    <a:lnTo>
                      <a:pt x="662" y="104"/>
                    </a:lnTo>
                    <a:lnTo>
                      <a:pt x="656" y="126"/>
                    </a:lnTo>
                    <a:lnTo>
                      <a:pt x="648" y="146"/>
                    </a:lnTo>
                    <a:lnTo>
                      <a:pt x="640" y="164"/>
                    </a:lnTo>
                    <a:lnTo>
                      <a:pt x="630" y="180"/>
                    </a:lnTo>
                    <a:lnTo>
                      <a:pt x="618" y="190"/>
                    </a:lnTo>
                    <a:lnTo>
                      <a:pt x="612" y="194"/>
                    </a:lnTo>
                    <a:lnTo>
                      <a:pt x="606" y="196"/>
                    </a:lnTo>
                    <a:lnTo>
                      <a:pt x="598" y="198"/>
                    </a:lnTo>
                    <a:lnTo>
                      <a:pt x="590" y="198"/>
                    </a:lnTo>
                    <a:lnTo>
                      <a:pt x="582" y="194"/>
                    </a:lnTo>
                    <a:lnTo>
                      <a:pt x="574" y="190"/>
                    </a:lnTo>
                    <a:lnTo>
                      <a:pt x="564" y="184"/>
                    </a:lnTo>
                    <a:lnTo>
                      <a:pt x="556" y="176"/>
                    </a:lnTo>
                    <a:lnTo>
                      <a:pt x="556" y="176"/>
                    </a:lnTo>
                    <a:lnTo>
                      <a:pt x="558" y="186"/>
                    </a:lnTo>
                    <a:lnTo>
                      <a:pt x="564" y="212"/>
                    </a:lnTo>
                    <a:lnTo>
                      <a:pt x="566" y="246"/>
                    </a:lnTo>
                    <a:lnTo>
                      <a:pt x="566" y="264"/>
                    </a:lnTo>
                    <a:lnTo>
                      <a:pt x="564" y="280"/>
                    </a:lnTo>
                    <a:lnTo>
                      <a:pt x="560" y="294"/>
                    </a:lnTo>
                    <a:lnTo>
                      <a:pt x="556" y="300"/>
                    </a:lnTo>
                    <a:lnTo>
                      <a:pt x="552" y="306"/>
                    </a:lnTo>
                    <a:lnTo>
                      <a:pt x="546" y="310"/>
                    </a:lnTo>
                    <a:lnTo>
                      <a:pt x="540" y="312"/>
                    </a:lnTo>
                    <a:lnTo>
                      <a:pt x="534" y="314"/>
                    </a:lnTo>
                    <a:lnTo>
                      <a:pt x="526" y="314"/>
                    </a:lnTo>
                    <a:lnTo>
                      <a:pt x="516" y="312"/>
                    </a:lnTo>
                    <a:lnTo>
                      <a:pt x="506" y="310"/>
                    </a:lnTo>
                    <a:lnTo>
                      <a:pt x="482" y="298"/>
                    </a:lnTo>
                    <a:lnTo>
                      <a:pt x="452" y="278"/>
                    </a:lnTo>
                    <a:lnTo>
                      <a:pt x="414" y="250"/>
                    </a:lnTo>
                    <a:lnTo>
                      <a:pt x="414" y="250"/>
                    </a:lnTo>
                    <a:lnTo>
                      <a:pt x="418" y="282"/>
                    </a:lnTo>
                    <a:lnTo>
                      <a:pt x="428" y="360"/>
                    </a:lnTo>
                    <a:lnTo>
                      <a:pt x="436" y="404"/>
                    </a:lnTo>
                    <a:lnTo>
                      <a:pt x="446" y="448"/>
                    </a:lnTo>
                    <a:lnTo>
                      <a:pt x="458" y="486"/>
                    </a:lnTo>
                    <a:lnTo>
                      <a:pt x="466" y="502"/>
                    </a:lnTo>
                    <a:lnTo>
                      <a:pt x="474" y="516"/>
                    </a:lnTo>
                    <a:lnTo>
                      <a:pt x="474" y="516"/>
                    </a:lnTo>
                    <a:lnTo>
                      <a:pt x="474" y="522"/>
                    </a:lnTo>
                    <a:lnTo>
                      <a:pt x="472" y="532"/>
                    </a:lnTo>
                    <a:lnTo>
                      <a:pt x="470" y="538"/>
                    </a:lnTo>
                    <a:lnTo>
                      <a:pt x="468" y="540"/>
                    </a:lnTo>
                    <a:lnTo>
                      <a:pt x="462" y="538"/>
                    </a:lnTo>
                    <a:lnTo>
                      <a:pt x="454" y="532"/>
                    </a:lnTo>
                    <a:lnTo>
                      <a:pt x="454" y="532"/>
                    </a:lnTo>
                    <a:lnTo>
                      <a:pt x="428" y="506"/>
                    </a:lnTo>
                    <a:lnTo>
                      <a:pt x="392" y="468"/>
                    </a:lnTo>
                    <a:lnTo>
                      <a:pt x="360" y="430"/>
                    </a:lnTo>
                    <a:lnTo>
                      <a:pt x="350" y="414"/>
                    </a:lnTo>
                    <a:lnTo>
                      <a:pt x="344" y="402"/>
                    </a:lnTo>
                    <a:lnTo>
                      <a:pt x="344" y="402"/>
                    </a:lnTo>
                    <a:lnTo>
                      <a:pt x="340" y="404"/>
                    </a:lnTo>
                    <a:lnTo>
                      <a:pt x="326" y="410"/>
                    </a:lnTo>
                    <a:lnTo>
                      <a:pt x="304" y="414"/>
                    </a:lnTo>
                    <a:lnTo>
                      <a:pt x="290" y="416"/>
                    </a:lnTo>
                    <a:lnTo>
                      <a:pt x="274" y="416"/>
                    </a:lnTo>
                    <a:lnTo>
                      <a:pt x="258" y="414"/>
                    </a:lnTo>
                    <a:lnTo>
                      <a:pt x="238" y="410"/>
                    </a:lnTo>
                    <a:lnTo>
                      <a:pt x="218" y="404"/>
                    </a:lnTo>
                    <a:lnTo>
                      <a:pt x="196" y="394"/>
                    </a:lnTo>
                    <a:lnTo>
                      <a:pt x="172" y="380"/>
                    </a:lnTo>
                    <a:lnTo>
                      <a:pt x="146" y="362"/>
                    </a:lnTo>
                    <a:lnTo>
                      <a:pt x="118" y="340"/>
                    </a:lnTo>
                    <a:lnTo>
                      <a:pt x="90" y="312"/>
                    </a:lnTo>
                    <a:lnTo>
                      <a:pt x="90" y="312"/>
                    </a:lnTo>
                    <a:lnTo>
                      <a:pt x="106" y="346"/>
                    </a:lnTo>
                    <a:lnTo>
                      <a:pt x="120" y="380"/>
                    </a:lnTo>
                    <a:lnTo>
                      <a:pt x="132" y="420"/>
                    </a:lnTo>
                    <a:lnTo>
                      <a:pt x="138" y="440"/>
                    </a:lnTo>
                    <a:lnTo>
                      <a:pt x="140" y="460"/>
                    </a:lnTo>
                    <a:lnTo>
                      <a:pt x="142" y="478"/>
                    </a:lnTo>
                    <a:lnTo>
                      <a:pt x="142" y="494"/>
                    </a:lnTo>
                    <a:lnTo>
                      <a:pt x="138" y="506"/>
                    </a:lnTo>
                    <a:lnTo>
                      <a:pt x="136" y="512"/>
                    </a:lnTo>
                    <a:lnTo>
                      <a:pt x="132" y="518"/>
                    </a:lnTo>
                    <a:lnTo>
                      <a:pt x="128" y="522"/>
                    </a:lnTo>
                    <a:lnTo>
                      <a:pt x="122" y="524"/>
                    </a:lnTo>
                    <a:lnTo>
                      <a:pt x="116" y="526"/>
                    </a:lnTo>
                    <a:lnTo>
                      <a:pt x="108" y="526"/>
                    </a:lnTo>
                    <a:lnTo>
                      <a:pt x="108" y="526"/>
                    </a:lnTo>
                    <a:lnTo>
                      <a:pt x="114" y="534"/>
                    </a:lnTo>
                    <a:lnTo>
                      <a:pt x="126" y="552"/>
                    </a:lnTo>
                    <a:lnTo>
                      <a:pt x="142" y="576"/>
                    </a:lnTo>
                    <a:lnTo>
                      <a:pt x="150" y="592"/>
                    </a:lnTo>
                    <a:lnTo>
                      <a:pt x="154" y="606"/>
                    </a:lnTo>
                    <a:lnTo>
                      <a:pt x="158" y="622"/>
                    </a:lnTo>
                    <a:lnTo>
                      <a:pt x="156" y="638"/>
                    </a:lnTo>
                    <a:lnTo>
                      <a:pt x="152" y="652"/>
                    </a:lnTo>
                    <a:lnTo>
                      <a:pt x="148" y="660"/>
                    </a:lnTo>
                    <a:lnTo>
                      <a:pt x="144" y="666"/>
                    </a:lnTo>
                    <a:lnTo>
                      <a:pt x="138" y="674"/>
                    </a:lnTo>
                    <a:lnTo>
                      <a:pt x="130" y="680"/>
                    </a:lnTo>
                    <a:lnTo>
                      <a:pt x="120" y="684"/>
                    </a:lnTo>
                    <a:lnTo>
                      <a:pt x="110" y="690"/>
                    </a:lnTo>
                    <a:lnTo>
                      <a:pt x="84" y="698"/>
                    </a:lnTo>
                    <a:lnTo>
                      <a:pt x="50" y="704"/>
                    </a:lnTo>
                    <a:lnTo>
                      <a:pt x="50" y="704"/>
                    </a:lnTo>
                    <a:lnTo>
                      <a:pt x="70" y="712"/>
                    </a:lnTo>
                    <a:lnTo>
                      <a:pt x="116" y="734"/>
                    </a:lnTo>
                    <a:lnTo>
                      <a:pt x="146" y="748"/>
                    </a:lnTo>
                    <a:lnTo>
                      <a:pt x="174" y="766"/>
                    </a:lnTo>
                    <a:lnTo>
                      <a:pt x="202" y="784"/>
                    </a:lnTo>
                    <a:lnTo>
                      <a:pt x="224" y="804"/>
                    </a:lnTo>
                    <a:lnTo>
                      <a:pt x="234" y="814"/>
                    </a:lnTo>
                    <a:lnTo>
                      <a:pt x="242" y="824"/>
                    </a:lnTo>
                    <a:lnTo>
                      <a:pt x="246" y="836"/>
                    </a:lnTo>
                    <a:lnTo>
                      <a:pt x="250" y="846"/>
                    </a:lnTo>
                    <a:lnTo>
                      <a:pt x="250" y="856"/>
                    </a:lnTo>
                    <a:lnTo>
                      <a:pt x="248" y="868"/>
                    </a:lnTo>
                    <a:lnTo>
                      <a:pt x="242" y="878"/>
                    </a:lnTo>
                    <a:lnTo>
                      <a:pt x="232" y="888"/>
                    </a:lnTo>
                    <a:lnTo>
                      <a:pt x="220" y="900"/>
                    </a:lnTo>
                    <a:lnTo>
                      <a:pt x="202" y="910"/>
                    </a:lnTo>
                    <a:lnTo>
                      <a:pt x="182" y="920"/>
                    </a:lnTo>
                    <a:lnTo>
                      <a:pt x="156" y="930"/>
                    </a:lnTo>
                    <a:lnTo>
                      <a:pt x="124" y="938"/>
                    </a:lnTo>
                    <a:lnTo>
                      <a:pt x="88" y="948"/>
                    </a:lnTo>
                    <a:lnTo>
                      <a:pt x="48" y="956"/>
                    </a:lnTo>
                    <a:lnTo>
                      <a:pt x="0" y="964"/>
                    </a:lnTo>
                    <a:lnTo>
                      <a:pt x="0" y="964"/>
                    </a:lnTo>
                    <a:lnTo>
                      <a:pt x="30" y="966"/>
                    </a:lnTo>
                    <a:lnTo>
                      <a:pt x="62" y="972"/>
                    </a:lnTo>
                    <a:lnTo>
                      <a:pt x="102" y="980"/>
                    </a:lnTo>
                    <a:lnTo>
                      <a:pt x="148" y="992"/>
                    </a:lnTo>
                    <a:lnTo>
                      <a:pt x="198" y="1010"/>
                    </a:lnTo>
                    <a:lnTo>
                      <a:pt x="224" y="1020"/>
                    </a:lnTo>
                    <a:lnTo>
                      <a:pt x="250" y="1032"/>
                    </a:lnTo>
                    <a:lnTo>
                      <a:pt x="274" y="1046"/>
                    </a:lnTo>
                    <a:lnTo>
                      <a:pt x="298" y="1060"/>
                    </a:lnTo>
                    <a:lnTo>
                      <a:pt x="298" y="1060"/>
                    </a:lnTo>
                    <a:lnTo>
                      <a:pt x="330" y="1060"/>
                    </a:lnTo>
                    <a:lnTo>
                      <a:pt x="358" y="1064"/>
                    </a:lnTo>
                    <a:lnTo>
                      <a:pt x="374" y="1066"/>
                    </a:lnTo>
                    <a:lnTo>
                      <a:pt x="388" y="1070"/>
                    </a:lnTo>
                    <a:lnTo>
                      <a:pt x="402" y="1074"/>
                    </a:lnTo>
                    <a:lnTo>
                      <a:pt x="412" y="1082"/>
                    </a:lnTo>
                    <a:lnTo>
                      <a:pt x="420" y="1090"/>
                    </a:lnTo>
                    <a:lnTo>
                      <a:pt x="422" y="1094"/>
                    </a:lnTo>
                    <a:lnTo>
                      <a:pt x="422" y="1100"/>
                    </a:lnTo>
                    <a:lnTo>
                      <a:pt x="422" y="1106"/>
                    </a:lnTo>
                    <a:lnTo>
                      <a:pt x="422" y="1114"/>
                    </a:lnTo>
                    <a:lnTo>
                      <a:pt x="414" y="1128"/>
                    </a:lnTo>
                    <a:lnTo>
                      <a:pt x="402" y="1146"/>
                    </a:lnTo>
                    <a:lnTo>
                      <a:pt x="382" y="1168"/>
                    </a:lnTo>
                    <a:lnTo>
                      <a:pt x="382" y="1168"/>
                    </a:lnTo>
                    <a:lnTo>
                      <a:pt x="410" y="1160"/>
                    </a:lnTo>
                    <a:lnTo>
                      <a:pt x="442" y="1152"/>
                    </a:lnTo>
                    <a:lnTo>
                      <a:pt x="482" y="1140"/>
                    </a:lnTo>
                    <a:lnTo>
                      <a:pt x="526" y="1126"/>
                    </a:lnTo>
                    <a:lnTo>
                      <a:pt x="572" y="1108"/>
                    </a:lnTo>
                    <a:lnTo>
                      <a:pt x="616" y="1088"/>
                    </a:lnTo>
                    <a:lnTo>
                      <a:pt x="636" y="1076"/>
                    </a:lnTo>
                    <a:lnTo>
                      <a:pt x="654" y="1064"/>
                    </a:lnTo>
                    <a:lnTo>
                      <a:pt x="654" y="1064"/>
                    </a:lnTo>
                    <a:lnTo>
                      <a:pt x="654" y="1128"/>
                    </a:lnTo>
                    <a:lnTo>
                      <a:pt x="652" y="1174"/>
                    </a:lnTo>
                    <a:lnTo>
                      <a:pt x="646" y="1224"/>
                    </a:lnTo>
                    <a:lnTo>
                      <a:pt x="638" y="1274"/>
                    </a:lnTo>
                    <a:lnTo>
                      <a:pt x="632" y="1298"/>
                    </a:lnTo>
                    <a:lnTo>
                      <a:pt x="626" y="1322"/>
                    </a:lnTo>
                    <a:lnTo>
                      <a:pt x="616" y="1342"/>
                    </a:lnTo>
                    <a:lnTo>
                      <a:pt x="606" y="1360"/>
                    </a:lnTo>
                    <a:lnTo>
                      <a:pt x="594" y="1374"/>
                    </a:lnTo>
                    <a:lnTo>
                      <a:pt x="582" y="1386"/>
                    </a:lnTo>
                    <a:lnTo>
                      <a:pt x="582" y="1386"/>
                    </a:lnTo>
                    <a:lnTo>
                      <a:pt x="580" y="1388"/>
                    </a:lnTo>
                    <a:lnTo>
                      <a:pt x="576" y="1392"/>
                    </a:lnTo>
                    <a:lnTo>
                      <a:pt x="576" y="1396"/>
                    </a:lnTo>
                    <a:lnTo>
                      <a:pt x="582" y="1400"/>
                    </a:lnTo>
                    <a:lnTo>
                      <a:pt x="582" y="1400"/>
                    </a:lnTo>
                    <a:lnTo>
                      <a:pt x="586" y="1404"/>
                    </a:lnTo>
                    <a:lnTo>
                      <a:pt x="600" y="1410"/>
                    </a:lnTo>
                    <a:lnTo>
                      <a:pt x="608" y="1412"/>
                    </a:lnTo>
                    <a:lnTo>
                      <a:pt x="616" y="1410"/>
                    </a:lnTo>
                    <a:lnTo>
                      <a:pt x="626" y="1408"/>
                    </a:lnTo>
                    <a:lnTo>
                      <a:pt x="636" y="1402"/>
                    </a:lnTo>
                    <a:lnTo>
                      <a:pt x="636" y="1402"/>
                    </a:lnTo>
                    <a:lnTo>
                      <a:pt x="642" y="1400"/>
                    </a:lnTo>
                    <a:lnTo>
                      <a:pt x="646" y="1400"/>
                    </a:lnTo>
                    <a:lnTo>
                      <a:pt x="652" y="1396"/>
                    </a:lnTo>
                    <a:lnTo>
                      <a:pt x="658" y="1390"/>
                    </a:lnTo>
                    <a:lnTo>
                      <a:pt x="658" y="1390"/>
                    </a:lnTo>
                    <a:lnTo>
                      <a:pt x="666" y="1372"/>
                    </a:lnTo>
                    <a:lnTo>
                      <a:pt x="672" y="1350"/>
                    </a:lnTo>
                    <a:lnTo>
                      <a:pt x="678" y="1320"/>
                    </a:lnTo>
                    <a:lnTo>
                      <a:pt x="684" y="1284"/>
                    </a:lnTo>
                    <a:lnTo>
                      <a:pt x="690" y="1240"/>
                    </a:lnTo>
                    <a:lnTo>
                      <a:pt x="694" y="1190"/>
                    </a:lnTo>
                    <a:lnTo>
                      <a:pt x="702" y="1064"/>
                    </a:lnTo>
                    <a:lnTo>
                      <a:pt x="702" y="1064"/>
                    </a:lnTo>
                    <a:lnTo>
                      <a:pt x="722" y="1076"/>
                    </a:lnTo>
                    <a:lnTo>
                      <a:pt x="742" y="1088"/>
                    </a:lnTo>
                    <a:lnTo>
                      <a:pt x="786" y="1108"/>
                    </a:lnTo>
                    <a:lnTo>
                      <a:pt x="830" y="1126"/>
                    </a:lnTo>
                    <a:lnTo>
                      <a:pt x="874" y="1140"/>
                    </a:lnTo>
                    <a:lnTo>
                      <a:pt x="914" y="1152"/>
                    </a:lnTo>
                    <a:lnTo>
                      <a:pt x="946" y="1160"/>
                    </a:lnTo>
                    <a:lnTo>
                      <a:pt x="974" y="1168"/>
                    </a:lnTo>
                    <a:lnTo>
                      <a:pt x="974" y="1168"/>
                    </a:lnTo>
                    <a:lnTo>
                      <a:pt x="954" y="1146"/>
                    </a:lnTo>
                    <a:lnTo>
                      <a:pt x="942" y="1128"/>
                    </a:lnTo>
                    <a:lnTo>
                      <a:pt x="934" y="1114"/>
                    </a:lnTo>
                    <a:lnTo>
                      <a:pt x="934" y="1106"/>
                    </a:lnTo>
                    <a:lnTo>
                      <a:pt x="934" y="1100"/>
                    </a:lnTo>
                    <a:lnTo>
                      <a:pt x="934" y="1094"/>
                    </a:lnTo>
                    <a:lnTo>
                      <a:pt x="936" y="1090"/>
                    </a:lnTo>
                    <a:lnTo>
                      <a:pt x="944" y="1082"/>
                    </a:lnTo>
                    <a:lnTo>
                      <a:pt x="954" y="1074"/>
                    </a:lnTo>
                    <a:lnTo>
                      <a:pt x="968" y="1070"/>
                    </a:lnTo>
                    <a:lnTo>
                      <a:pt x="982" y="1066"/>
                    </a:lnTo>
                    <a:lnTo>
                      <a:pt x="998" y="1064"/>
                    </a:lnTo>
                    <a:lnTo>
                      <a:pt x="1026" y="1060"/>
                    </a:lnTo>
                    <a:lnTo>
                      <a:pt x="1058" y="1060"/>
                    </a:lnTo>
                    <a:lnTo>
                      <a:pt x="1058" y="1060"/>
                    </a:lnTo>
                    <a:lnTo>
                      <a:pt x="1082" y="1046"/>
                    </a:lnTo>
                    <a:lnTo>
                      <a:pt x="1106" y="1032"/>
                    </a:lnTo>
                    <a:lnTo>
                      <a:pt x="1132" y="1020"/>
                    </a:lnTo>
                    <a:lnTo>
                      <a:pt x="1158" y="1010"/>
                    </a:lnTo>
                    <a:lnTo>
                      <a:pt x="1208" y="992"/>
                    </a:lnTo>
                    <a:lnTo>
                      <a:pt x="1254" y="980"/>
                    </a:lnTo>
                    <a:lnTo>
                      <a:pt x="1294" y="972"/>
                    </a:lnTo>
                    <a:lnTo>
                      <a:pt x="1326" y="966"/>
                    </a:lnTo>
                    <a:lnTo>
                      <a:pt x="1356" y="964"/>
                    </a:lnTo>
                    <a:lnTo>
                      <a:pt x="1356" y="964"/>
                    </a:lnTo>
                    <a:lnTo>
                      <a:pt x="1308" y="956"/>
                    </a:lnTo>
                    <a:lnTo>
                      <a:pt x="1268" y="948"/>
                    </a:lnTo>
                    <a:lnTo>
                      <a:pt x="1232" y="938"/>
                    </a:lnTo>
                    <a:lnTo>
                      <a:pt x="1200" y="930"/>
                    </a:lnTo>
                    <a:lnTo>
                      <a:pt x="1174" y="920"/>
                    </a:lnTo>
                    <a:lnTo>
                      <a:pt x="1154" y="910"/>
                    </a:lnTo>
                    <a:lnTo>
                      <a:pt x="1136" y="900"/>
                    </a:lnTo>
                    <a:lnTo>
                      <a:pt x="1124" y="888"/>
                    </a:lnTo>
                    <a:lnTo>
                      <a:pt x="1114" y="878"/>
                    </a:lnTo>
                    <a:lnTo>
                      <a:pt x="1108" y="868"/>
                    </a:lnTo>
                    <a:lnTo>
                      <a:pt x="1106" y="856"/>
                    </a:lnTo>
                    <a:lnTo>
                      <a:pt x="1106" y="846"/>
                    </a:lnTo>
                    <a:lnTo>
                      <a:pt x="1108" y="836"/>
                    </a:lnTo>
                    <a:lnTo>
                      <a:pt x="1114" y="824"/>
                    </a:lnTo>
                    <a:lnTo>
                      <a:pt x="1122" y="814"/>
                    </a:lnTo>
                    <a:lnTo>
                      <a:pt x="1132" y="804"/>
                    </a:lnTo>
                    <a:lnTo>
                      <a:pt x="1154" y="784"/>
                    </a:lnTo>
                    <a:lnTo>
                      <a:pt x="1182" y="766"/>
                    </a:lnTo>
                    <a:lnTo>
                      <a:pt x="1210" y="748"/>
                    </a:lnTo>
                    <a:lnTo>
                      <a:pt x="1240" y="734"/>
                    </a:lnTo>
                    <a:lnTo>
                      <a:pt x="1286" y="712"/>
                    </a:lnTo>
                    <a:lnTo>
                      <a:pt x="1306" y="704"/>
                    </a:lnTo>
                    <a:lnTo>
                      <a:pt x="1306" y="704"/>
                    </a:lnTo>
                    <a:close/>
                  </a:path>
                </a:pathLst>
              </a:custGeom>
              <a:solidFill>
                <a:srgbClr val="ed4600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15"/>
              <p:cNvSpPr/>
              <p:nvPr/>
            </p:nvSpPr>
            <p:spPr>
              <a:xfrm>
                <a:off x="20160" y="6105240"/>
                <a:ext cx="482040" cy="752760"/>
              </a:xfrm>
              <a:custGeom>
                <a:avLst/>
                <a:gdLst>
                  <a:gd name="textAreaLeft" fmla="*/ 0 w 482040"/>
                  <a:gd name="textAreaRight" fmla="*/ 482400 w 482040"/>
                  <a:gd name="textAreaTop" fmla="*/ 0 h 752760"/>
                  <a:gd name="textAreaBottom" fmla="*/ 753120 h 752760"/>
                </a:gdLst>
                <a:ahLst/>
                <a:rect l="textAreaLeft" t="textAreaTop" r="textAreaRight" b="textAreaBottom"/>
                <a:pathLst>
                  <a:path w="424" h="640">
                    <a:moveTo>
                      <a:pt x="424" y="24"/>
                    </a:moveTo>
                    <a:lnTo>
                      <a:pt x="424" y="24"/>
                    </a:lnTo>
                    <a:lnTo>
                      <a:pt x="420" y="18"/>
                    </a:lnTo>
                    <a:lnTo>
                      <a:pt x="414" y="10"/>
                    </a:lnTo>
                    <a:lnTo>
                      <a:pt x="408" y="6"/>
                    </a:lnTo>
                    <a:lnTo>
                      <a:pt x="402" y="4"/>
                    </a:lnTo>
                    <a:lnTo>
                      <a:pt x="394" y="2"/>
                    </a:lnTo>
                    <a:lnTo>
                      <a:pt x="386" y="2"/>
                    </a:lnTo>
                    <a:lnTo>
                      <a:pt x="386" y="2"/>
                    </a:lnTo>
                    <a:lnTo>
                      <a:pt x="380" y="2"/>
                    </a:lnTo>
                    <a:lnTo>
                      <a:pt x="376" y="0"/>
                    </a:lnTo>
                    <a:lnTo>
                      <a:pt x="372" y="0"/>
                    </a:lnTo>
                    <a:lnTo>
                      <a:pt x="364" y="2"/>
                    </a:lnTo>
                    <a:lnTo>
                      <a:pt x="364" y="2"/>
                    </a:lnTo>
                    <a:lnTo>
                      <a:pt x="354" y="12"/>
                    </a:lnTo>
                    <a:lnTo>
                      <a:pt x="342" y="24"/>
                    </a:lnTo>
                    <a:lnTo>
                      <a:pt x="328" y="38"/>
                    </a:lnTo>
                    <a:lnTo>
                      <a:pt x="312" y="58"/>
                    </a:lnTo>
                    <a:lnTo>
                      <a:pt x="276" y="110"/>
                    </a:lnTo>
                    <a:lnTo>
                      <a:pt x="232" y="178"/>
                    </a:lnTo>
                    <a:lnTo>
                      <a:pt x="232" y="178"/>
                    </a:lnTo>
                    <a:lnTo>
                      <a:pt x="210" y="202"/>
                    </a:lnTo>
                    <a:lnTo>
                      <a:pt x="186" y="222"/>
                    </a:lnTo>
                    <a:lnTo>
                      <a:pt x="160" y="242"/>
                    </a:lnTo>
                    <a:lnTo>
                      <a:pt x="132" y="258"/>
                    </a:lnTo>
                    <a:lnTo>
                      <a:pt x="100" y="274"/>
                    </a:lnTo>
                    <a:lnTo>
                      <a:pt x="68" y="288"/>
                    </a:lnTo>
                    <a:lnTo>
                      <a:pt x="34" y="300"/>
                    </a:lnTo>
                    <a:lnTo>
                      <a:pt x="0" y="312"/>
                    </a:lnTo>
                    <a:lnTo>
                      <a:pt x="0" y="640"/>
                    </a:lnTo>
                    <a:lnTo>
                      <a:pt x="386" y="640"/>
                    </a:lnTo>
                    <a:lnTo>
                      <a:pt x="386" y="640"/>
                    </a:lnTo>
                    <a:lnTo>
                      <a:pt x="376" y="612"/>
                    </a:lnTo>
                    <a:lnTo>
                      <a:pt x="358" y="576"/>
                    </a:lnTo>
                    <a:lnTo>
                      <a:pt x="358" y="576"/>
                    </a:lnTo>
                    <a:lnTo>
                      <a:pt x="336" y="536"/>
                    </a:lnTo>
                    <a:lnTo>
                      <a:pt x="316" y="492"/>
                    </a:lnTo>
                    <a:lnTo>
                      <a:pt x="296" y="448"/>
                    </a:lnTo>
                    <a:lnTo>
                      <a:pt x="278" y="400"/>
                    </a:lnTo>
                    <a:lnTo>
                      <a:pt x="264" y="354"/>
                    </a:lnTo>
                    <a:lnTo>
                      <a:pt x="254" y="308"/>
                    </a:lnTo>
                    <a:lnTo>
                      <a:pt x="252" y="284"/>
                    </a:lnTo>
                    <a:lnTo>
                      <a:pt x="250" y="262"/>
                    </a:lnTo>
                    <a:lnTo>
                      <a:pt x="250" y="240"/>
                    </a:lnTo>
                    <a:lnTo>
                      <a:pt x="252" y="218"/>
                    </a:lnTo>
                    <a:lnTo>
                      <a:pt x="252" y="218"/>
                    </a:lnTo>
                    <a:lnTo>
                      <a:pt x="282" y="166"/>
                    </a:lnTo>
                    <a:lnTo>
                      <a:pt x="302" y="136"/>
                    </a:lnTo>
                    <a:lnTo>
                      <a:pt x="322" y="108"/>
                    </a:lnTo>
                    <a:lnTo>
                      <a:pt x="346" y="80"/>
                    </a:lnTo>
                    <a:lnTo>
                      <a:pt x="370" y="58"/>
                    </a:lnTo>
                    <a:lnTo>
                      <a:pt x="382" y="50"/>
                    </a:lnTo>
                    <a:lnTo>
                      <a:pt x="394" y="42"/>
                    </a:lnTo>
                    <a:lnTo>
                      <a:pt x="406" y="38"/>
                    </a:lnTo>
                    <a:lnTo>
                      <a:pt x="418" y="36"/>
                    </a:lnTo>
                    <a:lnTo>
                      <a:pt x="418" y="36"/>
                    </a:lnTo>
                    <a:lnTo>
                      <a:pt x="420" y="36"/>
                    </a:lnTo>
                    <a:lnTo>
                      <a:pt x="424" y="34"/>
                    </a:lnTo>
                    <a:lnTo>
                      <a:pt x="424" y="24"/>
                    </a:lnTo>
                    <a:close/>
                  </a:path>
                </a:pathLst>
              </a:custGeom>
              <a:solidFill>
                <a:srgbClr val="000000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27"/>
              <p:cNvSpPr/>
              <p:nvPr/>
            </p:nvSpPr>
            <p:spPr>
              <a:xfrm>
                <a:off x="-10440" y="3350880"/>
                <a:ext cx="911880" cy="1113840"/>
              </a:xfrm>
              <a:custGeom>
                <a:avLst/>
                <a:gdLst>
                  <a:gd name="textAreaLeft" fmla="*/ 0 w 911880"/>
                  <a:gd name="textAreaRight" fmla="*/ 912240 w 911880"/>
                  <a:gd name="textAreaTop" fmla="*/ 0 h 1113840"/>
                  <a:gd name="textAreaBottom" fmla="*/ 1114200 h 1113840"/>
                </a:gdLst>
                <a:ahLst/>
                <a:rect l="textAreaLeft" t="textAreaTop" r="textAreaRight" b="textAreaBottom"/>
                <a:pathLst>
                  <a:path w="608" h="742">
                    <a:moveTo>
                      <a:pt x="608" y="692"/>
                    </a:moveTo>
                    <a:lnTo>
                      <a:pt x="608" y="692"/>
                    </a:lnTo>
                    <a:lnTo>
                      <a:pt x="596" y="682"/>
                    </a:lnTo>
                    <a:lnTo>
                      <a:pt x="578" y="666"/>
                    </a:lnTo>
                    <a:lnTo>
                      <a:pt x="558" y="642"/>
                    </a:lnTo>
                    <a:lnTo>
                      <a:pt x="548" y="628"/>
                    </a:lnTo>
                    <a:lnTo>
                      <a:pt x="540" y="610"/>
                    </a:lnTo>
                    <a:lnTo>
                      <a:pt x="532" y="594"/>
                    </a:lnTo>
                    <a:lnTo>
                      <a:pt x="524" y="574"/>
                    </a:lnTo>
                    <a:lnTo>
                      <a:pt x="520" y="552"/>
                    </a:lnTo>
                    <a:lnTo>
                      <a:pt x="518" y="530"/>
                    </a:lnTo>
                    <a:lnTo>
                      <a:pt x="518" y="506"/>
                    </a:lnTo>
                    <a:lnTo>
                      <a:pt x="522" y="480"/>
                    </a:lnTo>
                    <a:lnTo>
                      <a:pt x="528" y="452"/>
                    </a:lnTo>
                    <a:lnTo>
                      <a:pt x="540" y="422"/>
                    </a:lnTo>
                    <a:lnTo>
                      <a:pt x="540" y="422"/>
                    </a:lnTo>
                    <a:lnTo>
                      <a:pt x="526" y="400"/>
                    </a:lnTo>
                    <a:lnTo>
                      <a:pt x="508" y="376"/>
                    </a:lnTo>
                    <a:lnTo>
                      <a:pt x="486" y="350"/>
                    </a:lnTo>
                    <a:lnTo>
                      <a:pt x="460" y="324"/>
                    </a:lnTo>
                    <a:lnTo>
                      <a:pt x="446" y="312"/>
                    </a:lnTo>
                    <a:lnTo>
                      <a:pt x="430" y="302"/>
                    </a:lnTo>
                    <a:lnTo>
                      <a:pt x="414" y="292"/>
                    </a:lnTo>
                    <a:lnTo>
                      <a:pt x="396" y="286"/>
                    </a:lnTo>
                    <a:lnTo>
                      <a:pt x="380" y="282"/>
                    </a:lnTo>
                    <a:lnTo>
                      <a:pt x="360" y="280"/>
                    </a:lnTo>
                    <a:lnTo>
                      <a:pt x="360" y="280"/>
                    </a:lnTo>
                    <a:lnTo>
                      <a:pt x="272" y="282"/>
                    </a:lnTo>
                    <a:lnTo>
                      <a:pt x="256" y="282"/>
                    </a:lnTo>
                    <a:lnTo>
                      <a:pt x="256" y="282"/>
                    </a:lnTo>
                    <a:lnTo>
                      <a:pt x="254" y="282"/>
                    </a:lnTo>
                    <a:lnTo>
                      <a:pt x="254" y="280"/>
                    </a:lnTo>
                    <a:lnTo>
                      <a:pt x="254" y="276"/>
                    </a:lnTo>
                    <a:lnTo>
                      <a:pt x="254" y="276"/>
                    </a:lnTo>
                    <a:lnTo>
                      <a:pt x="262" y="274"/>
                    </a:lnTo>
                    <a:lnTo>
                      <a:pt x="280" y="270"/>
                    </a:lnTo>
                    <a:lnTo>
                      <a:pt x="292" y="266"/>
                    </a:lnTo>
                    <a:lnTo>
                      <a:pt x="306" y="260"/>
                    </a:lnTo>
                    <a:lnTo>
                      <a:pt x="322" y="252"/>
                    </a:lnTo>
                    <a:lnTo>
                      <a:pt x="340" y="240"/>
                    </a:lnTo>
                    <a:lnTo>
                      <a:pt x="340" y="240"/>
                    </a:lnTo>
                    <a:lnTo>
                      <a:pt x="352" y="232"/>
                    </a:lnTo>
                    <a:lnTo>
                      <a:pt x="360" y="224"/>
                    </a:lnTo>
                    <a:lnTo>
                      <a:pt x="368" y="216"/>
                    </a:lnTo>
                    <a:lnTo>
                      <a:pt x="372" y="208"/>
                    </a:lnTo>
                    <a:lnTo>
                      <a:pt x="376" y="202"/>
                    </a:lnTo>
                    <a:lnTo>
                      <a:pt x="378" y="194"/>
                    </a:lnTo>
                    <a:lnTo>
                      <a:pt x="378" y="182"/>
                    </a:lnTo>
                    <a:lnTo>
                      <a:pt x="376" y="172"/>
                    </a:lnTo>
                    <a:lnTo>
                      <a:pt x="372" y="164"/>
                    </a:lnTo>
                    <a:lnTo>
                      <a:pt x="366" y="156"/>
                    </a:lnTo>
                    <a:lnTo>
                      <a:pt x="366" y="156"/>
                    </a:lnTo>
                    <a:lnTo>
                      <a:pt x="372" y="154"/>
                    </a:lnTo>
                    <a:lnTo>
                      <a:pt x="388" y="146"/>
                    </a:lnTo>
                    <a:lnTo>
                      <a:pt x="400" y="144"/>
                    </a:lnTo>
                    <a:lnTo>
                      <a:pt x="412" y="142"/>
                    </a:lnTo>
                    <a:lnTo>
                      <a:pt x="424" y="142"/>
                    </a:lnTo>
                    <a:lnTo>
                      <a:pt x="438" y="146"/>
                    </a:lnTo>
                    <a:lnTo>
                      <a:pt x="438" y="146"/>
                    </a:lnTo>
                    <a:lnTo>
                      <a:pt x="442" y="148"/>
                    </a:lnTo>
                    <a:lnTo>
                      <a:pt x="444" y="146"/>
                    </a:lnTo>
                    <a:lnTo>
                      <a:pt x="438" y="140"/>
                    </a:lnTo>
                    <a:lnTo>
                      <a:pt x="408" y="114"/>
                    </a:lnTo>
                    <a:lnTo>
                      <a:pt x="364" y="84"/>
                    </a:lnTo>
                    <a:lnTo>
                      <a:pt x="346" y="72"/>
                    </a:lnTo>
                    <a:lnTo>
                      <a:pt x="332" y="66"/>
                    </a:lnTo>
                    <a:lnTo>
                      <a:pt x="332" y="66"/>
                    </a:lnTo>
                    <a:lnTo>
                      <a:pt x="322" y="64"/>
                    </a:lnTo>
                    <a:lnTo>
                      <a:pt x="312" y="62"/>
                    </a:lnTo>
                    <a:lnTo>
                      <a:pt x="300" y="62"/>
                    </a:lnTo>
                    <a:lnTo>
                      <a:pt x="288" y="62"/>
                    </a:lnTo>
                    <a:lnTo>
                      <a:pt x="278" y="64"/>
                    </a:lnTo>
                    <a:lnTo>
                      <a:pt x="266" y="68"/>
                    </a:lnTo>
                    <a:lnTo>
                      <a:pt x="258" y="72"/>
                    </a:lnTo>
                    <a:lnTo>
                      <a:pt x="250" y="80"/>
                    </a:lnTo>
                    <a:lnTo>
                      <a:pt x="250" y="80"/>
                    </a:lnTo>
                    <a:lnTo>
                      <a:pt x="238" y="88"/>
                    </a:lnTo>
                    <a:lnTo>
                      <a:pt x="220" y="96"/>
                    </a:lnTo>
                    <a:lnTo>
                      <a:pt x="208" y="100"/>
                    </a:lnTo>
                    <a:lnTo>
                      <a:pt x="196" y="104"/>
                    </a:lnTo>
                    <a:lnTo>
                      <a:pt x="184" y="104"/>
                    </a:lnTo>
                    <a:lnTo>
                      <a:pt x="172" y="104"/>
                    </a:lnTo>
                    <a:lnTo>
                      <a:pt x="160" y="102"/>
                    </a:lnTo>
                    <a:lnTo>
                      <a:pt x="148" y="98"/>
                    </a:lnTo>
                    <a:lnTo>
                      <a:pt x="136" y="90"/>
                    </a:lnTo>
                    <a:lnTo>
                      <a:pt x="126" y="80"/>
                    </a:lnTo>
                    <a:lnTo>
                      <a:pt x="118" y="66"/>
                    </a:lnTo>
                    <a:lnTo>
                      <a:pt x="112" y="48"/>
                    </a:lnTo>
                    <a:lnTo>
                      <a:pt x="108" y="26"/>
                    </a:lnTo>
                    <a:lnTo>
                      <a:pt x="106" y="0"/>
                    </a:lnTo>
                    <a:lnTo>
                      <a:pt x="106" y="0"/>
                    </a:lnTo>
                    <a:lnTo>
                      <a:pt x="100" y="8"/>
                    </a:lnTo>
                    <a:lnTo>
                      <a:pt x="82" y="28"/>
                    </a:lnTo>
                    <a:lnTo>
                      <a:pt x="68" y="42"/>
                    </a:lnTo>
                    <a:lnTo>
                      <a:pt x="52" y="56"/>
                    </a:lnTo>
                    <a:lnTo>
                      <a:pt x="32" y="70"/>
                    </a:lnTo>
                    <a:lnTo>
                      <a:pt x="8" y="82"/>
                    </a:lnTo>
                    <a:lnTo>
                      <a:pt x="8" y="82"/>
                    </a:lnTo>
                    <a:lnTo>
                      <a:pt x="0" y="88"/>
                    </a:lnTo>
                    <a:lnTo>
                      <a:pt x="0" y="724"/>
                    </a:lnTo>
                    <a:lnTo>
                      <a:pt x="0" y="724"/>
                    </a:lnTo>
                    <a:lnTo>
                      <a:pt x="20" y="734"/>
                    </a:lnTo>
                    <a:lnTo>
                      <a:pt x="34" y="742"/>
                    </a:lnTo>
                    <a:lnTo>
                      <a:pt x="40" y="742"/>
                    </a:lnTo>
                    <a:lnTo>
                      <a:pt x="40" y="742"/>
                    </a:lnTo>
                    <a:lnTo>
                      <a:pt x="38" y="738"/>
                    </a:lnTo>
                    <a:lnTo>
                      <a:pt x="38" y="738"/>
                    </a:lnTo>
                    <a:lnTo>
                      <a:pt x="28" y="728"/>
                    </a:lnTo>
                    <a:lnTo>
                      <a:pt x="24" y="716"/>
                    </a:lnTo>
                    <a:lnTo>
                      <a:pt x="20" y="704"/>
                    </a:lnTo>
                    <a:lnTo>
                      <a:pt x="20" y="692"/>
                    </a:lnTo>
                    <a:lnTo>
                      <a:pt x="20" y="676"/>
                    </a:lnTo>
                    <a:lnTo>
                      <a:pt x="22" y="668"/>
                    </a:lnTo>
                    <a:lnTo>
                      <a:pt x="22" y="668"/>
                    </a:lnTo>
                    <a:lnTo>
                      <a:pt x="30" y="670"/>
                    </a:lnTo>
                    <a:lnTo>
                      <a:pt x="38" y="672"/>
                    </a:lnTo>
                    <a:lnTo>
                      <a:pt x="48" y="670"/>
                    </a:lnTo>
                    <a:lnTo>
                      <a:pt x="60" y="664"/>
                    </a:lnTo>
                    <a:lnTo>
                      <a:pt x="66" y="660"/>
                    </a:lnTo>
                    <a:lnTo>
                      <a:pt x="72" y="654"/>
                    </a:lnTo>
                    <a:lnTo>
                      <a:pt x="76" y="646"/>
                    </a:lnTo>
                    <a:lnTo>
                      <a:pt x="82" y="638"/>
                    </a:lnTo>
                    <a:lnTo>
                      <a:pt x="86" y="626"/>
                    </a:lnTo>
                    <a:lnTo>
                      <a:pt x="88" y="612"/>
                    </a:lnTo>
                    <a:lnTo>
                      <a:pt x="88" y="612"/>
                    </a:lnTo>
                    <a:lnTo>
                      <a:pt x="92" y="592"/>
                    </a:lnTo>
                    <a:lnTo>
                      <a:pt x="94" y="574"/>
                    </a:lnTo>
                    <a:lnTo>
                      <a:pt x="94" y="558"/>
                    </a:lnTo>
                    <a:lnTo>
                      <a:pt x="94" y="546"/>
                    </a:lnTo>
                    <a:lnTo>
                      <a:pt x="90" y="528"/>
                    </a:lnTo>
                    <a:lnTo>
                      <a:pt x="90" y="520"/>
                    </a:lnTo>
                    <a:lnTo>
                      <a:pt x="90" y="520"/>
                    </a:lnTo>
                    <a:lnTo>
                      <a:pt x="92" y="518"/>
                    </a:lnTo>
                    <a:lnTo>
                      <a:pt x="94" y="518"/>
                    </a:lnTo>
                    <a:lnTo>
                      <a:pt x="96" y="520"/>
                    </a:lnTo>
                    <a:lnTo>
                      <a:pt x="96" y="520"/>
                    </a:lnTo>
                    <a:lnTo>
                      <a:pt x="102" y="534"/>
                    </a:lnTo>
                    <a:lnTo>
                      <a:pt x="134" y="616"/>
                    </a:lnTo>
                    <a:lnTo>
                      <a:pt x="134" y="616"/>
                    </a:lnTo>
                    <a:lnTo>
                      <a:pt x="142" y="634"/>
                    </a:lnTo>
                    <a:lnTo>
                      <a:pt x="152" y="648"/>
                    </a:lnTo>
                    <a:lnTo>
                      <a:pt x="164" y="662"/>
                    </a:lnTo>
                    <a:lnTo>
                      <a:pt x="180" y="674"/>
                    </a:lnTo>
                    <a:lnTo>
                      <a:pt x="194" y="684"/>
                    </a:lnTo>
                    <a:lnTo>
                      <a:pt x="212" y="692"/>
                    </a:lnTo>
                    <a:lnTo>
                      <a:pt x="246" y="708"/>
                    </a:lnTo>
                    <a:lnTo>
                      <a:pt x="278" y="718"/>
                    </a:lnTo>
                    <a:lnTo>
                      <a:pt x="306" y="724"/>
                    </a:lnTo>
                    <a:lnTo>
                      <a:pt x="332" y="730"/>
                    </a:lnTo>
                    <a:lnTo>
                      <a:pt x="332" y="730"/>
                    </a:lnTo>
                    <a:lnTo>
                      <a:pt x="354" y="708"/>
                    </a:lnTo>
                    <a:lnTo>
                      <a:pt x="378" y="692"/>
                    </a:lnTo>
                    <a:lnTo>
                      <a:pt x="400" y="678"/>
                    </a:lnTo>
                    <a:lnTo>
                      <a:pt x="424" y="670"/>
                    </a:lnTo>
                    <a:lnTo>
                      <a:pt x="446" y="662"/>
                    </a:lnTo>
                    <a:lnTo>
                      <a:pt x="466" y="660"/>
                    </a:lnTo>
                    <a:lnTo>
                      <a:pt x="488" y="658"/>
                    </a:lnTo>
                    <a:lnTo>
                      <a:pt x="506" y="658"/>
                    </a:lnTo>
                    <a:lnTo>
                      <a:pt x="526" y="662"/>
                    </a:lnTo>
                    <a:lnTo>
                      <a:pt x="542" y="664"/>
                    </a:lnTo>
                    <a:lnTo>
                      <a:pt x="572" y="674"/>
                    </a:lnTo>
                    <a:lnTo>
                      <a:pt x="594" y="684"/>
                    </a:lnTo>
                    <a:lnTo>
                      <a:pt x="608" y="692"/>
                    </a:lnTo>
                    <a:lnTo>
                      <a:pt x="608" y="692"/>
                    </a:lnTo>
                    <a:close/>
                  </a:path>
                </a:pathLst>
              </a:custGeom>
              <a:solidFill>
                <a:srgbClr val="ed4600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51"/>
              <p:cNvSpPr/>
              <p:nvPr/>
            </p:nvSpPr>
            <p:spPr>
              <a:xfrm>
                <a:off x="-10440" y="1413720"/>
                <a:ext cx="499320" cy="132120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1321200"/>
                  <a:gd name="textAreaBottom" fmla="*/ 1321560 h 1321200"/>
                </a:gdLst>
                <a:ahLst/>
                <a:rect l="textAreaLeft" t="textAreaTop" r="textAreaRight" b="textAreaBottom"/>
                <a:pathLst>
                  <a:path w="426" h="1126">
                    <a:moveTo>
                      <a:pt x="372" y="412"/>
                    </a:moveTo>
                    <a:lnTo>
                      <a:pt x="372" y="412"/>
                    </a:lnTo>
                    <a:lnTo>
                      <a:pt x="382" y="404"/>
                    </a:lnTo>
                    <a:lnTo>
                      <a:pt x="390" y="392"/>
                    </a:lnTo>
                    <a:lnTo>
                      <a:pt x="390" y="392"/>
                    </a:lnTo>
                    <a:lnTo>
                      <a:pt x="390" y="392"/>
                    </a:lnTo>
                    <a:lnTo>
                      <a:pt x="396" y="382"/>
                    </a:lnTo>
                    <a:lnTo>
                      <a:pt x="402" y="370"/>
                    </a:lnTo>
                    <a:lnTo>
                      <a:pt x="404" y="356"/>
                    </a:lnTo>
                    <a:lnTo>
                      <a:pt x="406" y="342"/>
                    </a:lnTo>
                    <a:lnTo>
                      <a:pt x="406" y="342"/>
                    </a:lnTo>
                    <a:lnTo>
                      <a:pt x="408" y="326"/>
                    </a:lnTo>
                    <a:lnTo>
                      <a:pt x="408" y="326"/>
                    </a:lnTo>
                    <a:lnTo>
                      <a:pt x="406" y="300"/>
                    </a:lnTo>
                    <a:lnTo>
                      <a:pt x="402" y="274"/>
                    </a:lnTo>
                    <a:lnTo>
                      <a:pt x="394" y="250"/>
                    </a:lnTo>
                    <a:lnTo>
                      <a:pt x="386" y="226"/>
                    </a:lnTo>
                    <a:lnTo>
                      <a:pt x="376" y="206"/>
                    </a:lnTo>
                    <a:lnTo>
                      <a:pt x="366" y="190"/>
                    </a:lnTo>
                    <a:lnTo>
                      <a:pt x="356" y="180"/>
                    </a:lnTo>
                    <a:lnTo>
                      <a:pt x="350" y="176"/>
                    </a:lnTo>
                    <a:lnTo>
                      <a:pt x="344" y="176"/>
                    </a:lnTo>
                    <a:lnTo>
                      <a:pt x="344" y="176"/>
                    </a:lnTo>
                    <a:lnTo>
                      <a:pt x="338" y="176"/>
                    </a:lnTo>
                    <a:lnTo>
                      <a:pt x="330" y="178"/>
                    </a:lnTo>
                    <a:lnTo>
                      <a:pt x="314" y="186"/>
                    </a:lnTo>
                    <a:lnTo>
                      <a:pt x="294" y="198"/>
                    </a:lnTo>
                    <a:lnTo>
                      <a:pt x="276" y="212"/>
                    </a:lnTo>
                    <a:lnTo>
                      <a:pt x="238" y="244"/>
                    </a:lnTo>
                    <a:lnTo>
                      <a:pt x="212" y="268"/>
                    </a:lnTo>
                    <a:lnTo>
                      <a:pt x="212" y="268"/>
                    </a:lnTo>
                    <a:lnTo>
                      <a:pt x="212" y="270"/>
                    </a:lnTo>
                    <a:lnTo>
                      <a:pt x="212" y="270"/>
                    </a:lnTo>
                    <a:lnTo>
                      <a:pt x="194" y="288"/>
                    </a:lnTo>
                    <a:lnTo>
                      <a:pt x="182" y="304"/>
                    </a:lnTo>
                    <a:lnTo>
                      <a:pt x="172" y="318"/>
                    </a:lnTo>
                    <a:lnTo>
                      <a:pt x="164" y="330"/>
                    </a:lnTo>
                    <a:lnTo>
                      <a:pt x="156" y="348"/>
                    </a:lnTo>
                    <a:lnTo>
                      <a:pt x="152" y="354"/>
                    </a:lnTo>
                    <a:lnTo>
                      <a:pt x="150" y="356"/>
                    </a:lnTo>
                    <a:lnTo>
                      <a:pt x="150" y="356"/>
                    </a:lnTo>
                    <a:lnTo>
                      <a:pt x="146" y="358"/>
                    </a:lnTo>
                    <a:lnTo>
                      <a:pt x="144" y="356"/>
                    </a:lnTo>
                    <a:lnTo>
                      <a:pt x="144" y="354"/>
                    </a:lnTo>
                    <a:lnTo>
                      <a:pt x="144" y="354"/>
                    </a:lnTo>
                    <a:lnTo>
                      <a:pt x="148" y="336"/>
                    </a:lnTo>
                    <a:lnTo>
                      <a:pt x="172" y="236"/>
                    </a:lnTo>
                    <a:lnTo>
                      <a:pt x="172" y="236"/>
                    </a:lnTo>
                    <a:lnTo>
                      <a:pt x="174" y="216"/>
                    </a:lnTo>
                    <a:lnTo>
                      <a:pt x="174" y="194"/>
                    </a:lnTo>
                    <a:lnTo>
                      <a:pt x="172" y="174"/>
                    </a:lnTo>
                    <a:lnTo>
                      <a:pt x="166" y="152"/>
                    </a:lnTo>
                    <a:lnTo>
                      <a:pt x="158" y="132"/>
                    </a:lnTo>
                    <a:lnTo>
                      <a:pt x="148" y="114"/>
                    </a:lnTo>
                    <a:lnTo>
                      <a:pt x="136" y="94"/>
                    </a:lnTo>
                    <a:lnTo>
                      <a:pt x="124" y="76"/>
                    </a:lnTo>
                    <a:lnTo>
                      <a:pt x="100" y="46"/>
                    </a:lnTo>
                    <a:lnTo>
                      <a:pt x="78" y="22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28" y="4"/>
                    </a:lnTo>
                    <a:lnTo>
                      <a:pt x="0" y="6"/>
                    </a:lnTo>
                    <a:lnTo>
                      <a:pt x="0" y="820"/>
                    </a:lnTo>
                    <a:lnTo>
                      <a:pt x="0" y="820"/>
                    </a:lnTo>
                    <a:lnTo>
                      <a:pt x="18" y="810"/>
                    </a:lnTo>
                    <a:lnTo>
                      <a:pt x="34" y="800"/>
                    </a:lnTo>
                    <a:lnTo>
                      <a:pt x="48" y="788"/>
                    </a:lnTo>
                    <a:lnTo>
                      <a:pt x="60" y="776"/>
                    </a:lnTo>
                    <a:lnTo>
                      <a:pt x="80" y="754"/>
                    </a:lnTo>
                    <a:lnTo>
                      <a:pt x="92" y="738"/>
                    </a:lnTo>
                    <a:lnTo>
                      <a:pt x="92" y="738"/>
                    </a:lnTo>
                    <a:lnTo>
                      <a:pt x="102" y="764"/>
                    </a:lnTo>
                    <a:lnTo>
                      <a:pt x="118" y="804"/>
                    </a:lnTo>
                    <a:lnTo>
                      <a:pt x="136" y="854"/>
                    </a:lnTo>
                    <a:lnTo>
                      <a:pt x="152" y="908"/>
                    </a:lnTo>
                    <a:lnTo>
                      <a:pt x="158" y="938"/>
                    </a:lnTo>
                    <a:lnTo>
                      <a:pt x="164" y="966"/>
                    </a:lnTo>
                    <a:lnTo>
                      <a:pt x="168" y="994"/>
                    </a:lnTo>
                    <a:lnTo>
                      <a:pt x="170" y="1020"/>
                    </a:lnTo>
                    <a:lnTo>
                      <a:pt x="168" y="1046"/>
                    </a:lnTo>
                    <a:lnTo>
                      <a:pt x="166" y="1070"/>
                    </a:lnTo>
                    <a:lnTo>
                      <a:pt x="160" y="1090"/>
                    </a:lnTo>
                    <a:lnTo>
                      <a:pt x="150" y="1108"/>
                    </a:lnTo>
                    <a:lnTo>
                      <a:pt x="150" y="1108"/>
                    </a:lnTo>
                    <a:lnTo>
                      <a:pt x="148" y="1110"/>
                    </a:lnTo>
                    <a:lnTo>
                      <a:pt x="148" y="1116"/>
                    </a:lnTo>
                    <a:lnTo>
                      <a:pt x="150" y="1120"/>
                    </a:lnTo>
                    <a:lnTo>
                      <a:pt x="152" y="1122"/>
                    </a:lnTo>
                    <a:lnTo>
                      <a:pt x="156" y="1124"/>
                    </a:lnTo>
                    <a:lnTo>
                      <a:pt x="156" y="1124"/>
                    </a:lnTo>
                    <a:lnTo>
                      <a:pt x="164" y="1126"/>
                    </a:lnTo>
                    <a:lnTo>
                      <a:pt x="180" y="1126"/>
                    </a:lnTo>
                    <a:lnTo>
                      <a:pt x="188" y="1124"/>
                    </a:lnTo>
                    <a:lnTo>
                      <a:pt x="198" y="1120"/>
                    </a:lnTo>
                    <a:lnTo>
                      <a:pt x="206" y="1112"/>
                    </a:lnTo>
                    <a:lnTo>
                      <a:pt x="214" y="1102"/>
                    </a:lnTo>
                    <a:lnTo>
                      <a:pt x="214" y="1102"/>
                    </a:lnTo>
                    <a:lnTo>
                      <a:pt x="218" y="1098"/>
                    </a:lnTo>
                    <a:lnTo>
                      <a:pt x="224" y="1094"/>
                    </a:lnTo>
                    <a:lnTo>
                      <a:pt x="230" y="1090"/>
                    </a:lnTo>
                    <a:lnTo>
                      <a:pt x="232" y="1080"/>
                    </a:lnTo>
                    <a:lnTo>
                      <a:pt x="232" y="1080"/>
                    </a:lnTo>
                    <a:lnTo>
                      <a:pt x="232" y="1058"/>
                    </a:lnTo>
                    <a:lnTo>
                      <a:pt x="230" y="1032"/>
                    </a:lnTo>
                    <a:lnTo>
                      <a:pt x="224" y="998"/>
                    </a:lnTo>
                    <a:lnTo>
                      <a:pt x="216" y="958"/>
                    </a:lnTo>
                    <a:lnTo>
                      <a:pt x="204" y="910"/>
                    </a:lnTo>
                    <a:lnTo>
                      <a:pt x="188" y="854"/>
                    </a:lnTo>
                    <a:lnTo>
                      <a:pt x="168" y="792"/>
                    </a:lnTo>
                    <a:lnTo>
                      <a:pt x="144" y="720"/>
                    </a:lnTo>
                    <a:lnTo>
                      <a:pt x="144" y="720"/>
                    </a:lnTo>
                    <a:lnTo>
                      <a:pt x="174" y="726"/>
                    </a:lnTo>
                    <a:lnTo>
                      <a:pt x="196" y="726"/>
                    </a:lnTo>
                    <a:lnTo>
                      <a:pt x="218" y="726"/>
                    </a:lnTo>
                    <a:lnTo>
                      <a:pt x="242" y="722"/>
                    </a:lnTo>
                    <a:lnTo>
                      <a:pt x="266" y="714"/>
                    </a:lnTo>
                    <a:lnTo>
                      <a:pt x="278" y="708"/>
                    </a:lnTo>
                    <a:lnTo>
                      <a:pt x="288" y="702"/>
                    </a:lnTo>
                    <a:lnTo>
                      <a:pt x="298" y="692"/>
                    </a:lnTo>
                    <a:lnTo>
                      <a:pt x="308" y="682"/>
                    </a:lnTo>
                    <a:lnTo>
                      <a:pt x="308" y="682"/>
                    </a:lnTo>
                    <a:lnTo>
                      <a:pt x="328" y="660"/>
                    </a:lnTo>
                    <a:lnTo>
                      <a:pt x="350" y="640"/>
                    </a:lnTo>
                    <a:lnTo>
                      <a:pt x="370" y="624"/>
                    </a:lnTo>
                    <a:lnTo>
                      <a:pt x="388" y="612"/>
                    </a:lnTo>
                    <a:lnTo>
                      <a:pt x="416" y="598"/>
                    </a:lnTo>
                    <a:lnTo>
                      <a:pt x="426" y="594"/>
                    </a:lnTo>
                    <a:lnTo>
                      <a:pt x="426" y="594"/>
                    </a:lnTo>
                    <a:lnTo>
                      <a:pt x="396" y="586"/>
                    </a:lnTo>
                    <a:lnTo>
                      <a:pt x="372" y="574"/>
                    </a:lnTo>
                    <a:lnTo>
                      <a:pt x="354" y="562"/>
                    </a:lnTo>
                    <a:lnTo>
                      <a:pt x="340" y="550"/>
                    </a:lnTo>
                    <a:lnTo>
                      <a:pt x="330" y="536"/>
                    </a:lnTo>
                    <a:lnTo>
                      <a:pt x="324" y="522"/>
                    </a:lnTo>
                    <a:lnTo>
                      <a:pt x="322" y="508"/>
                    </a:lnTo>
                    <a:lnTo>
                      <a:pt x="324" y="494"/>
                    </a:lnTo>
                    <a:lnTo>
                      <a:pt x="326" y="478"/>
                    </a:lnTo>
                    <a:lnTo>
                      <a:pt x="330" y="466"/>
                    </a:lnTo>
                    <a:lnTo>
                      <a:pt x="338" y="452"/>
                    </a:lnTo>
                    <a:lnTo>
                      <a:pt x="344" y="442"/>
                    </a:lnTo>
                    <a:lnTo>
                      <a:pt x="358" y="422"/>
                    </a:lnTo>
                    <a:lnTo>
                      <a:pt x="372" y="412"/>
                    </a:lnTo>
                    <a:lnTo>
                      <a:pt x="372" y="412"/>
                    </a:lnTo>
                    <a:close/>
                  </a:path>
                </a:pathLst>
              </a:custGeom>
              <a:solidFill>
                <a:srgbClr val="ed4600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43"/>
              <p:cNvSpPr/>
              <p:nvPr/>
            </p:nvSpPr>
            <p:spPr>
              <a:xfrm>
                <a:off x="6840" y="0"/>
                <a:ext cx="1048680" cy="750240"/>
              </a:xfrm>
              <a:custGeom>
                <a:avLst/>
                <a:gdLst>
                  <a:gd name="textAreaLeft" fmla="*/ 0 w 1048680"/>
                  <a:gd name="textAreaRight" fmla="*/ 1049040 w 1048680"/>
                  <a:gd name="textAreaTop" fmla="*/ 0 h 750240"/>
                  <a:gd name="textAreaBottom" fmla="*/ 750600 h 750240"/>
                </a:gdLst>
                <a:ahLst/>
                <a:rect l="textAreaLeft" t="textAreaTop" r="textAreaRight" b="textAreaBottom"/>
                <a:pathLst>
                  <a:path w="912" h="652">
                    <a:moveTo>
                      <a:pt x="824" y="72"/>
                    </a:moveTo>
                    <a:lnTo>
                      <a:pt x="824" y="72"/>
                    </a:lnTo>
                    <a:lnTo>
                      <a:pt x="812" y="66"/>
                    </a:lnTo>
                    <a:lnTo>
                      <a:pt x="800" y="60"/>
                    </a:lnTo>
                    <a:lnTo>
                      <a:pt x="786" y="52"/>
                    </a:lnTo>
                    <a:lnTo>
                      <a:pt x="772" y="42"/>
                    </a:lnTo>
                    <a:lnTo>
                      <a:pt x="760" y="30"/>
                    </a:lnTo>
                    <a:lnTo>
                      <a:pt x="750" y="16"/>
                    </a:lnTo>
                    <a:lnTo>
                      <a:pt x="748" y="8"/>
                    </a:lnTo>
                    <a:lnTo>
                      <a:pt x="74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4" y="12"/>
                    </a:lnTo>
                    <a:lnTo>
                      <a:pt x="0" y="24"/>
                    </a:lnTo>
                    <a:lnTo>
                      <a:pt x="0" y="208"/>
                    </a:lnTo>
                    <a:lnTo>
                      <a:pt x="0" y="208"/>
                    </a:lnTo>
                    <a:lnTo>
                      <a:pt x="4" y="220"/>
                    </a:lnTo>
                    <a:lnTo>
                      <a:pt x="6" y="232"/>
                    </a:lnTo>
                    <a:lnTo>
                      <a:pt x="4" y="246"/>
                    </a:lnTo>
                    <a:lnTo>
                      <a:pt x="0" y="262"/>
                    </a:lnTo>
                    <a:lnTo>
                      <a:pt x="0" y="384"/>
                    </a:lnTo>
                    <a:lnTo>
                      <a:pt x="0" y="384"/>
                    </a:lnTo>
                    <a:lnTo>
                      <a:pt x="8" y="388"/>
                    </a:lnTo>
                    <a:lnTo>
                      <a:pt x="14" y="396"/>
                    </a:lnTo>
                    <a:lnTo>
                      <a:pt x="20" y="402"/>
                    </a:lnTo>
                    <a:lnTo>
                      <a:pt x="22" y="412"/>
                    </a:lnTo>
                    <a:lnTo>
                      <a:pt x="28" y="430"/>
                    </a:lnTo>
                    <a:lnTo>
                      <a:pt x="28" y="448"/>
                    </a:lnTo>
                    <a:lnTo>
                      <a:pt x="28" y="466"/>
                    </a:lnTo>
                    <a:lnTo>
                      <a:pt x="26" y="480"/>
                    </a:lnTo>
                    <a:lnTo>
                      <a:pt x="22" y="494"/>
                    </a:lnTo>
                    <a:lnTo>
                      <a:pt x="22" y="494"/>
                    </a:lnTo>
                    <a:lnTo>
                      <a:pt x="34" y="490"/>
                    </a:lnTo>
                    <a:lnTo>
                      <a:pt x="44" y="492"/>
                    </a:lnTo>
                    <a:lnTo>
                      <a:pt x="52" y="496"/>
                    </a:lnTo>
                    <a:lnTo>
                      <a:pt x="60" y="504"/>
                    </a:lnTo>
                    <a:lnTo>
                      <a:pt x="66" y="516"/>
                    </a:lnTo>
                    <a:lnTo>
                      <a:pt x="70" y="528"/>
                    </a:lnTo>
                    <a:lnTo>
                      <a:pt x="80" y="560"/>
                    </a:lnTo>
                    <a:lnTo>
                      <a:pt x="84" y="592"/>
                    </a:lnTo>
                    <a:lnTo>
                      <a:pt x="88" y="620"/>
                    </a:lnTo>
                    <a:lnTo>
                      <a:pt x="90" y="650"/>
                    </a:lnTo>
                    <a:lnTo>
                      <a:pt x="90" y="650"/>
                    </a:lnTo>
                    <a:lnTo>
                      <a:pt x="100" y="620"/>
                    </a:lnTo>
                    <a:lnTo>
                      <a:pt x="110" y="596"/>
                    </a:lnTo>
                    <a:lnTo>
                      <a:pt x="122" y="574"/>
                    </a:lnTo>
                    <a:lnTo>
                      <a:pt x="134" y="556"/>
                    </a:lnTo>
                    <a:lnTo>
                      <a:pt x="146" y="540"/>
                    </a:lnTo>
                    <a:lnTo>
                      <a:pt x="158" y="528"/>
                    </a:lnTo>
                    <a:lnTo>
                      <a:pt x="170" y="518"/>
                    </a:lnTo>
                    <a:lnTo>
                      <a:pt x="180" y="510"/>
                    </a:lnTo>
                    <a:lnTo>
                      <a:pt x="192" y="504"/>
                    </a:lnTo>
                    <a:lnTo>
                      <a:pt x="202" y="500"/>
                    </a:lnTo>
                    <a:lnTo>
                      <a:pt x="220" y="496"/>
                    </a:lnTo>
                    <a:lnTo>
                      <a:pt x="230" y="494"/>
                    </a:lnTo>
                    <a:lnTo>
                      <a:pt x="234" y="494"/>
                    </a:lnTo>
                    <a:lnTo>
                      <a:pt x="234" y="494"/>
                    </a:lnTo>
                    <a:lnTo>
                      <a:pt x="234" y="484"/>
                    </a:lnTo>
                    <a:lnTo>
                      <a:pt x="236" y="468"/>
                    </a:lnTo>
                    <a:lnTo>
                      <a:pt x="244" y="430"/>
                    </a:lnTo>
                    <a:lnTo>
                      <a:pt x="256" y="390"/>
                    </a:lnTo>
                    <a:lnTo>
                      <a:pt x="264" y="362"/>
                    </a:lnTo>
                    <a:lnTo>
                      <a:pt x="264" y="362"/>
                    </a:lnTo>
                    <a:lnTo>
                      <a:pt x="268" y="354"/>
                    </a:lnTo>
                    <a:lnTo>
                      <a:pt x="270" y="352"/>
                    </a:lnTo>
                    <a:lnTo>
                      <a:pt x="274" y="352"/>
                    </a:lnTo>
                    <a:lnTo>
                      <a:pt x="276" y="354"/>
                    </a:lnTo>
                    <a:lnTo>
                      <a:pt x="282" y="362"/>
                    </a:lnTo>
                    <a:lnTo>
                      <a:pt x="284" y="366"/>
                    </a:lnTo>
                    <a:lnTo>
                      <a:pt x="284" y="366"/>
                    </a:lnTo>
                    <a:lnTo>
                      <a:pt x="282" y="378"/>
                    </a:lnTo>
                    <a:lnTo>
                      <a:pt x="284" y="392"/>
                    </a:lnTo>
                    <a:lnTo>
                      <a:pt x="290" y="424"/>
                    </a:lnTo>
                    <a:lnTo>
                      <a:pt x="298" y="458"/>
                    </a:lnTo>
                    <a:lnTo>
                      <a:pt x="310" y="492"/>
                    </a:lnTo>
                    <a:lnTo>
                      <a:pt x="332" y="550"/>
                    </a:lnTo>
                    <a:lnTo>
                      <a:pt x="342" y="574"/>
                    </a:lnTo>
                    <a:lnTo>
                      <a:pt x="342" y="574"/>
                    </a:lnTo>
                    <a:lnTo>
                      <a:pt x="356" y="542"/>
                    </a:lnTo>
                    <a:lnTo>
                      <a:pt x="370" y="516"/>
                    </a:lnTo>
                    <a:lnTo>
                      <a:pt x="382" y="498"/>
                    </a:lnTo>
                    <a:lnTo>
                      <a:pt x="394" y="488"/>
                    </a:lnTo>
                    <a:lnTo>
                      <a:pt x="400" y="486"/>
                    </a:lnTo>
                    <a:lnTo>
                      <a:pt x="406" y="484"/>
                    </a:lnTo>
                    <a:lnTo>
                      <a:pt x="412" y="484"/>
                    </a:lnTo>
                    <a:lnTo>
                      <a:pt x="416" y="484"/>
                    </a:lnTo>
                    <a:lnTo>
                      <a:pt x="426" y="490"/>
                    </a:lnTo>
                    <a:lnTo>
                      <a:pt x="434" y="498"/>
                    </a:lnTo>
                    <a:lnTo>
                      <a:pt x="442" y="508"/>
                    </a:lnTo>
                    <a:lnTo>
                      <a:pt x="448" y="520"/>
                    </a:lnTo>
                    <a:lnTo>
                      <a:pt x="458" y="546"/>
                    </a:lnTo>
                    <a:lnTo>
                      <a:pt x="464" y="566"/>
                    </a:lnTo>
                    <a:lnTo>
                      <a:pt x="466" y="574"/>
                    </a:lnTo>
                    <a:lnTo>
                      <a:pt x="466" y="574"/>
                    </a:lnTo>
                    <a:lnTo>
                      <a:pt x="474" y="558"/>
                    </a:lnTo>
                    <a:lnTo>
                      <a:pt x="478" y="550"/>
                    </a:lnTo>
                    <a:lnTo>
                      <a:pt x="484" y="546"/>
                    </a:lnTo>
                    <a:lnTo>
                      <a:pt x="488" y="544"/>
                    </a:lnTo>
                    <a:lnTo>
                      <a:pt x="494" y="542"/>
                    </a:lnTo>
                    <a:lnTo>
                      <a:pt x="506" y="540"/>
                    </a:lnTo>
                    <a:lnTo>
                      <a:pt x="518" y="544"/>
                    </a:lnTo>
                    <a:lnTo>
                      <a:pt x="530" y="552"/>
                    </a:lnTo>
                    <a:lnTo>
                      <a:pt x="544" y="562"/>
                    </a:lnTo>
                    <a:lnTo>
                      <a:pt x="556" y="572"/>
                    </a:lnTo>
                    <a:lnTo>
                      <a:pt x="580" y="600"/>
                    </a:lnTo>
                    <a:lnTo>
                      <a:pt x="600" y="626"/>
                    </a:lnTo>
                    <a:lnTo>
                      <a:pt x="618" y="652"/>
                    </a:lnTo>
                    <a:lnTo>
                      <a:pt x="618" y="652"/>
                    </a:lnTo>
                    <a:lnTo>
                      <a:pt x="616" y="648"/>
                    </a:lnTo>
                    <a:lnTo>
                      <a:pt x="616" y="648"/>
                    </a:lnTo>
                    <a:lnTo>
                      <a:pt x="618" y="652"/>
                    </a:lnTo>
                    <a:lnTo>
                      <a:pt x="618" y="652"/>
                    </a:lnTo>
                    <a:lnTo>
                      <a:pt x="606" y="622"/>
                    </a:lnTo>
                    <a:lnTo>
                      <a:pt x="596" y="590"/>
                    </a:lnTo>
                    <a:lnTo>
                      <a:pt x="588" y="556"/>
                    </a:lnTo>
                    <a:lnTo>
                      <a:pt x="586" y="538"/>
                    </a:lnTo>
                    <a:lnTo>
                      <a:pt x="584" y="522"/>
                    </a:lnTo>
                    <a:lnTo>
                      <a:pt x="586" y="508"/>
                    </a:lnTo>
                    <a:lnTo>
                      <a:pt x="590" y="496"/>
                    </a:lnTo>
                    <a:lnTo>
                      <a:pt x="596" y="488"/>
                    </a:lnTo>
                    <a:lnTo>
                      <a:pt x="602" y="484"/>
                    </a:lnTo>
                    <a:lnTo>
                      <a:pt x="606" y="482"/>
                    </a:lnTo>
                    <a:lnTo>
                      <a:pt x="614" y="480"/>
                    </a:lnTo>
                    <a:lnTo>
                      <a:pt x="620" y="480"/>
                    </a:lnTo>
                    <a:lnTo>
                      <a:pt x="640" y="484"/>
                    </a:lnTo>
                    <a:lnTo>
                      <a:pt x="640" y="484"/>
                    </a:lnTo>
                    <a:lnTo>
                      <a:pt x="634" y="476"/>
                    </a:lnTo>
                    <a:lnTo>
                      <a:pt x="620" y="460"/>
                    </a:lnTo>
                    <a:lnTo>
                      <a:pt x="606" y="438"/>
                    </a:lnTo>
                    <a:lnTo>
                      <a:pt x="600" y="426"/>
                    </a:lnTo>
                    <a:lnTo>
                      <a:pt x="594" y="414"/>
                    </a:lnTo>
                    <a:lnTo>
                      <a:pt x="592" y="402"/>
                    </a:lnTo>
                    <a:lnTo>
                      <a:pt x="594" y="392"/>
                    </a:lnTo>
                    <a:lnTo>
                      <a:pt x="596" y="386"/>
                    </a:lnTo>
                    <a:lnTo>
                      <a:pt x="600" y="382"/>
                    </a:lnTo>
                    <a:lnTo>
                      <a:pt x="604" y="378"/>
                    </a:lnTo>
                    <a:lnTo>
                      <a:pt x="610" y="376"/>
                    </a:lnTo>
                    <a:lnTo>
                      <a:pt x="624" y="372"/>
                    </a:lnTo>
                    <a:lnTo>
                      <a:pt x="646" y="370"/>
                    </a:lnTo>
                    <a:lnTo>
                      <a:pt x="674" y="374"/>
                    </a:lnTo>
                    <a:lnTo>
                      <a:pt x="710" y="380"/>
                    </a:lnTo>
                    <a:lnTo>
                      <a:pt x="710" y="380"/>
                    </a:lnTo>
                    <a:lnTo>
                      <a:pt x="696" y="358"/>
                    </a:lnTo>
                    <a:lnTo>
                      <a:pt x="660" y="308"/>
                    </a:lnTo>
                    <a:lnTo>
                      <a:pt x="638" y="278"/>
                    </a:lnTo>
                    <a:lnTo>
                      <a:pt x="616" y="252"/>
                    </a:lnTo>
                    <a:lnTo>
                      <a:pt x="592" y="230"/>
                    </a:lnTo>
                    <a:lnTo>
                      <a:pt x="582" y="220"/>
                    </a:lnTo>
                    <a:lnTo>
                      <a:pt x="572" y="214"/>
                    </a:lnTo>
                    <a:lnTo>
                      <a:pt x="572" y="214"/>
                    </a:lnTo>
                    <a:lnTo>
                      <a:pt x="568" y="210"/>
                    </a:lnTo>
                    <a:lnTo>
                      <a:pt x="564" y="202"/>
                    </a:lnTo>
                    <a:lnTo>
                      <a:pt x="564" y="198"/>
                    </a:lnTo>
                    <a:lnTo>
                      <a:pt x="566" y="196"/>
                    </a:lnTo>
                    <a:lnTo>
                      <a:pt x="570" y="194"/>
                    </a:lnTo>
                    <a:lnTo>
                      <a:pt x="578" y="196"/>
                    </a:lnTo>
                    <a:lnTo>
                      <a:pt x="578" y="196"/>
                    </a:lnTo>
                    <a:lnTo>
                      <a:pt x="606" y="204"/>
                    </a:lnTo>
                    <a:lnTo>
                      <a:pt x="646" y="218"/>
                    </a:lnTo>
                    <a:lnTo>
                      <a:pt x="682" y="232"/>
                    </a:lnTo>
                    <a:lnTo>
                      <a:pt x="696" y="240"/>
                    </a:lnTo>
                    <a:lnTo>
                      <a:pt x="704" y="246"/>
                    </a:lnTo>
                    <a:lnTo>
                      <a:pt x="704" y="246"/>
                    </a:lnTo>
                    <a:lnTo>
                      <a:pt x="706" y="244"/>
                    </a:lnTo>
                    <a:lnTo>
                      <a:pt x="714" y="234"/>
                    </a:lnTo>
                    <a:lnTo>
                      <a:pt x="726" y="222"/>
                    </a:lnTo>
                    <a:lnTo>
                      <a:pt x="736" y="216"/>
                    </a:lnTo>
                    <a:lnTo>
                      <a:pt x="746" y="212"/>
                    </a:lnTo>
                    <a:lnTo>
                      <a:pt x="760" y="206"/>
                    </a:lnTo>
                    <a:lnTo>
                      <a:pt x="774" y="202"/>
                    </a:lnTo>
                    <a:lnTo>
                      <a:pt x="792" y="198"/>
                    </a:lnTo>
                    <a:lnTo>
                      <a:pt x="810" y="198"/>
                    </a:lnTo>
                    <a:lnTo>
                      <a:pt x="832" y="198"/>
                    </a:lnTo>
                    <a:lnTo>
                      <a:pt x="856" y="200"/>
                    </a:lnTo>
                    <a:lnTo>
                      <a:pt x="882" y="206"/>
                    </a:lnTo>
                    <a:lnTo>
                      <a:pt x="912" y="214"/>
                    </a:lnTo>
                    <a:lnTo>
                      <a:pt x="912" y="212"/>
                    </a:lnTo>
                    <a:lnTo>
                      <a:pt x="912" y="212"/>
                    </a:lnTo>
                    <a:lnTo>
                      <a:pt x="882" y="188"/>
                    </a:lnTo>
                    <a:lnTo>
                      <a:pt x="860" y="170"/>
                    </a:lnTo>
                    <a:lnTo>
                      <a:pt x="838" y="148"/>
                    </a:lnTo>
                    <a:lnTo>
                      <a:pt x="822" y="126"/>
                    </a:lnTo>
                    <a:lnTo>
                      <a:pt x="816" y="114"/>
                    </a:lnTo>
                    <a:lnTo>
                      <a:pt x="810" y="104"/>
                    </a:lnTo>
                    <a:lnTo>
                      <a:pt x="810" y="94"/>
                    </a:lnTo>
                    <a:lnTo>
                      <a:pt x="810" y="86"/>
                    </a:lnTo>
                    <a:lnTo>
                      <a:pt x="816" y="78"/>
                    </a:lnTo>
                    <a:lnTo>
                      <a:pt x="824" y="72"/>
                    </a:lnTo>
                    <a:lnTo>
                      <a:pt x="824" y="72"/>
                    </a:lnTo>
                    <a:close/>
                  </a:path>
                </a:pathLst>
              </a:custGeom>
              <a:solidFill>
                <a:srgbClr val="ed4600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Freeform 35"/>
              <p:cNvSpPr/>
              <p:nvPr/>
            </p:nvSpPr>
            <p:spPr>
              <a:xfrm>
                <a:off x="8351640" y="11160"/>
                <a:ext cx="792720" cy="554400"/>
              </a:xfrm>
              <a:custGeom>
                <a:avLst/>
                <a:gdLst>
                  <a:gd name="textAreaLeft" fmla="*/ 0 w 792720"/>
                  <a:gd name="textAreaRight" fmla="*/ 793080 w 792720"/>
                  <a:gd name="textAreaTop" fmla="*/ 0 h 554400"/>
                  <a:gd name="textAreaBottom" fmla="*/ 554760 h 554400"/>
                </a:gdLst>
                <a:ahLst/>
                <a:rect l="textAreaLeft" t="textAreaTop" r="textAreaRight" b="textAreaBottom"/>
                <a:pathLst>
                  <a:path w="690" h="482">
                    <a:moveTo>
                      <a:pt x="690" y="0"/>
                    </a:moveTo>
                    <a:lnTo>
                      <a:pt x="126" y="0"/>
                    </a:lnTo>
                    <a:lnTo>
                      <a:pt x="126" y="0"/>
                    </a:lnTo>
                    <a:lnTo>
                      <a:pt x="106" y="22"/>
                    </a:lnTo>
                    <a:lnTo>
                      <a:pt x="84" y="40"/>
                    </a:lnTo>
                    <a:lnTo>
                      <a:pt x="64" y="56"/>
                    </a:lnTo>
                    <a:lnTo>
                      <a:pt x="44" y="70"/>
                    </a:lnTo>
                    <a:lnTo>
                      <a:pt x="12" y="88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50" y="86"/>
                    </a:lnTo>
                    <a:lnTo>
                      <a:pt x="90" y="82"/>
                    </a:lnTo>
                    <a:lnTo>
                      <a:pt x="106" y="82"/>
                    </a:lnTo>
                    <a:lnTo>
                      <a:pt x="120" y="84"/>
                    </a:lnTo>
                    <a:lnTo>
                      <a:pt x="130" y="86"/>
                    </a:lnTo>
                    <a:lnTo>
                      <a:pt x="140" y="88"/>
                    </a:lnTo>
                    <a:lnTo>
                      <a:pt x="146" y="92"/>
                    </a:lnTo>
                    <a:lnTo>
                      <a:pt x="152" y="96"/>
                    </a:lnTo>
                    <a:lnTo>
                      <a:pt x="156" y="102"/>
                    </a:lnTo>
                    <a:lnTo>
                      <a:pt x="158" y="108"/>
                    </a:lnTo>
                    <a:lnTo>
                      <a:pt x="158" y="114"/>
                    </a:lnTo>
                    <a:lnTo>
                      <a:pt x="158" y="122"/>
                    </a:lnTo>
                    <a:lnTo>
                      <a:pt x="152" y="136"/>
                    </a:lnTo>
                    <a:lnTo>
                      <a:pt x="144" y="152"/>
                    </a:lnTo>
                    <a:lnTo>
                      <a:pt x="132" y="168"/>
                    </a:lnTo>
                    <a:lnTo>
                      <a:pt x="108" y="196"/>
                    </a:lnTo>
                    <a:lnTo>
                      <a:pt x="86" y="216"/>
                    </a:lnTo>
                    <a:lnTo>
                      <a:pt x="78" y="224"/>
                    </a:lnTo>
                    <a:lnTo>
                      <a:pt x="78" y="224"/>
                    </a:lnTo>
                    <a:lnTo>
                      <a:pt x="96" y="222"/>
                    </a:lnTo>
                    <a:lnTo>
                      <a:pt x="114" y="220"/>
                    </a:lnTo>
                    <a:lnTo>
                      <a:pt x="126" y="222"/>
                    </a:lnTo>
                    <a:lnTo>
                      <a:pt x="136" y="226"/>
                    </a:lnTo>
                    <a:lnTo>
                      <a:pt x="144" y="232"/>
                    </a:lnTo>
                    <a:lnTo>
                      <a:pt x="148" y="240"/>
                    </a:lnTo>
                    <a:lnTo>
                      <a:pt x="152" y="248"/>
                    </a:lnTo>
                    <a:lnTo>
                      <a:pt x="154" y="258"/>
                    </a:lnTo>
                    <a:lnTo>
                      <a:pt x="154" y="276"/>
                    </a:lnTo>
                    <a:lnTo>
                      <a:pt x="150" y="292"/>
                    </a:lnTo>
                    <a:lnTo>
                      <a:pt x="144" y="310"/>
                    </a:lnTo>
                    <a:lnTo>
                      <a:pt x="144" y="310"/>
                    </a:lnTo>
                    <a:lnTo>
                      <a:pt x="152" y="308"/>
                    </a:lnTo>
                    <a:lnTo>
                      <a:pt x="160" y="310"/>
                    </a:lnTo>
                    <a:lnTo>
                      <a:pt x="166" y="314"/>
                    </a:lnTo>
                    <a:lnTo>
                      <a:pt x="170" y="320"/>
                    </a:lnTo>
                    <a:lnTo>
                      <a:pt x="174" y="330"/>
                    </a:lnTo>
                    <a:lnTo>
                      <a:pt x="176" y="340"/>
                    </a:lnTo>
                    <a:lnTo>
                      <a:pt x="180" y="362"/>
                    </a:lnTo>
                    <a:lnTo>
                      <a:pt x="180" y="386"/>
                    </a:lnTo>
                    <a:lnTo>
                      <a:pt x="180" y="408"/>
                    </a:lnTo>
                    <a:lnTo>
                      <a:pt x="178" y="428"/>
                    </a:lnTo>
                    <a:lnTo>
                      <a:pt x="178" y="428"/>
                    </a:lnTo>
                    <a:lnTo>
                      <a:pt x="188" y="408"/>
                    </a:lnTo>
                    <a:lnTo>
                      <a:pt x="198" y="392"/>
                    </a:lnTo>
                    <a:lnTo>
                      <a:pt x="208" y="376"/>
                    </a:lnTo>
                    <a:lnTo>
                      <a:pt x="218" y="364"/>
                    </a:lnTo>
                    <a:lnTo>
                      <a:pt x="228" y="354"/>
                    </a:lnTo>
                    <a:lnTo>
                      <a:pt x="238" y="346"/>
                    </a:lnTo>
                    <a:lnTo>
                      <a:pt x="248" y="340"/>
                    </a:lnTo>
                    <a:lnTo>
                      <a:pt x="258" y="336"/>
                    </a:lnTo>
                    <a:lnTo>
                      <a:pt x="274" y="332"/>
                    </a:lnTo>
                    <a:lnTo>
                      <a:pt x="286" y="330"/>
                    </a:lnTo>
                    <a:lnTo>
                      <a:pt x="298" y="330"/>
                    </a:lnTo>
                    <a:lnTo>
                      <a:pt x="298" y="330"/>
                    </a:lnTo>
                    <a:lnTo>
                      <a:pt x="298" y="322"/>
                    </a:lnTo>
                    <a:lnTo>
                      <a:pt x="300" y="312"/>
                    </a:lnTo>
                    <a:lnTo>
                      <a:pt x="310" y="284"/>
                    </a:lnTo>
                    <a:lnTo>
                      <a:pt x="332" y="238"/>
                    </a:lnTo>
                    <a:lnTo>
                      <a:pt x="332" y="238"/>
                    </a:lnTo>
                    <a:lnTo>
                      <a:pt x="334" y="232"/>
                    </a:lnTo>
                    <a:lnTo>
                      <a:pt x="336" y="230"/>
                    </a:lnTo>
                    <a:lnTo>
                      <a:pt x="340" y="232"/>
                    </a:lnTo>
                    <a:lnTo>
                      <a:pt x="342" y="234"/>
                    </a:lnTo>
                    <a:lnTo>
                      <a:pt x="344" y="240"/>
                    </a:lnTo>
                    <a:lnTo>
                      <a:pt x="344" y="242"/>
                    </a:lnTo>
                    <a:lnTo>
                      <a:pt x="344" y="242"/>
                    </a:lnTo>
                    <a:lnTo>
                      <a:pt x="342" y="262"/>
                    </a:lnTo>
                    <a:lnTo>
                      <a:pt x="344" y="284"/>
                    </a:lnTo>
                    <a:lnTo>
                      <a:pt x="346" y="310"/>
                    </a:lnTo>
                    <a:lnTo>
                      <a:pt x="352" y="336"/>
                    </a:lnTo>
                    <a:lnTo>
                      <a:pt x="362" y="380"/>
                    </a:lnTo>
                    <a:lnTo>
                      <a:pt x="366" y="398"/>
                    </a:lnTo>
                    <a:lnTo>
                      <a:pt x="366" y="398"/>
                    </a:lnTo>
                    <a:lnTo>
                      <a:pt x="380" y="376"/>
                    </a:lnTo>
                    <a:lnTo>
                      <a:pt x="392" y="360"/>
                    </a:lnTo>
                    <a:lnTo>
                      <a:pt x="404" y="348"/>
                    </a:lnTo>
                    <a:lnTo>
                      <a:pt x="414" y="342"/>
                    </a:lnTo>
                    <a:lnTo>
                      <a:pt x="422" y="340"/>
                    </a:lnTo>
                    <a:lnTo>
                      <a:pt x="430" y="340"/>
                    </a:lnTo>
                    <a:lnTo>
                      <a:pt x="436" y="346"/>
                    </a:lnTo>
                    <a:lnTo>
                      <a:pt x="440" y="352"/>
                    </a:lnTo>
                    <a:lnTo>
                      <a:pt x="446" y="360"/>
                    </a:lnTo>
                    <a:lnTo>
                      <a:pt x="448" y="370"/>
                    </a:lnTo>
                    <a:lnTo>
                      <a:pt x="454" y="388"/>
                    </a:lnTo>
                    <a:lnTo>
                      <a:pt x="458" y="410"/>
                    </a:lnTo>
                    <a:lnTo>
                      <a:pt x="458" y="410"/>
                    </a:lnTo>
                    <a:lnTo>
                      <a:pt x="464" y="398"/>
                    </a:lnTo>
                    <a:lnTo>
                      <a:pt x="472" y="392"/>
                    </a:lnTo>
                    <a:lnTo>
                      <a:pt x="480" y="388"/>
                    </a:lnTo>
                    <a:lnTo>
                      <a:pt x="488" y="390"/>
                    </a:lnTo>
                    <a:lnTo>
                      <a:pt x="496" y="394"/>
                    </a:lnTo>
                    <a:lnTo>
                      <a:pt x="506" y="400"/>
                    </a:lnTo>
                    <a:lnTo>
                      <a:pt x="514" y="408"/>
                    </a:lnTo>
                    <a:lnTo>
                      <a:pt x="522" y="418"/>
                    </a:lnTo>
                    <a:lnTo>
                      <a:pt x="536" y="440"/>
                    </a:lnTo>
                    <a:lnTo>
                      <a:pt x="548" y="460"/>
                    </a:lnTo>
                    <a:lnTo>
                      <a:pt x="558" y="482"/>
                    </a:lnTo>
                    <a:lnTo>
                      <a:pt x="558" y="482"/>
                    </a:lnTo>
                    <a:lnTo>
                      <a:pt x="558" y="478"/>
                    </a:lnTo>
                    <a:lnTo>
                      <a:pt x="558" y="478"/>
                    </a:lnTo>
                    <a:lnTo>
                      <a:pt x="560" y="480"/>
                    </a:lnTo>
                    <a:lnTo>
                      <a:pt x="560" y="480"/>
                    </a:lnTo>
                    <a:lnTo>
                      <a:pt x="554" y="458"/>
                    </a:lnTo>
                    <a:lnTo>
                      <a:pt x="548" y="434"/>
                    </a:lnTo>
                    <a:lnTo>
                      <a:pt x="546" y="408"/>
                    </a:lnTo>
                    <a:lnTo>
                      <a:pt x="546" y="396"/>
                    </a:lnTo>
                    <a:lnTo>
                      <a:pt x="546" y="384"/>
                    </a:lnTo>
                    <a:lnTo>
                      <a:pt x="550" y="374"/>
                    </a:lnTo>
                    <a:lnTo>
                      <a:pt x="554" y="366"/>
                    </a:lnTo>
                    <a:lnTo>
                      <a:pt x="558" y="360"/>
                    </a:lnTo>
                    <a:lnTo>
                      <a:pt x="566" y="356"/>
                    </a:lnTo>
                    <a:lnTo>
                      <a:pt x="578" y="356"/>
                    </a:lnTo>
                    <a:lnTo>
                      <a:pt x="590" y="362"/>
                    </a:lnTo>
                    <a:lnTo>
                      <a:pt x="590" y="362"/>
                    </a:lnTo>
                    <a:lnTo>
                      <a:pt x="578" y="342"/>
                    </a:lnTo>
                    <a:lnTo>
                      <a:pt x="570" y="326"/>
                    </a:lnTo>
                    <a:lnTo>
                      <a:pt x="566" y="316"/>
                    </a:lnTo>
                    <a:lnTo>
                      <a:pt x="564" y="306"/>
                    </a:lnTo>
                    <a:lnTo>
                      <a:pt x="564" y="298"/>
                    </a:lnTo>
                    <a:lnTo>
                      <a:pt x="566" y="290"/>
                    </a:lnTo>
                    <a:lnTo>
                      <a:pt x="570" y="284"/>
                    </a:lnTo>
                    <a:lnTo>
                      <a:pt x="578" y="280"/>
                    </a:lnTo>
                    <a:lnTo>
                      <a:pt x="590" y="280"/>
                    </a:lnTo>
                    <a:lnTo>
                      <a:pt x="606" y="280"/>
                    </a:lnTo>
                    <a:lnTo>
                      <a:pt x="626" y="286"/>
                    </a:lnTo>
                    <a:lnTo>
                      <a:pt x="652" y="294"/>
                    </a:lnTo>
                    <a:lnTo>
                      <a:pt x="652" y="294"/>
                    </a:lnTo>
                    <a:lnTo>
                      <a:pt x="644" y="276"/>
                    </a:lnTo>
                    <a:lnTo>
                      <a:pt x="622" y="236"/>
                    </a:lnTo>
                    <a:lnTo>
                      <a:pt x="610" y="214"/>
                    </a:lnTo>
                    <a:lnTo>
                      <a:pt x="596" y="192"/>
                    </a:lnTo>
                    <a:lnTo>
                      <a:pt x="580" y="174"/>
                    </a:lnTo>
                    <a:lnTo>
                      <a:pt x="566" y="160"/>
                    </a:lnTo>
                    <a:lnTo>
                      <a:pt x="566" y="160"/>
                    </a:lnTo>
                    <a:lnTo>
                      <a:pt x="566" y="158"/>
                    </a:lnTo>
                    <a:lnTo>
                      <a:pt x="564" y="152"/>
                    </a:lnTo>
                    <a:lnTo>
                      <a:pt x="564" y="148"/>
                    </a:lnTo>
                    <a:lnTo>
                      <a:pt x="564" y="146"/>
                    </a:lnTo>
                    <a:lnTo>
                      <a:pt x="568" y="146"/>
                    </a:lnTo>
                    <a:lnTo>
                      <a:pt x="574" y="148"/>
                    </a:lnTo>
                    <a:lnTo>
                      <a:pt x="574" y="148"/>
                    </a:lnTo>
                    <a:lnTo>
                      <a:pt x="620" y="170"/>
                    </a:lnTo>
                    <a:lnTo>
                      <a:pt x="644" y="184"/>
                    </a:lnTo>
                    <a:lnTo>
                      <a:pt x="654" y="192"/>
                    </a:lnTo>
                    <a:lnTo>
                      <a:pt x="660" y="196"/>
                    </a:lnTo>
                    <a:lnTo>
                      <a:pt x="660" y="196"/>
                    </a:lnTo>
                    <a:lnTo>
                      <a:pt x="666" y="190"/>
                    </a:lnTo>
                    <a:lnTo>
                      <a:pt x="676" y="182"/>
                    </a:lnTo>
                    <a:lnTo>
                      <a:pt x="690" y="176"/>
                    </a:lnTo>
                    <a:lnTo>
                      <a:pt x="690" y="0"/>
                    </a:lnTo>
                    <a:close/>
                  </a:path>
                </a:pathLst>
              </a:custGeom>
              <a:solidFill>
                <a:srgbClr val="ed4600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Freeform 31"/>
              <p:cNvSpPr/>
              <p:nvPr/>
            </p:nvSpPr>
            <p:spPr>
              <a:xfrm>
                <a:off x="6975720" y="6209640"/>
                <a:ext cx="1161720" cy="648000"/>
              </a:xfrm>
              <a:custGeom>
                <a:avLst/>
                <a:gdLst>
                  <a:gd name="textAreaLeft" fmla="*/ 0 w 1161720"/>
                  <a:gd name="textAreaRight" fmla="*/ 1162080 w 11617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976" h="544">
                    <a:moveTo>
                      <a:pt x="748" y="274"/>
                    </a:moveTo>
                    <a:lnTo>
                      <a:pt x="748" y="274"/>
                    </a:lnTo>
                    <a:lnTo>
                      <a:pt x="716" y="260"/>
                    </a:lnTo>
                    <a:lnTo>
                      <a:pt x="686" y="250"/>
                    </a:lnTo>
                    <a:lnTo>
                      <a:pt x="660" y="244"/>
                    </a:lnTo>
                    <a:lnTo>
                      <a:pt x="634" y="242"/>
                    </a:lnTo>
                    <a:lnTo>
                      <a:pt x="612" y="240"/>
                    </a:lnTo>
                    <a:lnTo>
                      <a:pt x="592" y="242"/>
                    </a:lnTo>
                    <a:lnTo>
                      <a:pt x="574" y="246"/>
                    </a:lnTo>
                    <a:lnTo>
                      <a:pt x="560" y="250"/>
                    </a:lnTo>
                    <a:lnTo>
                      <a:pt x="546" y="256"/>
                    </a:lnTo>
                    <a:lnTo>
                      <a:pt x="536" y="262"/>
                    </a:lnTo>
                    <a:lnTo>
                      <a:pt x="518" y="274"/>
                    </a:lnTo>
                    <a:lnTo>
                      <a:pt x="510" y="284"/>
                    </a:lnTo>
                    <a:lnTo>
                      <a:pt x="506" y="288"/>
                    </a:lnTo>
                    <a:lnTo>
                      <a:pt x="506" y="288"/>
                    </a:lnTo>
                    <a:lnTo>
                      <a:pt x="502" y="290"/>
                    </a:lnTo>
                    <a:lnTo>
                      <a:pt x="496" y="292"/>
                    </a:lnTo>
                    <a:lnTo>
                      <a:pt x="494" y="292"/>
                    </a:lnTo>
                    <a:lnTo>
                      <a:pt x="492" y="292"/>
                    </a:lnTo>
                    <a:lnTo>
                      <a:pt x="494" y="288"/>
                    </a:lnTo>
                    <a:lnTo>
                      <a:pt x="496" y="282"/>
                    </a:lnTo>
                    <a:lnTo>
                      <a:pt x="496" y="282"/>
                    </a:lnTo>
                    <a:lnTo>
                      <a:pt x="514" y="248"/>
                    </a:lnTo>
                    <a:lnTo>
                      <a:pt x="528" y="220"/>
                    </a:lnTo>
                    <a:lnTo>
                      <a:pt x="542" y="184"/>
                    </a:lnTo>
                    <a:lnTo>
                      <a:pt x="554" y="146"/>
                    </a:lnTo>
                    <a:lnTo>
                      <a:pt x="560" y="124"/>
                    </a:lnTo>
                    <a:lnTo>
                      <a:pt x="564" y="102"/>
                    </a:lnTo>
                    <a:lnTo>
                      <a:pt x="566" y="80"/>
                    </a:lnTo>
                    <a:lnTo>
                      <a:pt x="566" y="56"/>
                    </a:lnTo>
                    <a:lnTo>
                      <a:pt x="566" y="34"/>
                    </a:lnTo>
                    <a:lnTo>
                      <a:pt x="562" y="10"/>
                    </a:lnTo>
                    <a:lnTo>
                      <a:pt x="562" y="10"/>
                    </a:lnTo>
                    <a:lnTo>
                      <a:pt x="544" y="20"/>
                    </a:lnTo>
                    <a:lnTo>
                      <a:pt x="524" y="32"/>
                    </a:lnTo>
                    <a:lnTo>
                      <a:pt x="502" y="48"/>
                    </a:lnTo>
                    <a:lnTo>
                      <a:pt x="476" y="70"/>
                    </a:lnTo>
                    <a:lnTo>
                      <a:pt x="464" y="84"/>
                    </a:lnTo>
                    <a:lnTo>
                      <a:pt x="452" y="98"/>
                    </a:lnTo>
                    <a:lnTo>
                      <a:pt x="440" y="116"/>
                    </a:lnTo>
                    <a:lnTo>
                      <a:pt x="430" y="132"/>
                    </a:lnTo>
                    <a:lnTo>
                      <a:pt x="420" y="152"/>
                    </a:lnTo>
                    <a:lnTo>
                      <a:pt x="412" y="174"/>
                    </a:lnTo>
                    <a:lnTo>
                      <a:pt x="412" y="174"/>
                    </a:lnTo>
                    <a:lnTo>
                      <a:pt x="408" y="168"/>
                    </a:lnTo>
                    <a:lnTo>
                      <a:pt x="398" y="156"/>
                    </a:lnTo>
                    <a:lnTo>
                      <a:pt x="392" y="152"/>
                    </a:lnTo>
                    <a:lnTo>
                      <a:pt x="386" y="148"/>
                    </a:lnTo>
                    <a:lnTo>
                      <a:pt x="380" y="146"/>
                    </a:lnTo>
                    <a:lnTo>
                      <a:pt x="374" y="148"/>
                    </a:lnTo>
                    <a:lnTo>
                      <a:pt x="374" y="148"/>
                    </a:lnTo>
                    <a:lnTo>
                      <a:pt x="368" y="156"/>
                    </a:lnTo>
                    <a:lnTo>
                      <a:pt x="364" y="162"/>
                    </a:lnTo>
                    <a:lnTo>
                      <a:pt x="364" y="168"/>
                    </a:lnTo>
                    <a:lnTo>
                      <a:pt x="366" y="170"/>
                    </a:lnTo>
                    <a:lnTo>
                      <a:pt x="366" y="170"/>
                    </a:lnTo>
                    <a:lnTo>
                      <a:pt x="370" y="184"/>
                    </a:lnTo>
                    <a:lnTo>
                      <a:pt x="376" y="222"/>
                    </a:lnTo>
                    <a:lnTo>
                      <a:pt x="380" y="242"/>
                    </a:lnTo>
                    <a:lnTo>
                      <a:pt x="382" y="264"/>
                    </a:lnTo>
                    <a:lnTo>
                      <a:pt x="382" y="284"/>
                    </a:lnTo>
                    <a:lnTo>
                      <a:pt x="380" y="302"/>
                    </a:lnTo>
                    <a:lnTo>
                      <a:pt x="380" y="302"/>
                    </a:lnTo>
                    <a:lnTo>
                      <a:pt x="356" y="252"/>
                    </a:lnTo>
                    <a:lnTo>
                      <a:pt x="338" y="214"/>
                    </a:lnTo>
                    <a:lnTo>
                      <a:pt x="320" y="172"/>
                    </a:lnTo>
                    <a:lnTo>
                      <a:pt x="306" y="126"/>
                    </a:lnTo>
                    <a:lnTo>
                      <a:pt x="300" y="104"/>
                    </a:lnTo>
                    <a:lnTo>
                      <a:pt x="296" y="84"/>
                    </a:lnTo>
                    <a:lnTo>
                      <a:pt x="294" y="64"/>
                    </a:lnTo>
                    <a:lnTo>
                      <a:pt x="296" y="44"/>
                    </a:lnTo>
                    <a:lnTo>
                      <a:pt x="298" y="28"/>
                    </a:lnTo>
                    <a:lnTo>
                      <a:pt x="304" y="12"/>
                    </a:lnTo>
                    <a:lnTo>
                      <a:pt x="304" y="12"/>
                    </a:lnTo>
                    <a:lnTo>
                      <a:pt x="306" y="10"/>
                    </a:lnTo>
                    <a:lnTo>
                      <a:pt x="306" y="6"/>
                    </a:lnTo>
                    <a:lnTo>
                      <a:pt x="304" y="2"/>
                    </a:lnTo>
                    <a:lnTo>
                      <a:pt x="298" y="0"/>
                    </a:lnTo>
                    <a:lnTo>
                      <a:pt x="298" y="0"/>
                    </a:lnTo>
                    <a:lnTo>
                      <a:pt x="292" y="0"/>
                    </a:lnTo>
                    <a:lnTo>
                      <a:pt x="280" y="0"/>
                    </a:lnTo>
                    <a:lnTo>
                      <a:pt x="274" y="2"/>
                    </a:lnTo>
                    <a:lnTo>
                      <a:pt x="266" y="8"/>
                    </a:lnTo>
                    <a:lnTo>
                      <a:pt x="260" y="14"/>
                    </a:lnTo>
                    <a:lnTo>
                      <a:pt x="254" y="22"/>
                    </a:lnTo>
                    <a:lnTo>
                      <a:pt x="254" y="22"/>
                    </a:lnTo>
                    <a:lnTo>
                      <a:pt x="252" y="26"/>
                    </a:lnTo>
                    <a:lnTo>
                      <a:pt x="246" y="30"/>
                    </a:lnTo>
                    <a:lnTo>
                      <a:pt x="244" y="34"/>
                    </a:lnTo>
                    <a:lnTo>
                      <a:pt x="242" y="40"/>
                    </a:lnTo>
                    <a:lnTo>
                      <a:pt x="242" y="40"/>
                    </a:lnTo>
                    <a:lnTo>
                      <a:pt x="244" y="58"/>
                    </a:lnTo>
                    <a:lnTo>
                      <a:pt x="248" y="80"/>
                    </a:lnTo>
                    <a:lnTo>
                      <a:pt x="254" y="106"/>
                    </a:lnTo>
                    <a:lnTo>
                      <a:pt x="264" y="138"/>
                    </a:lnTo>
                    <a:lnTo>
                      <a:pt x="278" y="174"/>
                    </a:lnTo>
                    <a:lnTo>
                      <a:pt x="296" y="218"/>
                    </a:lnTo>
                    <a:lnTo>
                      <a:pt x="342" y="322"/>
                    </a:lnTo>
                    <a:lnTo>
                      <a:pt x="342" y="322"/>
                    </a:lnTo>
                    <a:lnTo>
                      <a:pt x="328" y="314"/>
                    </a:lnTo>
                    <a:lnTo>
                      <a:pt x="312" y="300"/>
                    </a:lnTo>
                    <a:lnTo>
                      <a:pt x="294" y="286"/>
                    </a:lnTo>
                    <a:lnTo>
                      <a:pt x="280" y="272"/>
                    </a:lnTo>
                    <a:lnTo>
                      <a:pt x="254" y="244"/>
                    </a:lnTo>
                    <a:lnTo>
                      <a:pt x="244" y="232"/>
                    </a:lnTo>
                    <a:lnTo>
                      <a:pt x="244" y="232"/>
                    </a:lnTo>
                    <a:lnTo>
                      <a:pt x="242" y="232"/>
                    </a:lnTo>
                    <a:lnTo>
                      <a:pt x="238" y="228"/>
                    </a:lnTo>
                    <a:lnTo>
                      <a:pt x="230" y="226"/>
                    </a:lnTo>
                    <a:lnTo>
                      <a:pt x="220" y="228"/>
                    </a:lnTo>
                    <a:lnTo>
                      <a:pt x="220" y="228"/>
                    </a:lnTo>
                    <a:lnTo>
                      <a:pt x="216" y="232"/>
                    </a:lnTo>
                    <a:lnTo>
                      <a:pt x="214" y="236"/>
                    </a:lnTo>
                    <a:lnTo>
                      <a:pt x="212" y="244"/>
                    </a:lnTo>
                    <a:lnTo>
                      <a:pt x="214" y="252"/>
                    </a:lnTo>
                    <a:lnTo>
                      <a:pt x="218" y="268"/>
                    </a:lnTo>
                    <a:lnTo>
                      <a:pt x="220" y="274"/>
                    </a:lnTo>
                    <a:lnTo>
                      <a:pt x="220" y="274"/>
                    </a:lnTo>
                    <a:lnTo>
                      <a:pt x="198" y="268"/>
                    </a:lnTo>
                    <a:lnTo>
                      <a:pt x="176" y="264"/>
                    </a:lnTo>
                    <a:lnTo>
                      <a:pt x="156" y="264"/>
                    </a:lnTo>
                    <a:lnTo>
                      <a:pt x="136" y="264"/>
                    </a:lnTo>
                    <a:lnTo>
                      <a:pt x="116" y="264"/>
                    </a:lnTo>
                    <a:lnTo>
                      <a:pt x="98" y="268"/>
                    </a:lnTo>
                    <a:lnTo>
                      <a:pt x="66" y="274"/>
                    </a:lnTo>
                    <a:lnTo>
                      <a:pt x="40" y="284"/>
                    </a:lnTo>
                    <a:lnTo>
                      <a:pt x="18" y="292"/>
                    </a:lnTo>
                    <a:lnTo>
                      <a:pt x="0" y="302"/>
                    </a:lnTo>
                    <a:lnTo>
                      <a:pt x="0" y="302"/>
                    </a:lnTo>
                    <a:lnTo>
                      <a:pt x="18" y="318"/>
                    </a:lnTo>
                    <a:lnTo>
                      <a:pt x="36" y="332"/>
                    </a:lnTo>
                    <a:lnTo>
                      <a:pt x="56" y="344"/>
                    </a:lnTo>
                    <a:lnTo>
                      <a:pt x="74" y="356"/>
                    </a:lnTo>
                    <a:lnTo>
                      <a:pt x="96" y="366"/>
                    </a:lnTo>
                    <a:lnTo>
                      <a:pt x="116" y="374"/>
                    </a:lnTo>
                    <a:lnTo>
                      <a:pt x="154" y="386"/>
                    </a:lnTo>
                    <a:lnTo>
                      <a:pt x="190" y="394"/>
                    </a:lnTo>
                    <a:lnTo>
                      <a:pt x="222" y="400"/>
                    </a:lnTo>
                    <a:lnTo>
                      <a:pt x="260" y="404"/>
                    </a:lnTo>
                    <a:lnTo>
                      <a:pt x="260" y="404"/>
                    </a:lnTo>
                    <a:lnTo>
                      <a:pt x="266" y="406"/>
                    </a:lnTo>
                    <a:lnTo>
                      <a:pt x="270" y="406"/>
                    </a:lnTo>
                    <a:lnTo>
                      <a:pt x="270" y="408"/>
                    </a:lnTo>
                    <a:lnTo>
                      <a:pt x="268" y="412"/>
                    </a:lnTo>
                    <a:lnTo>
                      <a:pt x="264" y="414"/>
                    </a:lnTo>
                    <a:lnTo>
                      <a:pt x="260" y="416"/>
                    </a:lnTo>
                    <a:lnTo>
                      <a:pt x="260" y="416"/>
                    </a:lnTo>
                    <a:lnTo>
                      <a:pt x="246" y="418"/>
                    </a:lnTo>
                    <a:lnTo>
                      <a:pt x="230" y="422"/>
                    </a:lnTo>
                    <a:lnTo>
                      <a:pt x="210" y="432"/>
                    </a:lnTo>
                    <a:lnTo>
                      <a:pt x="200" y="438"/>
                    </a:lnTo>
                    <a:lnTo>
                      <a:pt x="188" y="446"/>
                    </a:lnTo>
                    <a:lnTo>
                      <a:pt x="176" y="456"/>
                    </a:lnTo>
                    <a:lnTo>
                      <a:pt x="166" y="468"/>
                    </a:lnTo>
                    <a:lnTo>
                      <a:pt x="154" y="484"/>
                    </a:lnTo>
                    <a:lnTo>
                      <a:pt x="144" y="500"/>
                    </a:lnTo>
                    <a:lnTo>
                      <a:pt x="134" y="520"/>
                    </a:lnTo>
                    <a:lnTo>
                      <a:pt x="124" y="544"/>
                    </a:lnTo>
                    <a:lnTo>
                      <a:pt x="652" y="544"/>
                    </a:lnTo>
                    <a:lnTo>
                      <a:pt x="652" y="544"/>
                    </a:lnTo>
                    <a:lnTo>
                      <a:pt x="632" y="512"/>
                    </a:lnTo>
                    <a:lnTo>
                      <a:pt x="622" y="498"/>
                    </a:lnTo>
                    <a:lnTo>
                      <a:pt x="612" y="484"/>
                    </a:lnTo>
                    <a:lnTo>
                      <a:pt x="600" y="472"/>
                    </a:lnTo>
                    <a:lnTo>
                      <a:pt x="586" y="462"/>
                    </a:lnTo>
                    <a:lnTo>
                      <a:pt x="574" y="454"/>
                    </a:lnTo>
                    <a:lnTo>
                      <a:pt x="560" y="448"/>
                    </a:lnTo>
                    <a:lnTo>
                      <a:pt x="560" y="448"/>
                    </a:lnTo>
                    <a:lnTo>
                      <a:pt x="558" y="446"/>
                    </a:lnTo>
                    <a:lnTo>
                      <a:pt x="556" y="442"/>
                    </a:lnTo>
                    <a:lnTo>
                      <a:pt x="556" y="440"/>
                    </a:lnTo>
                    <a:lnTo>
                      <a:pt x="556" y="438"/>
                    </a:lnTo>
                    <a:lnTo>
                      <a:pt x="560" y="438"/>
                    </a:lnTo>
                    <a:lnTo>
                      <a:pt x="564" y="438"/>
                    </a:lnTo>
                    <a:lnTo>
                      <a:pt x="564" y="438"/>
                    </a:lnTo>
                    <a:lnTo>
                      <a:pt x="590" y="442"/>
                    </a:lnTo>
                    <a:lnTo>
                      <a:pt x="630" y="450"/>
                    </a:lnTo>
                    <a:lnTo>
                      <a:pt x="652" y="454"/>
                    </a:lnTo>
                    <a:lnTo>
                      <a:pt x="676" y="454"/>
                    </a:lnTo>
                    <a:lnTo>
                      <a:pt x="696" y="454"/>
                    </a:lnTo>
                    <a:lnTo>
                      <a:pt x="716" y="452"/>
                    </a:lnTo>
                    <a:lnTo>
                      <a:pt x="716" y="452"/>
                    </a:lnTo>
                    <a:lnTo>
                      <a:pt x="750" y="442"/>
                    </a:lnTo>
                    <a:lnTo>
                      <a:pt x="772" y="436"/>
                    </a:lnTo>
                    <a:lnTo>
                      <a:pt x="798" y="426"/>
                    </a:lnTo>
                    <a:lnTo>
                      <a:pt x="830" y="412"/>
                    </a:lnTo>
                    <a:lnTo>
                      <a:pt x="870" y="392"/>
                    </a:lnTo>
                    <a:lnTo>
                      <a:pt x="918" y="366"/>
                    </a:lnTo>
                    <a:lnTo>
                      <a:pt x="976" y="332"/>
                    </a:lnTo>
                    <a:lnTo>
                      <a:pt x="976" y="332"/>
                    </a:lnTo>
                    <a:lnTo>
                      <a:pt x="966" y="334"/>
                    </a:lnTo>
                    <a:lnTo>
                      <a:pt x="952" y="334"/>
                    </a:lnTo>
                    <a:lnTo>
                      <a:pt x="930" y="332"/>
                    </a:lnTo>
                    <a:lnTo>
                      <a:pt x="900" y="328"/>
                    </a:lnTo>
                    <a:lnTo>
                      <a:pt x="860" y="316"/>
                    </a:lnTo>
                    <a:lnTo>
                      <a:pt x="810" y="298"/>
                    </a:lnTo>
                    <a:lnTo>
                      <a:pt x="748" y="274"/>
                    </a:lnTo>
                    <a:lnTo>
                      <a:pt x="748" y="274"/>
                    </a:lnTo>
                    <a:close/>
                  </a:path>
                </a:pathLst>
              </a:custGeom>
              <a:solidFill>
                <a:srgbClr val="ed4600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31640" y="1123560"/>
            <a:ext cx="711684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Verdana"/>
                <a:ea typeface="微軟正黑體"/>
              </a:rPr>
              <a:t>地球發燒了</a:t>
            </a:r>
            <a:r>
              <a:rPr b="0" lang="zh-TW" sz="9600" spc="-1" strike="noStrike">
                <a:solidFill>
                  <a:srgbClr val="ffffff"/>
                </a:solidFill>
                <a:latin typeface="Verdana"/>
              </a:rPr>
              <a:t>!</a:t>
            </a:r>
            <a:endParaRPr b="0" lang="en-US" sz="9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09800" y="4776840"/>
            <a:ext cx="71164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TW" sz="2000" spc="-1" strike="noStrike">
              <a:solidFill>
                <a:srgbClr val="ff9000"/>
              </a:solidFill>
              <a:latin typeface="Verdana"/>
            </a:endParaRPr>
          </a:p>
        </p:txBody>
      </p:sp>
      <p:pic>
        <p:nvPicPr>
          <p:cNvPr id="74" name="Picture 3" descr="C:\Users\pc\AppData\Local\Microsoft\Windows\INetCache\IE\R0HGQPOH\lgi01a201310100700[1].jpg"/>
          <p:cNvPicPr/>
          <p:nvPr/>
        </p:nvPicPr>
        <p:blipFill>
          <a:blip r:embed="rId1"/>
          <a:stretch/>
        </p:blipFill>
        <p:spPr>
          <a:xfrm>
            <a:off x="0" y="3213000"/>
            <a:ext cx="9144000" cy="3668760"/>
          </a:xfrm>
          <a:prstGeom prst="rect">
            <a:avLst/>
          </a:prstGeom>
          <a:ln w="0">
            <a:noFill/>
          </a:ln>
        </p:spPr>
      </p:pic>
      <p:sp>
        <p:nvSpPr>
          <p:cNvPr id="75" name="文字方塊 4"/>
          <p:cNvSpPr/>
          <p:nvPr/>
        </p:nvSpPr>
        <p:spPr>
          <a:xfrm>
            <a:off x="3844800" y="624672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  <a:ea typeface="微軟正黑體"/>
              </a:rPr>
              <a:t>政策研究指標資料庫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Verdana"/>
              </a:rPr>
              <a:t>https://pride.stpi.narl.org.tw/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文字方塊 5"/>
          <p:cNvSpPr/>
          <p:nvPr/>
        </p:nvSpPr>
        <p:spPr>
          <a:xfrm>
            <a:off x="3276720" y="62215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軟正黑體"/>
              </a:rPr>
              <a:t>資料來源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日期版面配置區 3"/>
          <p:cNvSpPr/>
          <p:nvPr/>
        </p:nvSpPr>
        <p:spPr>
          <a:xfrm>
            <a:off x="643716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F910-1530-44AF-9433-EA398BD9978D}" type="datetime">
              <a:rPr b="0" lang="zh-CN" sz="900" spc="-1" strike="noStrike">
                <a:solidFill>
                  <a:srgbClr val="ff9000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8360" y="476280"/>
            <a:ext cx="755964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軟正黑體"/>
              </a:rPr>
              <a:t>二氧化碳濃度與氣溫的高低有相關性嗎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TW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8" name="Picture 4" descr="CO2與氣溫相關性"/>
          <p:cNvPicPr/>
          <p:nvPr/>
        </p:nvPicPr>
        <p:blipFill>
          <a:blip r:embed="rId1"/>
          <a:stretch/>
        </p:blipFill>
        <p:spPr>
          <a:xfrm>
            <a:off x="395280" y="1844640"/>
            <a:ext cx="835344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日期版面配置區 3"/>
          <p:cNvSpPr/>
          <p:nvPr/>
        </p:nvSpPr>
        <p:spPr>
          <a:xfrm>
            <a:off x="643716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4EA1-5239-49B5-8AE3-F1E2F0438B54}" type="datetime">
              <a:rPr b="0" lang="zh-CN" sz="900" spc="-1" strike="noStrike">
                <a:solidFill>
                  <a:srgbClr val="ff9000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1280" y="1412640"/>
            <a:ext cx="7124760" cy="40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spcBef>
                <a:spcPts val="100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Verdana"/>
                <a:ea typeface="微軟正黑體"/>
              </a:rPr>
              <a:t>大氣中二氧化碳濃度與全球年平均氣溫兩者是正向關係。整體而言，二氧化碳濃度升高，大氣溫度也跟著升高，所以要阻止地球持續暖化，應從減少二氧化碳排放著手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日期版面配置區 3"/>
          <p:cNvSpPr/>
          <p:nvPr/>
        </p:nvSpPr>
        <p:spPr>
          <a:xfrm>
            <a:off x="643716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7A05-46C9-4283-B3B1-9CA1A5F47601}" type="datetime">
              <a:rPr b="0" lang="zh-CN" sz="900" spc="-1" strike="noStrike">
                <a:solidFill>
                  <a:srgbClr val="ff9000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4720" y="404280"/>
            <a:ext cx="71244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軟正黑體"/>
              </a:rPr>
              <a:t>是什麼造成大氣中二氧化碳濃度增加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TW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5" name="Picture 4" descr="CO2排放來源"/>
          <p:cNvPicPr/>
          <p:nvPr/>
        </p:nvPicPr>
        <p:blipFill>
          <a:blip r:embed="rId1"/>
          <a:stretch/>
        </p:blipFill>
        <p:spPr>
          <a:xfrm>
            <a:off x="395280" y="1630440"/>
            <a:ext cx="83534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日期版面配置區 3"/>
          <p:cNvSpPr/>
          <p:nvPr/>
        </p:nvSpPr>
        <p:spPr>
          <a:xfrm>
            <a:off x="643716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FD4E-7CFF-47E5-98C7-2AF4B30595D4}" type="datetime">
              <a:rPr b="0" lang="zh-CN" sz="900" spc="-1" strike="noStrike">
                <a:solidFill>
                  <a:srgbClr val="ff9000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15640" y="549360"/>
            <a:ext cx="71247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44720" y="1484280"/>
            <a:ext cx="712440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造成大氣中二氧化碳濃度增加的重要原因是化石燃料的使用。不論是煤炭、石油或天然氣，造成的二氧化碳排放從</a:t>
            </a:r>
            <a:r>
              <a:rPr b="1" lang="zh-TW" sz="4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1960 </a:t>
            </a:r>
            <a:r>
              <a:rPr b="1" lang="zh-CN" sz="4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年起都是呈現直線攀升的趨勢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日期版面配置區 3"/>
          <p:cNvSpPr/>
          <p:nvPr/>
        </p:nvSpPr>
        <p:spPr>
          <a:xfrm>
            <a:off x="643716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1F1F-132D-4CF2-8C75-5850D457E09E}" type="datetime">
              <a:rPr b="0" lang="zh-CN" sz="900" spc="-1" strike="noStrike">
                <a:solidFill>
                  <a:srgbClr val="ff9000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655164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台灣哪一部門的二氧化碳排放最多</a:t>
            </a:r>
            <a:r>
              <a:rPr b="1" lang="zh-TW" sz="32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TW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2" name="Picture 4" descr="台灣CO2排放"/>
          <p:cNvPicPr/>
          <p:nvPr/>
        </p:nvPicPr>
        <p:blipFill>
          <a:blip r:embed="rId1"/>
          <a:stretch/>
        </p:blipFill>
        <p:spPr>
          <a:xfrm>
            <a:off x="396720" y="1703520"/>
            <a:ext cx="835200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日期版面配置區 3"/>
          <p:cNvSpPr/>
          <p:nvPr/>
        </p:nvSpPr>
        <p:spPr>
          <a:xfrm>
            <a:off x="643716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E940-1D03-4313-B326-37881DC2C775}" type="datetime">
              <a:rPr b="0" lang="zh-CN" sz="900" spc="-1" strike="noStrike">
                <a:solidFill>
                  <a:srgbClr val="ff9000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71280" y="1412640"/>
            <a:ext cx="7124760" cy="40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台灣二氧化碳排放接近 </a:t>
            </a:r>
            <a:r>
              <a:rPr b="1" lang="zh-TW" sz="4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50%</a:t>
            </a:r>
            <a:r>
              <a:rPr b="1" lang="zh-TW" sz="4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是來自工業部門，其次是運輸部門，第三是服務業部門，第四是住宅部門，第五是能源部門，農業部門最少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版面配置區 3"/>
          <p:cNvSpPr/>
          <p:nvPr/>
        </p:nvSpPr>
        <p:spPr>
          <a:xfrm>
            <a:off x="643716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370E-B0EB-487E-9747-96F73BA79F88}" type="datetime">
              <a:rPr b="0" lang="zh-CN" sz="900" spc="-1" strike="noStrike">
                <a:solidFill>
                  <a:srgbClr val="ff9000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59770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軟正黑體"/>
              </a:rPr>
              <a:t>人口的增加與全球暖化有關嗎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TW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9" name="Picture 4" descr="與人口數關係"/>
          <p:cNvPicPr/>
          <p:nvPr/>
        </p:nvPicPr>
        <p:blipFill>
          <a:blip r:embed="rId1"/>
          <a:stretch/>
        </p:blipFill>
        <p:spPr>
          <a:xfrm>
            <a:off x="539640" y="1413000"/>
            <a:ext cx="8064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版面配置區 3"/>
          <p:cNvSpPr/>
          <p:nvPr/>
        </p:nvSpPr>
        <p:spPr>
          <a:xfrm>
            <a:off x="643716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7068-61C3-46FC-A54D-13D5B77B37C3}" type="datetime">
              <a:rPr b="0" lang="zh-CN" sz="900" spc="-1" strike="noStrike">
                <a:solidFill>
                  <a:srgbClr val="ff9000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01440" y="1412640"/>
            <a:ext cx="7197480" cy="40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spcBef>
                <a:spcPts val="100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Verdana"/>
                <a:ea typeface="微軟正黑體"/>
              </a:rPr>
              <a:t>大樓及柏油路對陽光的蓄熱、空調設備和交通工具所排放的人工廢熱、空氣污染排出二氧化碳等溫室氣體、樹木減少等等，都使暖化現象更為嚴重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日期版面配置區 3"/>
          <p:cNvSpPr/>
          <p:nvPr/>
        </p:nvSpPr>
        <p:spPr>
          <a:xfrm>
            <a:off x="643716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B8F3-071D-4D79-8ED3-DE24AED4F589}" type="datetime">
              <a:rPr b="0" lang="zh-CN" sz="900" spc="-1" strike="noStrike">
                <a:solidFill>
                  <a:srgbClr val="ff9000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18920" y="549360"/>
            <a:ext cx="622764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近 </a:t>
            </a:r>
            <a:r>
              <a:rPr b="1" lang="zh-TW" sz="32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20 </a:t>
            </a:r>
            <a:r>
              <a:rPr b="1" lang="zh-CN" sz="32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年來森林面積的變化如何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TW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6" name="Picture 4" descr="森林面積"/>
          <p:cNvPicPr/>
          <p:nvPr/>
        </p:nvPicPr>
        <p:blipFill>
          <a:blip r:embed="rId1"/>
          <a:stretch/>
        </p:blipFill>
        <p:spPr>
          <a:xfrm>
            <a:off x="468360" y="1701720"/>
            <a:ext cx="820728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版面配置區 3"/>
          <p:cNvSpPr/>
          <p:nvPr/>
        </p:nvSpPr>
        <p:spPr>
          <a:xfrm>
            <a:off x="643716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B681-2E9F-4BDC-A8C6-EDF681EEE4A2}" type="datetime">
              <a:rPr b="0" lang="zh-CN" sz="900" spc="-1" strike="noStrike">
                <a:solidFill>
                  <a:srgbClr val="ff9000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28360" y="1412640"/>
            <a:ext cx="7450200" cy="40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森林的砍伐一方面減少二氧化碳被吸收</a:t>
            </a:r>
            <a:r>
              <a:rPr b="1" lang="zh-TW" sz="4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光合作用</a:t>
            </a:r>
            <a:r>
              <a:rPr b="1" lang="zh-TW" sz="4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，另一方面又因砍伐下來樹木的使用</a:t>
            </a:r>
            <a:r>
              <a:rPr b="1" lang="zh-TW" sz="4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燃燒等</a:t>
            </a:r>
            <a:r>
              <a:rPr b="1" lang="zh-TW" sz="4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過程增加二氧化碳，所以破壞或不合理使用森林資源也是造成全球暖化的原因之一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3240" y="2599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軟正黑體"/>
              </a:rPr>
              <a:t>近百年來全球平均氣溫改變有多大？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" name="內容版面配置區 3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49600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版面配置區 3"/>
          <p:cNvSpPr/>
          <p:nvPr/>
        </p:nvSpPr>
        <p:spPr>
          <a:xfrm>
            <a:off x="643716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675B-FC15-4064-8EE7-92630DDF0702}" type="datetime">
              <a:rPr b="0" lang="zh-CN" sz="900" spc="-1" strike="noStrike">
                <a:solidFill>
                  <a:srgbClr val="ff9000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86920" y="2997360"/>
            <a:ext cx="709164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Verdana"/>
                <a:ea typeface="微軟正黑體"/>
              </a:rPr>
              <a:t>要阻止地球持續暖化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828720" y="2854440"/>
            <a:ext cx="79200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Verdana"/>
                <a:ea typeface="微軟正黑體"/>
              </a:rPr>
              <a:t>從減少二氧化碳排放著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 rot="20160000">
            <a:off x="1187280" y="3069720"/>
            <a:ext cx="640908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Verdana"/>
                <a:ea typeface="微軟正黑體"/>
              </a:rPr>
              <a:t>節能減碳刻不容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501"/>
                            </p:stCondLst>
                            <p:childTnLst>
                              <p:par>
                                <p:cTn id="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501"/>
                            </p:stCondLst>
                            <p:childTnLst>
                              <p:par>
                                <p:cTn id="2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1002"/>
                            </p:stCondLst>
                            <p:childTnLst>
                              <p:par>
                                <p:cTn id="3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4360" y="1341360"/>
            <a:ext cx="748800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從</a:t>
            </a:r>
            <a:r>
              <a:rPr b="1" lang="en-US" sz="4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1977 </a:t>
            </a:r>
            <a:r>
              <a:rPr b="1" lang="zh-TW" sz="4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年起至今連續</a:t>
            </a:r>
            <a:r>
              <a:rPr b="1" lang="en-US" sz="4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38 </a:t>
            </a:r>
            <a:r>
              <a:rPr b="1" lang="zh-TW" sz="4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年，每年的平均氣溫都超過百年的平均值，</a:t>
            </a:r>
            <a:r>
              <a:rPr b="1" lang="en-US" sz="4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2014 </a:t>
            </a:r>
            <a:r>
              <a:rPr b="1" lang="zh-TW" sz="4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年的</a:t>
            </a:r>
            <a:r>
              <a:rPr b="1" lang="en-US" sz="4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14.68</a:t>
            </a:r>
            <a:r>
              <a:rPr b="1" lang="zh-TW" sz="4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℃</a:t>
            </a:r>
            <a:r>
              <a:rPr b="1" lang="zh-TW" sz="4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為近百年來最高，比百年平均值多了</a:t>
            </a:r>
            <a:r>
              <a:rPr b="1" lang="en-US" sz="4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0.72</a:t>
            </a:r>
            <a:r>
              <a:rPr b="1" lang="zh-TW" sz="4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℃</a:t>
            </a:r>
            <a:r>
              <a:rPr b="1" lang="zh-TW" sz="4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5640" y="40428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軟正黑體"/>
              </a:rPr>
              <a:t>台灣近十年來的氣溫如何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1" name="內容版面配置區 3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3534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28360" y="1485720"/>
            <a:ext cx="7124760" cy="40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近 </a:t>
            </a:r>
            <a:r>
              <a:rPr b="1" lang="zh-TW" sz="4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10 </a:t>
            </a:r>
            <a:r>
              <a:rPr b="1" lang="zh-CN" sz="4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年來台灣</a:t>
            </a:r>
            <a:r>
              <a:rPr b="1" lang="zh-TW" sz="4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13 </a:t>
            </a:r>
            <a:r>
              <a:rPr b="1" lang="zh-CN" sz="4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個平地測站的年平均氣溫也高於百年平均值</a:t>
            </a:r>
            <a:r>
              <a:rPr b="1" lang="zh-TW" sz="4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(23.03℃)</a:t>
            </a:r>
            <a:r>
              <a:rPr b="1" lang="zh-CN" sz="4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，顯示台灣氣溫變化趨勢也同樣存在暖化現象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18920" y="47736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軟正黑體"/>
              </a:rPr>
              <a:t>暖化有影響到台灣的降雨情況嗎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009800" y="1806480"/>
            <a:ext cx="712440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6" name="Picture 4" descr="台灣降雨日數"/>
          <p:cNvPicPr/>
          <p:nvPr/>
        </p:nvPicPr>
        <p:blipFill>
          <a:blip r:embed="rId1"/>
          <a:stretch/>
        </p:blipFill>
        <p:spPr>
          <a:xfrm>
            <a:off x="395280" y="1844640"/>
            <a:ext cx="83520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99640" y="1412640"/>
            <a:ext cx="7124760" cy="40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台灣各地區的降雨日數中以</a:t>
            </a:r>
            <a:r>
              <a:rPr b="1" lang="zh-TW" sz="4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1987, 1991,1993, 2003 </a:t>
            </a:r>
            <a:r>
              <a:rPr b="1" lang="zh-CN" sz="4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及</a:t>
            </a:r>
            <a:r>
              <a:rPr b="1" lang="zh-TW" sz="4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2009 </a:t>
            </a:r>
            <a:r>
              <a:rPr b="1" lang="zh-CN" sz="4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年各區都有明顯減少。台灣的極端降雨強度增加，但降雨日數卻反而減少，旱澇交替更為頻繁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98200" y="549360"/>
            <a:ext cx="766764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軟正黑體"/>
              </a:rPr>
              <a:t>百年來大氣中二氧化碳濃度的變化如何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09800" y="1806480"/>
            <a:ext cx="712440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1" name="Picture 4" descr="CO2濃度"/>
          <p:cNvPicPr/>
          <p:nvPr/>
        </p:nvPicPr>
        <p:blipFill>
          <a:blip r:embed="rId1"/>
          <a:stretch/>
        </p:blipFill>
        <p:spPr>
          <a:xfrm>
            <a:off x="396720" y="1844640"/>
            <a:ext cx="835344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日期版面配置區 3"/>
          <p:cNvSpPr/>
          <p:nvPr/>
        </p:nvSpPr>
        <p:spPr>
          <a:xfrm>
            <a:off x="643716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D952-7DC6-4ACA-9F3D-0B21653C90B7}" type="datetime">
              <a:rPr b="0" lang="zh-CN" sz="900" spc="-1" strike="noStrike">
                <a:solidFill>
                  <a:srgbClr val="ff9000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484280"/>
            <a:ext cx="712476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二氧化碳是最重要的溫室氣體，因為排放量最多，對全球暖化的“貢獻”也最大。從</a:t>
            </a:r>
            <a:r>
              <a:rPr b="1" lang="zh-TW" sz="4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1900 </a:t>
            </a:r>
            <a:r>
              <a:rPr b="1" lang="zh-TW" sz="4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年的</a:t>
            </a:r>
            <a:r>
              <a:rPr b="1" lang="zh-TW" sz="4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295ppm </a:t>
            </a:r>
            <a:r>
              <a:rPr b="1" lang="zh-TW" sz="4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至</a:t>
            </a:r>
            <a:r>
              <a:rPr b="1" lang="zh-TW" sz="4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2014 </a:t>
            </a:r>
            <a:r>
              <a:rPr b="1" lang="zh-TW" sz="4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年的</a:t>
            </a:r>
            <a:r>
              <a:rPr b="1" lang="zh-TW" sz="4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398ppm</a:t>
            </a:r>
            <a:r>
              <a:rPr b="1" lang="zh-TW" sz="4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，濃度增加了</a:t>
            </a:r>
            <a:r>
              <a:rPr b="1" lang="zh-TW" sz="4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1.34 </a:t>
            </a:r>
            <a:r>
              <a:rPr b="1" lang="zh-TW" sz="4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倍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3T01:05:00Z</dcterms:created>
  <dc:creator>Evan_Solomon</dc:creator>
  <dc:description/>
  <dc:language>en-US</dc:language>
  <cp:lastModifiedBy>ABC</cp:lastModifiedBy>
  <dcterms:modified xsi:type="dcterms:W3CDTF">2021-12-03T14:29:17Z</dcterms:modified>
  <cp:revision>5</cp:revision>
  <dc:subject/>
  <dc:title>地球發燒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