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865-72D5-4A06-B8A9-738759DF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058-C2E9-4D4B-A4BB-4E0FEDC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583-5E25-48C0-A9C1-4C172D4B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524-0B83-4FE6-B4D2-AF5A05BA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447-2978-466C-8C11-C1CC3FC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0D2-0A7D-495C-902D-6716E5A4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32E-7AA7-4C70-BD46-40EC7A8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17C-9B17-4ECB-AA5E-0FC2C194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A72-53F4-4C8B-ACF5-2018D5B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BAF-9FCA-4868-B431-9CAB43B5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2DB7-CB7C-4FA3-8027-58A6D6B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89E-463B-4C4B-A791-4A7A658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A2D3-6DC7-4E9A-B667-952CF37A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D:\93 (一)健體轉檔\國中\背景.jpg"/>
          <p:cNvPicPr/>
          <p:nvPr/>
        </p:nvPicPr>
        <p:blipFill>
          <a:blip r:embed="rId2"/>
          <a:stretch/>
        </p:blipFill>
        <p:spPr>
          <a:xfrm>
            <a:off x="0" y="6216480"/>
            <a:ext cx="8458200" cy="63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D:\93 (一)健體轉檔\國小\健體六年級\簡報頁面\結束放映拷貝.jp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001000" y="22320"/>
            <a:ext cx="10666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539640" y="1628640"/>
            <a:ext cx="74408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上網，到</a:t>
            </a:r>
            <a:r>
              <a:rPr b="0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環保署</a:t>
            </a:r>
            <a:r>
              <a:rPr b="0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【</a:t>
            </a:r>
            <a:r>
              <a:rPr b="0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空氣品質監測網</a:t>
            </a:r>
            <a:r>
              <a:rPr b="0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】</a:t>
            </a:r>
            <a:br>
              <a:rPr sz="2600"/>
            </a:br>
            <a:r>
              <a:rPr b="0" lang="zh-TW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查詢</a:t>
            </a: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細懸浮微粒濃度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taqm.epa.gov.tw/taqm/tw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39640" y="584280"/>
            <a:ext cx="7201080" cy="104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cc0000"/>
                </a:solidFill>
                <a:latin typeface="Times New Roman"/>
                <a:ea typeface="標楷體"/>
              </a:rPr>
              <a:t>如何保護自己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先知道現在的空氣狀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5" descr="https://sp.yimg.com/xj/th?id=OIP.M1e2f1698fc6d7cd9b9e0c6c762678c46o0&amp;pid=15.1&amp;P=0&amp;w=232&amp;h=155"/>
          <p:cNvPicPr/>
          <p:nvPr/>
        </p:nvPicPr>
        <p:blipFill>
          <a:blip r:embed="rId4"/>
          <a:stretch/>
        </p:blipFill>
        <p:spPr>
          <a:xfrm>
            <a:off x="3419640" y="5091120"/>
            <a:ext cx="1944360" cy="1290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https://sp.yimg.com/xj/th?id=OIP.M0009fbb6ae9cabe99345ec01e182af45o0&amp;pid=15.1&amp;P=0&amp;w=229&amp;h=157"/>
          <p:cNvPicPr/>
          <p:nvPr/>
        </p:nvPicPr>
        <p:blipFill>
          <a:blip r:embed="rId5"/>
          <a:stretch/>
        </p:blipFill>
        <p:spPr>
          <a:xfrm>
            <a:off x="1116000" y="5153040"/>
            <a:ext cx="1871640" cy="123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http://taqm.epa.gov.tw/taqm/Chart/Pm25Index/map2016.aspx?lang=tw&amp;ts=635896208733694722"/>
          <p:cNvPicPr/>
          <p:nvPr/>
        </p:nvPicPr>
        <p:blipFill>
          <a:blip r:embed="rId6"/>
          <a:stretch/>
        </p:blipFill>
        <p:spPr>
          <a:xfrm>
            <a:off x="5904000" y="2708280"/>
            <a:ext cx="2413080" cy="361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http://image.slidesharecdn.com/1031110-141110034126-conversion-gate02/95/1031110-1-638.jpg?cb=1415591009"/>
          <p:cNvPicPr/>
          <p:nvPr/>
        </p:nvPicPr>
        <p:blipFill>
          <a:blip r:embed="rId7"/>
          <a:srcRect l="0" t="0" r="0" b="43459"/>
          <a:stretch/>
        </p:blipFill>
        <p:spPr>
          <a:xfrm>
            <a:off x="1116000" y="3348000"/>
            <a:ext cx="4103640" cy="1743120"/>
          </a:xfrm>
          <a:prstGeom prst="rect">
            <a:avLst/>
          </a:prstGeom>
          <a:ln w="0">
            <a:noFill/>
          </a:ln>
        </p:spPr>
      </p:pic>
      <p:grpSp>
        <p:nvGrpSpPr>
          <p:cNvPr id="52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53" name="群組 8"/>
            <p:cNvGrpSpPr/>
            <p:nvPr/>
          </p:nvGrpSpPr>
          <p:grpSpPr>
            <a:xfrm>
              <a:off x="0" y="0"/>
              <a:ext cx="9144000" cy="558000"/>
              <a:chOff x="0" y="0"/>
              <a:chExt cx="9144000" cy="558000"/>
            </a:xfrm>
          </p:grpSpPr>
          <p:pic>
            <p:nvPicPr>
              <p:cNvPr id="54" name="Picture 11" descr="D:\93 (一)健體轉檔\國中\頁目2.jpg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736596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Line 12"/>
              <p:cNvSpPr/>
              <p:nvPr/>
            </p:nvSpPr>
            <p:spPr>
              <a:xfrm>
                <a:off x="2590560" y="53280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Text Box 10"/>
            <p:cNvSpPr/>
            <p:nvPr/>
          </p:nvSpPr>
          <p:spPr>
            <a:xfrm>
              <a:off x="0" y="0"/>
              <a:ext cx="781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查詢細懸浮微粒濃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539640" y="765000"/>
            <a:ext cx="619308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看看觀音的細懸浮微粒指標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群組 16"/>
          <p:cNvGrpSpPr/>
          <p:nvPr/>
        </p:nvGrpSpPr>
        <p:grpSpPr>
          <a:xfrm>
            <a:off x="0" y="0"/>
            <a:ext cx="9144000" cy="1323000"/>
            <a:chOff x="0" y="0"/>
            <a:chExt cx="9144000" cy="1323000"/>
          </a:xfrm>
        </p:grpSpPr>
        <p:grpSp>
          <p:nvGrpSpPr>
            <p:cNvPr id="62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63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Text Box 10"/>
            <p:cNvSpPr/>
            <p:nvPr/>
          </p:nvSpPr>
          <p:spPr>
            <a:xfrm>
              <a:off x="0" y="0"/>
              <a:ext cx="7812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查詢細懸浮微粒濃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3" descr=""/>
          <p:cNvPicPr/>
          <p:nvPr/>
        </p:nvPicPr>
        <p:blipFill>
          <a:blip r:embed="rId5"/>
          <a:stretch/>
        </p:blipFill>
        <p:spPr>
          <a:xfrm>
            <a:off x="493560" y="1434960"/>
            <a:ext cx="8345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1479600" y="584280"/>
            <a:ext cx="597672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環保署公布的細懸浮微粒指標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72" name="群組 8"/>
            <p:cNvGrpSpPr/>
            <p:nvPr/>
          </p:nvGrpSpPr>
          <p:grpSpPr>
            <a:xfrm>
              <a:off x="0" y="0"/>
              <a:ext cx="9144000" cy="558000"/>
              <a:chOff x="0" y="0"/>
              <a:chExt cx="9144000" cy="558000"/>
            </a:xfrm>
          </p:grpSpPr>
          <p:pic>
            <p:nvPicPr>
              <p:cNvPr id="73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Line 12"/>
              <p:cNvSpPr/>
              <p:nvPr/>
            </p:nvSpPr>
            <p:spPr>
              <a:xfrm>
                <a:off x="2590560" y="53280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Text Box 10"/>
            <p:cNvSpPr/>
            <p:nvPr/>
          </p:nvSpPr>
          <p:spPr>
            <a:xfrm>
              <a:off x="0" y="0"/>
              <a:ext cx="781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查詢細懸浮微粒濃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Rectangle 8"/>
          <p:cNvSpPr/>
          <p:nvPr/>
        </p:nvSpPr>
        <p:spPr>
          <a:xfrm>
            <a:off x="1258920" y="1341360"/>
            <a:ext cx="6842160" cy="100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指標太高的時候，要注意喔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標楷體"/>
              </a:rPr>
              <a:t>需要做一些保護自己的措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5"/>
          <a:stretch/>
        </p:blipFill>
        <p:spPr>
          <a:xfrm>
            <a:off x="638280" y="2492280"/>
            <a:ext cx="79786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39640" y="765000"/>
            <a:ext cx="712800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細懸浮微粒濃度─網路新聞報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群組 16"/>
          <p:cNvGrpSpPr/>
          <p:nvPr/>
        </p:nvGrpSpPr>
        <p:grpSpPr>
          <a:xfrm>
            <a:off x="0" y="0"/>
            <a:ext cx="9144000" cy="1323000"/>
            <a:chOff x="0" y="0"/>
            <a:chExt cx="9144000" cy="1323000"/>
          </a:xfrm>
        </p:grpSpPr>
        <p:grpSp>
          <p:nvGrpSpPr>
            <p:cNvPr id="83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84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Text Box 10"/>
            <p:cNvSpPr/>
            <p:nvPr/>
          </p:nvSpPr>
          <p:spPr>
            <a:xfrm>
              <a:off x="0" y="0"/>
              <a:ext cx="7812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查詢細懸浮微粒濃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Picture 2" descr=""/>
          <p:cNvPicPr/>
          <p:nvPr/>
        </p:nvPicPr>
        <p:blipFill>
          <a:blip r:embed="rId5"/>
          <a:stretch/>
        </p:blipFill>
        <p:spPr>
          <a:xfrm>
            <a:off x="468360" y="1590840"/>
            <a:ext cx="7829640" cy="44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539640" y="765000"/>
            <a:ext cx="712800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細懸浮微粒濃度─網路新聞報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群組 16"/>
          <p:cNvGrpSpPr/>
          <p:nvPr/>
        </p:nvGrpSpPr>
        <p:grpSpPr>
          <a:xfrm>
            <a:off x="0" y="0"/>
            <a:ext cx="9144000" cy="1323000"/>
            <a:chOff x="0" y="0"/>
            <a:chExt cx="9144000" cy="1323000"/>
          </a:xfrm>
        </p:grpSpPr>
        <p:grpSp>
          <p:nvGrpSpPr>
            <p:cNvPr id="93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94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Text Box 10"/>
            <p:cNvSpPr/>
            <p:nvPr/>
          </p:nvSpPr>
          <p:spPr>
            <a:xfrm>
              <a:off x="0" y="0"/>
              <a:ext cx="7668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查詢細懸浮微粒濃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Picture 2" descr=""/>
          <p:cNvPicPr/>
          <p:nvPr/>
        </p:nvPicPr>
        <p:blipFill>
          <a:blip r:embed="rId5"/>
          <a:stretch/>
        </p:blipFill>
        <p:spPr>
          <a:xfrm>
            <a:off x="968400" y="1776240"/>
            <a:ext cx="6985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8"/>
          <p:cNvSpPr/>
          <p:nvPr/>
        </p:nvSpPr>
        <p:spPr>
          <a:xfrm>
            <a:off x="684360" y="981000"/>
            <a:ext cx="712764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PM2.5</a:t>
            </a: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濃度太高時，保護自己的方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03" name="群組 8"/>
            <p:cNvGrpSpPr/>
            <p:nvPr/>
          </p:nvGrpSpPr>
          <p:grpSpPr>
            <a:xfrm>
              <a:off x="0" y="0"/>
              <a:ext cx="9144000" cy="558000"/>
              <a:chOff x="0" y="0"/>
              <a:chExt cx="9144000" cy="558000"/>
            </a:xfrm>
          </p:grpSpPr>
          <p:pic>
            <p:nvPicPr>
              <p:cNvPr id="104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Line 12"/>
              <p:cNvSpPr/>
              <p:nvPr/>
            </p:nvSpPr>
            <p:spPr>
              <a:xfrm>
                <a:off x="2590560" y="53280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10"/>
            <p:cNvSpPr/>
            <p:nvPr/>
          </p:nvSpPr>
          <p:spPr>
            <a:xfrm>
              <a:off x="0" y="0"/>
              <a:ext cx="810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濃度太高怎麼辦？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到外面可以戴口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減少去球場和操場運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下課在教室裡面休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去外面，在進教室時，先洗手、洗臉或用衛生紙擦鼻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把門和關窗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要跑來跑去，讓自己呼吸要很用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39640" y="765000"/>
            <a:ext cx="712800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愛護環境，不要汙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13" name="群組 8"/>
            <p:cNvGrpSpPr/>
            <p:nvPr/>
          </p:nvGrpSpPr>
          <p:grpSpPr>
            <a:xfrm>
              <a:off x="0" y="0"/>
              <a:ext cx="9144000" cy="558000"/>
              <a:chOff x="0" y="0"/>
              <a:chExt cx="9144000" cy="558000"/>
            </a:xfrm>
          </p:grpSpPr>
          <p:pic>
            <p:nvPicPr>
              <p:cNvPr id="114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Line 12"/>
              <p:cNvSpPr/>
              <p:nvPr/>
            </p:nvSpPr>
            <p:spPr>
              <a:xfrm>
                <a:off x="2590560" y="53280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10"/>
            <p:cNvSpPr/>
            <p:nvPr/>
          </p:nvSpPr>
          <p:spPr>
            <a:xfrm>
              <a:off x="0" y="0"/>
              <a:ext cx="78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不製造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汙染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想想看，要怎麼做才可以減少汙染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：水煮、清蒸食物，少吃燒烤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衣：穿天然材料做的衣服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如：棉花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穿環保衣服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回收材料做的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少穿化學纖維衣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539640" y="765000"/>
            <a:ext cx="712800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愛護環境，不要汙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23" name="群組 8"/>
            <p:cNvGrpSpPr/>
            <p:nvPr/>
          </p:nvGrpSpPr>
          <p:grpSpPr>
            <a:xfrm>
              <a:off x="0" y="0"/>
              <a:ext cx="9144000" cy="558000"/>
              <a:chOff x="0" y="0"/>
              <a:chExt cx="9144000" cy="558000"/>
            </a:xfrm>
          </p:grpSpPr>
          <p:pic>
            <p:nvPicPr>
              <p:cNvPr id="124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Line 12"/>
              <p:cNvSpPr/>
              <p:nvPr/>
            </p:nvSpPr>
            <p:spPr>
              <a:xfrm>
                <a:off x="2590560" y="53280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Text Box 10"/>
            <p:cNvSpPr/>
            <p:nvPr/>
          </p:nvSpPr>
          <p:spPr>
            <a:xfrm>
              <a:off x="0" y="0"/>
              <a:ext cx="78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不製造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汙染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想想看，要怎麼做才可以減少汙染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住：多種樹、少用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：搭大眾運輸工具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公車、火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腳踏車、少開車、少騎摩托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育：知道甚麼是空氣汙染，愛護環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樂：拜拜不燒紙錢、不要放鞭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539640" y="765000"/>
            <a:ext cx="712800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Times New Roman"/>
                <a:ea typeface="標楷體"/>
              </a:rPr>
              <a:t>有健康的生活，讓自己身體健康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33" name="群組 8"/>
            <p:cNvGrpSpPr/>
            <p:nvPr/>
          </p:nvGrpSpPr>
          <p:grpSpPr>
            <a:xfrm>
              <a:off x="0" y="0"/>
              <a:ext cx="9144000" cy="558000"/>
              <a:chOff x="0" y="0"/>
              <a:chExt cx="9144000" cy="558000"/>
            </a:xfrm>
          </p:grpSpPr>
          <p:pic>
            <p:nvPicPr>
              <p:cNvPr id="134" name="Picture 11" descr="D:\93 (一)健體轉檔\國中\頁目2.jpg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7365960" cy="5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Line 12"/>
              <p:cNvSpPr/>
              <p:nvPr/>
            </p:nvSpPr>
            <p:spPr>
              <a:xfrm>
                <a:off x="2590560" y="53280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10"/>
            <p:cNvSpPr/>
            <p:nvPr/>
          </p:nvSpPr>
          <p:spPr>
            <a:xfrm>
              <a:off x="0" y="0"/>
              <a:ext cx="78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二節 保護措施─運動，均衡飲食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早睡早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喝水、多運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吸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偏食，營養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吃蔬菜水果，讓身體健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7:33:11Z</dcterms:created>
  <dc:creator>KNSH</dc:creator>
  <dc:description/>
  <dc:language>en-US</dc:language>
  <cp:lastModifiedBy>user</cp:lastModifiedBy>
  <dcterms:modified xsi:type="dcterms:W3CDTF">2016-01-29T02:11:43Z</dcterms:modified>
  <cp:revision>165</cp:revision>
  <dc:subject/>
  <dc:title>PowerPoint 簡報</dc:title>
</cp:coreProperties>
</file>