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5.png" ContentType="image/png"/>
  <Override PartName="/ppt/media/image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5B8-A0B9-493C-BED3-09655A74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135-DEB1-4A85-BDCA-12AA4C36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7C6-527C-44D9-BD58-4375FA70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2F7-B5FC-471E-9549-BB2FE323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F5A-99BD-42A4-910A-B2D74A20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1FD-CE16-4ABE-9D25-B68E9580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73C-DFFF-4AB3-89B3-F610842A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CEA-814C-4893-B046-6BA0E1FD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1A5-E5AE-44C0-BCD7-19F7CCD8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3D4-908E-4C0A-9E2D-6674635F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83B-0956-4D47-993C-BC51E3C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9C4-956B-433C-AD77-6572EAF2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4998-A10A-4179-9078-57881F4FA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D:\93 (一)健體轉檔\國中\背景.jpg"/>
          <p:cNvPicPr/>
          <p:nvPr/>
        </p:nvPicPr>
        <p:blipFill>
          <a:blip r:embed="rId2"/>
          <a:stretch/>
        </p:blipFill>
        <p:spPr>
          <a:xfrm>
            <a:off x="0" y="6216480"/>
            <a:ext cx="8458200" cy="63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D:\93 (一)健體轉檔\國小\健體六年級\簡報頁面\結束放映拷貝.jp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001000" y="22320"/>
            <a:ext cx="10666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5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6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32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3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3" descr="C:\Documents and Settings\Tony\桌面\康軒光碟\2-1\2-2-2.jpg"/>
          <p:cNvPicPr/>
          <p:nvPr/>
        </p:nvPicPr>
        <p:blipFill>
          <a:blip r:embed="rId1"/>
          <a:stretch/>
        </p:blipFill>
        <p:spPr>
          <a:xfrm>
            <a:off x="0" y="2133720"/>
            <a:ext cx="4191120" cy="4073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"/>
          <p:cNvSpPr/>
          <p:nvPr/>
        </p:nvSpPr>
        <p:spPr>
          <a:xfrm>
            <a:off x="3886200" y="44197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第一節 空氣汙染與</a:t>
            </a:r>
            <a:r>
              <a:rPr b="1" lang="en-US" sz="3200" spc="-1" strike="noStrike">
                <a:solidFill>
                  <a:srgbClr val="000099"/>
                </a:solidFill>
                <a:latin typeface="標楷體"/>
                <a:ea typeface="標楷體"/>
              </a:rPr>
              <a:t>PM2.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6"/>
          <p:cNvSpPr/>
          <p:nvPr/>
        </p:nvSpPr>
        <p:spPr>
          <a:xfrm>
            <a:off x="685800" y="12193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氣候與健康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群組 9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48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49" name="Picture 11" descr="D:\93 (一)健體轉檔\國中\頁目2.jpg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28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29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1039"/>
          <p:cNvGrpSpPr/>
          <p:nvPr/>
        </p:nvGrpSpPr>
        <p:grpSpPr>
          <a:xfrm>
            <a:off x="609480" y="1447920"/>
            <a:ext cx="7925040" cy="779040"/>
            <a:chOff x="609480" y="1447920"/>
            <a:chExt cx="7925040" cy="779040"/>
          </a:xfrm>
        </p:grpSpPr>
        <p:sp>
          <p:nvSpPr>
            <p:cNvPr id="155" name="Rectangle 1040"/>
            <p:cNvSpPr/>
            <p:nvPr/>
          </p:nvSpPr>
          <p:spPr>
            <a:xfrm>
              <a:off x="609480" y="1447920"/>
              <a:ext cx="79250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1041"/>
            <p:cNvGrpSpPr/>
            <p:nvPr/>
          </p:nvGrpSpPr>
          <p:grpSpPr>
            <a:xfrm>
              <a:off x="609480" y="1447920"/>
              <a:ext cx="7925040" cy="779040"/>
              <a:chOff x="609480" y="1447920"/>
              <a:chExt cx="7925040" cy="779040"/>
            </a:xfrm>
          </p:grpSpPr>
          <p:sp>
            <p:nvSpPr>
              <p:cNvPr id="157" name="Rectangle 1042"/>
              <p:cNvSpPr/>
              <p:nvPr/>
            </p:nvSpPr>
            <p:spPr>
              <a:xfrm>
                <a:off x="609480" y="1447920"/>
                <a:ext cx="7925040" cy="77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90600" indent="-39060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000" spc="-1" strike="noStrike">
                    <a:solidFill>
                      <a:srgbClr val="3333cc"/>
                    </a:solidFill>
                    <a:latin typeface="Times New Roman"/>
                    <a:ea typeface="標楷體"/>
                  </a:rPr>
                  <a:t>我國以酸鹼值</a:t>
                </a:r>
                <a:r>
                  <a:rPr b="0" lang="en-US" sz="3000" spc="-1" strike="noStrike">
                    <a:solidFill>
                      <a:srgbClr val="3333cc"/>
                    </a:solidFill>
                    <a:latin typeface="標楷體"/>
                    <a:ea typeface="標楷體"/>
                  </a:rPr>
                  <a:t>PH</a:t>
                </a:r>
                <a:r>
                  <a:rPr b="0" lang="zh-TW" sz="3000" spc="-1" strike="noStrike">
                    <a:solidFill>
                      <a:srgbClr val="3333cc"/>
                    </a:solidFill>
                    <a:latin typeface="標楷體"/>
                    <a:ea typeface="標楷體"/>
                  </a:rPr>
                  <a:t>值小於</a:t>
                </a:r>
                <a:r>
                  <a:rPr b="0" lang="en-US" sz="3000" spc="-1" strike="noStrike">
                    <a:solidFill>
                      <a:srgbClr val="3333cc"/>
                    </a:solidFill>
                    <a:latin typeface="標楷體"/>
                    <a:ea typeface="標楷體"/>
                  </a:rPr>
                  <a:t>5</a:t>
                </a:r>
                <a:r>
                  <a:rPr b="0" lang="zh-TW" sz="3000" spc="-1" strike="noStrike">
                    <a:solidFill>
                      <a:srgbClr val="3333cc"/>
                    </a:solidFill>
                    <a:latin typeface="標楷體"/>
                    <a:ea typeface="標楷體"/>
                  </a:rPr>
                  <a:t>作為酸雨標準</a:t>
                </a:r>
                <a:endParaRPr b="1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1043"/>
              <p:cNvSpPr/>
              <p:nvPr/>
            </p:nvSpPr>
            <p:spPr>
              <a:xfrm>
                <a:off x="609480" y="1447920"/>
                <a:ext cx="792504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Rectangle 1044"/>
          <p:cNvSpPr/>
          <p:nvPr/>
        </p:nvSpPr>
        <p:spPr>
          <a:xfrm>
            <a:off x="762120" y="838080"/>
            <a:ext cx="3233520" cy="60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議題三：酸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45"/>
          <p:cNvSpPr/>
          <p:nvPr/>
        </p:nvSpPr>
        <p:spPr>
          <a:xfrm>
            <a:off x="4932360" y="5732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0000"/>
                </a:solidFill>
                <a:latin typeface="標楷體"/>
                <a:ea typeface="標楷體"/>
              </a:rPr>
              <a:t>圖片來源：台灣酸雨資訊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5" descr="http://acidrain.epa.gov.tw/understand/images/ph3.gif"/>
          <p:cNvPicPr/>
          <p:nvPr/>
        </p:nvPicPr>
        <p:blipFill>
          <a:blip r:embed="rId4"/>
          <a:stretch/>
        </p:blipFill>
        <p:spPr>
          <a:xfrm>
            <a:off x="1069920" y="2205000"/>
            <a:ext cx="674208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62" name="群組 24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63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164" name="Picture 11" descr="D:\93 (一)健體轉檔\國中\頁目2.jpg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3"/>
          <p:cNvSpPr/>
          <p:nvPr/>
        </p:nvSpPr>
        <p:spPr>
          <a:xfrm>
            <a:off x="1116000" y="55897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0000"/>
                </a:solidFill>
                <a:latin typeface="標楷體"/>
                <a:ea typeface="標楷體"/>
              </a:rPr>
              <a:t>圖片來源：環保署網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539640" y="836640"/>
            <a:ext cx="655344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臺灣酸雨酸鹼值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PH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值）分佈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5" descr="http://web.ntnu.edu.tw/~495422421/webquest/image/supply.gif"/>
          <p:cNvPicPr/>
          <p:nvPr/>
        </p:nvPicPr>
        <p:blipFill>
          <a:blip r:embed="rId4"/>
          <a:stretch/>
        </p:blipFill>
        <p:spPr>
          <a:xfrm>
            <a:off x="4140360" y="1484280"/>
            <a:ext cx="4103640" cy="4772160"/>
          </a:xfrm>
          <a:prstGeom prst="rect">
            <a:avLst/>
          </a:prstGeom>
          <a:ln w="0">
            <a:noFill/>
          </a:ln>
        </p:spPr>
      </p:pic>
      <p:grpSp>
        <p:nvGrpSpPr>
          <p:cNvPr id="173" name="群組 13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74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175" name="Picture 11" descr="D:\93 (一)健體轉檔\國中\頁目2.jpg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"/>
          <p:cNvSpPr/>
          <p:nvPr/>
        </p:nvSpPr>
        <p:spPr>
          <a:xfrm>
            <a:off x="539640" y="907920"/>
            <a:ext cx="2649600" cy="576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酸雨的影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52280" y="2286000"/>
            <a:ext cx="4275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0600" indent="-390600">
              <a:lnSpc>
                <a:spcPct val="150000"/>
              </a:lnSpc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酸化河川及湖泊，使魚貝類大量死亡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>
              <a:lnSpc>
                <a:spcPct val="150000"/>
              </a:lnSpc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酸化土壤，使植物枯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>
              <a:lnSpc>
                <a:spcPct val="150000"/>
              </a:lnSpc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腐蝕建築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>
              <a:lnSpc>
                <a:spcPct val="150000"/>
              </a:lnSpc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刺激人類眼睛和皮膚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4" descr="https://sp.yimg.com/xj/th?id=OIP.Md6a0fa08398a8578e9d6bc9d7b5e0d9do0&amp;pid=15.1&amp;P=0&amp;w=300&amp;h=300"/>
          <p:cNvPicPr/>
          <p:nvPr/>
        </p:nvPicPr>
        <p:blipFill>
          <a:blip r:embed="rId4"/>
          <a:stretch/>
        </p:blipFill>
        <p:spPr>
          <a:xfrm>
            <a:off x="6891480" y="2492280"/>
            <a:ext cx="1712880" cy="2449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https://sp.yimg.com/xj/th?id=OIP.M8e0e80db34b62032d26f4cfe5d13bad8o0&amp;pid=15.1&amp;P=0&amp;w=223&amp;h=151"/>
          <p:cNvPicPr/>
          <p:nvPr/>
        </p:nvPicPr>
        <p:blipFill>
          <a:blip r:embed="rId5"/>
          <a:stretch/>
        </p:blipFill>
        <p:spPr>
          <a:xfrm>
            <a:off x="4464000" y="4149720"/>
            <a:ext cx="2340000" cy="1582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8" descr="https://sp.yimg.com/xj/th?id=OIP.M6f8a6a21ddc9f8b0680660708df38a3fo0&amp;pid=15.1&amp;P=0&amp;w=244&amp;h=163"/>
          <p:cNvPicPr/>
          <p:nvPr/>
        </p:nvPicPr>
        <p:blipFill>
          <a:blip r:embed="rId6"/>
          <a:stretch/>
        </p:blipFill>
        <p:spPr>
          <a:xfrm>
            <a:off x="4479840" y="2492280"/>
            <a:ext cx="2324160" cy="1543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0" descr="https://sp.yimg.com/xj/th?id=OIP.M40db64cbc7f141ff21ad75d0126a96c8o0&amp;pid=15.1&amp;P=0&amp;w=304&amp;h=164"/>
          <p:cNvPicPr/>
          <p:nvPr/>
        </p:nvPicPr>
        <p:blipFill>
          <a:blip r:embed="rId7"/>
          <a:stretch/>
        </p:blipFill>
        <p:spPr>
          <a:xfrm>
            <a:off x="5105520" y="576360"/>
            <a:ext cx="3570120" cy="1915920"/>
          </a:xfrm>
          <a:prstGeom prst="rect">
            <a:avLst/>
          </a:prstGeom>
          <a:ln w="0">
            <a:noFill/>
          </a:ln>
        </p:spPr>
      </p:pic>
      <p:grpSp>
        <p:nvGrpSpPr>
          <p:cNvPr id="187" name="群組 16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88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189" name="Picture 11" descr="D:\93 (一)健體轉檔\國中\頁目2.jpg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4" descr="http://pgw.udn.com.tw/gw/photo.php?u=http://uc.udn.com.tw/photo/2015/03/14/1/605240.jpg&amp;sl=W&amp;fw=750"/>
          <p:cNvPicPr/>
          <p:nvPr/>
        </p:nvPicPr>
        <p:blipFill>
          <a:blip r:embed="rId1"/>
          <a:stretch/>
        </p:blipFill>
        <p:spPr>
          <a:xfrm>
            <a:off x="3672000" y="2224080"/>
            <a:ext cx="4903560" cy="3292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8"/>
          <p:cNvSpPr/>
          <p:nvPr/>
        </p:nvSpPr>
        <p:spPr>
          <a:xfrm>
            <a:off x="250920" y="198900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0600" indent="-390600">
              <a:lnSpc>
                <a:spcPct val="150000"/>
              </a:lnSpc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細懸浮微粒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PM2.5)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空氣中存在許多汙染物，其中漂浮在空氣中類似灰塵的粒狀物稱為懸浮微粒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PM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PM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粒徑大小有別，小於或等於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.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微米的粒子，就稱為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PM2.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通稱細懸浮微粒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>
              <a:lnSpc>
                <a:spcPct val="150000"/>
              </a:lnSpc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群組 18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98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199" name="Picture 11" descr="D:\93 (一)健體轉檔\國中\頁目2.jpg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380880" y="914400"/>
            <a:ext cx="62485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關心環境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空氣品質監測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PM2.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9"/>
          <p:cNvSpPr/>
          <p:nvPr/>
        </p:nvSpPr>
        <p:spPr>
          <a:xfrm>
            <a:off x="684360" y="914400"/>
            <a:ext cx="5543280" cy="714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細懸浮微粒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(PM2.5)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的影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11280" y="1916280"/>
            <a:ext cx="33843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0600" indent="-390600">
              <a:lnSpc>
                <a:spcPct val="150000"/>
              </a:lnSpc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對呼吸系統和心血管系統造成傷害，導致哮喘、肺癌、心血管疾病、出生缺陷和過早死亡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6" descr="http://cdn1.techbang.com.tw/system/images/324008/original/2ab997979129f6176cb585d4abce59b0.png?1446916081"/>
          <p:cNvPicPr/>
          <p:nvPr/>
        </p:nvPicPr>
        <p:blipFill>
          <a:blip r:embed="rId4"/>
          <a:stretch/>
        </p:blipFill>
        <p:spPr>
          <a:xfrm>
            <a:off x="4140360" y="1916280"/>
            <a:ext cx="4300200" cy="4308480"/>
          </a:xfrm>
          <a:prstGeom prst="rect">
            <a:avLst/>
          </a:prstGeom>
          <a:ln w="0">
            <a:noFill/>
          </a:ln>
        </p:spPr>
      </p:pic>
      <p:grpSp>
        <p:nvGrpSpPr>
          <p:cNvPr id="209" name="群組 16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210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211" name="Picture 11" descr="D:\93 (一)健體轉檔\國中\頁目2.jpg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7"/>
          <p:cNvSpPr/>
          <p:nvPr/>
        </p:nvSpPr>
        <p:spPr>
          <a:xfrm>
            <a:off x="539640" y="1628640"/>
            <a:ext cx="7440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現在空氣品質如何？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查查看吧</a:t>
            </a:r>
            <a:r>
              <a:rPr b="0" lang="en-US" sz="2600" spc="-1" strike="noStrike">
                <a:solidFill>
                  <a:srgbClr val="000000"/>
                </a:solidFill>
                <a:latin typeface="標楷體"/>
                <a:ea typeface="標楷體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http://taqm.epa.gov.tw/taqm/tw/default.aspx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39640" y="765000"/>
            <a:ext cx="3384720" cy="64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空氣品質監測網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5" descr="https://sp.yimg.com/xj/th?id=OIP.M1e2f1698fc6d7cd9b9e0c6c762678c46o0&amp;pid=15.1&amp;P=0&amp;w=232&amp;h=155"/>
          <p:cNvPicPr/>
          <p:nvPr/>
        </p:nvPicPr>
        <p:blipFill>
          <a:blip r:embed="rId4"/>
          <a:stretch/>
        </p:blipFill>
        <p:spPr>
          <a:xfrm>
            <a:off x="3086280" y="4869000"/>
            <a:ext cx="227772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7" descr="https://sp.yimg.com/xj/th?id=OIP.M0009fbb6ae9cabe99345ec01e182af45o0&amp;pid=15.1&amp;P=0&amp;w=229&amp;h=157"/>
          <p:cNvPicPr/>
          <p:nvPr/>
        </p:nvPicPr>
        <p:blipFill>
          <a:blip r:embed="rId5"/>
          <a:stretch/>
        </p:blipFill>
        <p:spPr>
          <a:xfrm>
            <a:off x="684360" y="4869000"/>
            <a:ext cx="2303280" cy="1520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9" descr="http://taqm.epa.gov.tw/taqm/Chart/Pm25Index/map2016.aspx?lang=tw&amp;ts=635896208733694722"/>
          <p:cNvPicPr/>
          <p:nvPr/>
        </p:nvPicPr>
        <p:blipFill>
          <a:blip r:embed="rId6"/>
          <a:stretch/>
        </p:blipFill>
        <p:spPr>
          <a:xfrm>
            <a:off x="5904000" y="2708280"/>
            <a:ext cx="2413080" cy="361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http://image.slidesharecdn.com/1031110-141110034126-conversion-gate02/95/1031110-1-638.jpg?cb=1415591009"/>
          <p:cNvPicPr/>
          <p:nvPr/>
        </p:nvPicPr>
        <p:blipFill>
          <a:blip r:embed="rId7"/>
          <a:srcRect l="0" t="0" r="0" b="43459"/>
          <a:stretch/>
        </p:blipFill>
        <p:spPr>
          <a:xfrm>
            <a:off x="687240" y="2708280"/>
            <a:ext cx="4748400" cy="2016000"/>
          </a:xfrm>
          <a:prstGeom prst="rect">
            <a:avLst/>
          </a:prstGeom>
          <a:ln w="0">
            <a:noFill/>
          </a:ln>
        </p:spPr>
      </p:pic>
      <p:grpSp>
        <p:nvGrpSpPr>
          <p:cNvPr id="223" name="群組 16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224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225" name="Picture 11" descr="D:\93 (一)健體轉檔\國中\頁目2.jpg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8"/>
          <p:cNvSpPr/>
          <p:nvPr/>
        </p:nvSpPr>
        <p:spPr>
          <a:xfrm>
            <a:off x="380880" y="7621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標楷體"/>
              </a:rPr>
              <a:t>想一想，下列行為是否會造成環境問題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609480" y="182880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工廠排廢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572000" y="1828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唱卡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https://sp.yimg.com/xj/th?id=OIP.M5387a5475684e81072989663891ef491H0&amp;pid=15.1&amp;P=0&amp;w=173&amp;h=160"/>
          <p:cNvPicPr/>
          <p:nvPr/>
        </p:nvPicPr>
        <p:blipFill>
          <a:blip r:embed="rId4"/>
          <a:stretch/>
        </p:blipFill>
        <p:spPr>
          <a:xfrm>
            <a:off x="4572000" y="2565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https://sp.yimg.com/xj/th?id=OIP.M136347c9d4b9afb4262752b52a376198o0&amp;pid=15.1&amp;P=0&amp;w=259&amp;h=169"/>
          <p:cNvPicPr/>
          <p:nvPr/>
        </p:nvPicPr>
        <p:blipFill>
          <a:blip r:embed="rId5"/>
          <a:stretch/>
        </p:blipFill>
        <p:spPr>
          <a:xfrm>
            <a:off x="677880" y="2565360"/>
            <a:ext cx="3774960" cy="2448000"/>
          </a:xfrm>
          <a:prstGeom prst="rect">
            <a:avLst/>
          </a:prstGeom>
          <a:ln w="0">
            <a:noFill/>
          </a:ln>
        </p:spPr>
      </p:pic>
      <p:grpSp>
        <p:nvGrpSpPr>
          <p:cNvPr id="60" name="群組 15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61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62" name="Picture 11" descr="D:\93 (一)健體轉檔\國中\頁目2.jpg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380880" y="7621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標楷體"/>
              </a:rPr>
              <a:t>想一想，下列生活行為會造成哪些環境問題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609480" y="18288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噴農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4572000" y="18288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亂丟果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6" descr="https://sp.yimg.com/xj/th?id=OIP.M1d21407731b111a028edb8183b175070o0&amp;pid=15.1&amp;P=0&amp;w=256&amp;h=171"/>
          <p:cNvPicPr/>
          <p:nvPr/>
        </p:nvPicPr>
        <p:blipFill>
          <a:blip r:embed="rId4"/>
          <a:stretch/>
        </p:blipFill>
        <p:spPr>
          <a:xfrm>
            <a:off x="684360" y="2492280"/>
            <a:ext cx="374328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ttps://sp.yimg.com/xj/th?id=OIP.Mc0da3cba9f99bfa8f662958e5fa9b1e6o0&amp;pid=15.1&amp;P=0&amp;w=300&amp;h=300"/>
          <p:cNvPicPr/>
          <p:nvPr/>
        </p:nvPicPr>
        <p:blipFill>
          <a:blip r:embed="rId5"/>
          <a:stretch/>
        </p:blipFill>
        <p:spPr>
          <a:xfrm>
            <a:off x="4572000" y="2492280"/>
            <a:ext cx="3672000" cy="2919600"/>
          </a:xfrm>
          <a:prstGeom prst="rect">
            <a:avLst/>
          </a:prstGeom>
          <a:ln w="0">
            <a:noFill/>
          </a:ln>
        </p:spPr>
      </p:pic>
      <p:grpSp>
        <p:nvGrpSpPr>
          <p:cNvPr id="73" name="群組 15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74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75" name="Picture 11" descr="D:\93 (一)健體轉檔\國中\頁目2.jpg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9" descr="https://sp.yimg.com/xj/th?id=OIP.M97d1e43d483313c7deb9625f7131da94o0&amp;pid=15.1&amp;P=0&amp;w=236&amp;h=157"/>
          <p:cNvPicPr/>
          <p:nvPr/>
        </p:nvPicPr>
        <p:blipFill>
          <a:blip r:embed="rId1"/>
          <a:stretch/>
        </p:blipFill>
        <p:spPr>
          <a:xfrm>
            <a:off x="179280" y="4437000"/>
            <a:ext cx="3097440" cy="216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https://sp.yimg.com/xj/th?id=OIP.Mfeb0204c6fd1fd3b7fc649c66cdda267o0&amp;pid=15.1&amp;P=0&amp;w=267&amp;h=161"/>
          <p:cNvPicPr/>
          <p:nvPr/>
        </p:nvPicPr>
        <p:blipFill>
          <a:blip r:embed="rId2"/>
          <a:stretch/>
        </p:blipFill>
        <p:spPr>
          <a:xfrm>
            <a:off x="5796000" y="443700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https://sp.yimg.com/xj/th?id=OIP.Mdc47fc030ff249c8a22ddbe036a499cbo0&amp;pid=15.1&amp;P=0&amp;w=245&amp;h=164"/>
          <p:cNvPicPr/>
          <p:nvPr/>
        </p:nvPicPr>
        <p:blipFill>
          <a:blip r:embed="rId3"/>
          <a:stretch/>
        </p:blipFill>
        <p:spPr>
          <a:xfrm>
            <a:off x="179280" y="1052640"/>
            <a:ext cx="3097440" cy="216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https://sp.yimg.com/xj/th?id=OIP.M9b4d0621985b54830b70490d473492a5o0&amp;pid=15.1&amp;P=0&amp;w=249&amp;h=166"/>
          <p:cNvPicPr/>
          <p:nvPr/>
        </p:nvPicPr>
        <p:blipFill>
          <a:blip r:embed="rId4"/>
          <a:stretch/>
        </p:blipFill>
        <p:spPr>
          <a:xfrm>
            <a:off x="5867280" y="1052640"/>
            <a:ext cx="3097440" cy="2160360"/>
          </a:xfrm>
          <a:prstGeom prst="rect">
            <a:avLst/>
          </a:prstGeom>
          <a:ln w="0">
            <a:noFill/>
          </a:ln>
        </p:spPr>
      </p:pic>
      <p:sp>
        <p:nvSpPr>
          <p:cNvPr id="82" name="Oval 16"/>
          <p:cNvSpPr/>
          <p:nvPr/>
        </p:nvSpPr>
        <p:spPr>
          <a:xfrm>
            <a:off x="2798640" y="2735280"/>
            <a:ext cx="3429000" cy="2133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768760" y="3430440"/>
            <a:ext cx="338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常見的環境問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705720" y="533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水汙染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914400" y="533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空氣汙染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762120" y="3886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土壤汙染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6629400" y="3886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滋生病媒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群組 19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89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90" name="Picture 11" descr="D:\93 (一)健體轉檔\國中\頁目2.jpg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https://sp.yimg.com/xj/th?id=OIP.Mbf8524b7c4a51c89fb62958043a95a19o0&amp;pid=15.1&amp;P=0&amp;w=219&amp;h=165"/>
          <p:cNvPicPr/>
          <p:nvPr/>
        </p:nvPicPr>
        <p:blipFill>
          <a:blip r:embed="rId1"/>
          <a:stretch/>
        </p:blipFill>
        <p:spPr>
          <a:xfrm>
            <a:off x="1763640" y="2205000"/>
            <a:ext cx="5040360" cy="379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2"/>
          <p:cNvSpPr/>
          <p:nvPr/>
        </p:nvSpPr>
        <p:spPr>
          <a:xfrm>
            <a:off x="380880" y="914400"/>
            <a:ext cx="62485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關心環境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空氣汙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群組 12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99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100" name="Picture 11" descr="D:\93 (一)健體轉檔\國中\頁目2.jpg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" name="Picture 13" descr="https://sp.yimg.com/xj/th?id=OIP.M61e8185a51ef48eff3523169741fb8eao0&amp;pid=15.1&amp;P=0&amp;w=239&amp;h=181"/>
          <p:cNvPicPr/>
          <p:nvPr/>
        </p:nvPicPr>
        <p:blipFill>
          <a:blip r:embed="rId6"/>
          <a:stretch/>
        </p:blipFill>
        <p:spPr>
          <a:xfrm>
            <a:off x="6804000" y="4292640"/>
            <a:ext cx="873000" cy="662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https://sp.yimg.com/xj/th?id=OIP.M31b85d0c11c244a2d6051af22a43fb14o0&amp;pid=15.1&amp;P=0&amp;w=300&amp;h=300"/>
          <p:cNvPicPr/>
          <p:nvPr/>
        </p:nvPicPr>
        <p:blipFill>
          <a:blip r:embed="rId7"/>
          <a:stretch/>
        </p:blipFill>
        <p:spPr>
          <a:xfrm>
            <a:off x="6875640" y="5157720"/>
            <a:ext cx="72072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33520" y="838080"/>
            <a:ext cx="396720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議題一：溫室效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8" descr=""/>
          <p:cNvPicPr/>
          <p:nvPr/>
        </p:nvPicPr>
        <p:blipFill>
          <a:blip r:embed="rId4"/>
          <a:srcRect l="0" t="0" r="0" b="22623"/>
          <a:stretch/>
        </p:blipFill>
        <p:spPr>
          <a:xfrm>
            <a:off x="468360" y="3068640"/>
            <a:ext cx="8077320" cy="2585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https://sp.yimg.com/xj/th?id=OIP.M1f86db40670e4b705ffbd8592b6936dfo0&amp;pid=15.1&amp;P=0&amp;w=180&amp;h=170"/>
          <p:cNvPicPr/>
          <p:nvPr/>
        </p:nvPicPr>
        <p:blipFill>
          <a:blip r:embed="rId5"/>
          <a:stretch/>
        </p:blipFill>
        <p:spPr>
          <a:xfrm>
            <a:off x="6156360" y="981000"/>
            <a:ext cx="2519280" cy="2365560"/>
          </a:xfrm>
          <a:prstGeom prst="rect">
            <a:avLst/>
          </a:prstGeom>
          <a:ln w="0">
            <a:noFill/>
          </a:ln>
        </p:spPr>
      </p:pic>
      <p:grpSp>
        <p:nvGrpSpPr>
          <p:cNvPr id="112" name="群組 14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13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114" name="Picture 11" descr="D:\93 (一)健體轉檔\國中\頁目2.jpg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533520" y="907920"/>
            <a:ext cx="367812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溫室效應的影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184464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0600" indent="-390600">
              <a:lnSpc>
                <a:spcPct val="150000"/>
              </a:lnSpc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使得南北極冰原溶化、海平面上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>
              <a:lnSpc>
                <a:spcPct val="150000"/>
              </a:lnSpc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天氣熱，人類熱中暑、熱衰竭及死亡的比率升高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5" descr="https://sp.yimg.com/xj/th?id=OIP.Mb98a91b2c6fc45ab7abfd4bf19f9b1beH0&amp;pid=15.1&amp;P=0&amp;w=254&amp;h=155"/>
          <p:cNvPicPr/>
          <p:nvPr/>
        </p:nvPicPr>
        <p:blipFill>
          <a:blip r:embed="rId4"/>
          <a:stretch/>
        </p:blipFill>
        <p:spPr>
          <a:xfrm>
            <a:off x="5364000" y="1700280"/>
            <a:ext cx="3240360" cy="194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https://sp.yimg.com/xj/th?id=OIP.M543ba7ca64e6961b4992a91ad1b29283o0&amp;pid=15.1&amp;P=0&amp;w=211&amp;h=172"/>
          <p:cNvPicPr/>
          <p:nvPr/>
        </p:nvPicPr>
        <p:blipFill>
          <a:blip r:embed="rId5"/>
          <a:stretch/>
        </p:blipFill>
        <p:spPr>
          <a:xfrm>
            <a:off x="5508720" y="3789360"/>
            <a:ext cx="2663640" cy="2171880"/>
          </a:xfrm>
          <a:prstGeom prst="rect">
            <a:avLst/>
          </a:prstGeom>
          <a:ln w="0">
            <a:noFill/>
          </a:ln>
        </p:spPr>
      </p:pic>
      <p:grpSp>
        <p:nvGrpSpPr>
          <p:cNvPr id="124" name="群組 14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25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126" name="Picture 11" descr="D:\93 (一)健體轉檔\國中\頁目2.jpg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7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8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9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2"/>
          <p:cNvSpPr/>
          <p:nvPr/>
        </p:nvSpPr>
        <p:spPr>
          <a:xfrm>
            <a:off x="539640" y="836640"/>
            <a:ext cx="439272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議題二：臭氧層破洞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4"/>
          <p:cNvSpPr/>
          <p:nvPr/>
        </p:nvSpPr>
        <p:spPr>
          <a:xfrm>
            <a:off x="539640" y="2349360"/>
            <a:ext cx="45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臭氧層就像地球的保護罩，可遮擋紫外線，如果高空中臭氧濃度減少，就如同地球受傷，天空破了一個洞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5" descr="https://sp.yimg.com/xj/th?id=OIP.M9d2c857956aa1d34766f056558398d05o0&amp;pid=15.1&amp;P=0&amp;w=300&amp;h=300"/>
          <p:cNvPicPr/>
          <p:nvPr/>
        </p:nvPicPr>
        <p:blipFill>
          <a:blip r:embed="rId4"/>
          <a:stretch/>
        </p:blipFill>
        <p:spPr>
          <a:xfrm>
            <a:off x="5508720" y="2276640"/>
            <a:ext cx="2857320" cy="2857320"/>
          </a:xfrm>
          <a:prstGeom prst="rect">
            <a:avLst/>
          </a:prstGeom>
          <a:ln w="0">
            <a:noFill/>
          </a:ln>
        </p:spPr>
      </p:pic>
      <p:grpSp>
        <p:nvGrpSpPr>
          <p:cNvPr id="135" name="群組 14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36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137" name="Picture 11" descr="D:\93 (一)健體轉檔\國中\頁目2.jpg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D:\93 (一)健體轉檔\國小\健體三年級\國小三年級簡報頁面\按鈕.jpg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86104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D:\93 (一)健體轉檔\國小\健體三年級\國小三年級簡報頁面\按鈕2.jp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10480" y="5651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D:\93 (一)健體轉檔\國小\健體三年級\國小三年級簡報頁面\按鈕3.jp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8610480" y="63752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685800" y="1295280"/>
            <a:ext cx="367020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臭氧層破洞的影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457200" y="24382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0600" indent="-390600">
              <a:lnSpc>
                <a:spcPct val="150000"/>
              </a:lnSpc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人類罹患皮膚癌、白內障的機率增加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0600" indent="-390600">
              <a:lnSpc>
                <a:spcPct val="150000"/>
              </a:lnSpc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過量的紫外線使動植物受損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3" descr="https://sp.yimg.com/xj/th?id=OIP.M79e68f30904329088b3b7e3dfbb75e18o0&amp;pid=15.1&amp;P=0&amp;w=300&amp;h=300"/>
          <p:cNvPicPr/>
          <p:nvPr/>
        </p:nvPicPr>
        <p:blipFill>
          <a:blip r:embed="rId4"/>
          <a:stretch/>
        </p:blipFill>
        <p:spPr>
          <a:xfrm>
            <a:off x="5580000" y="2276640"/>
            <a:ext cx="3095640" cy="3330360"/>
          </a:xfrm>
          <a:prstGeom prst="rect">
            <a:avLst/>
          </a:prstGeom>
          <a:ln w="0">
            <a:noFill/>
          </a:ln>
        </p:spPr>
      </p:pic>
      <p:grpSp>
        <p:nvGrpSpPr>
          <p:cNvPr id="146" name="群組 12"/>
          <p:cNvGrpSpPr/>
          <p:nvPr/>
        </p:nvGrpSpPr>
        <p:grpSpPr>
          <a:xfrm>
            <a:off x="0" y="0"/>
            <a:ext cx="9144000" cy="581400"/>
            <a:chOff x="0" y="0"/>
            <a:chExt cx="9144000" cy="581400"/>
          </a:xfrm>
        </p:grpSpPr>
        <p:grpSp>
          <p:nvGrpSpPr>
            <p:cNvPr id="147" name="群組 8"/>
            <p:cNvGrpSpPr/>
            <p:nvPr/>
          </p:nvGrpSpPr>
          <p:grpSpPr>
            <a:xfrm>
              <a:off x="0" y="0"/>
              <a:ext cx="9144000" cy="558360"/>
              <a:chOff x="0" y="0"/>
              <a:chExt cx="9144000" cy="558360"/>
            </a:xfrm>
          </p:grpSpPr>
          <p:pic>
            <p:nvPicPr>
              <p:cNvPr id="148" name="Picture 11" descr="D:\93 (一)健體轉檔\國中\頁目2.jpg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7365960" cy="55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Line 12"/>
              <p:cNvSpPr/>
              <p:nvPr/>
            </p:nvSpPr>
            <p:spPr>
              <a:xfrm>
                <a:off x="2590560" y="533160"/>
                <a:ext cx="6553440" cy="0"/>
              </a:xfrm>
              <a:prstGeom prst="line">
                <a:avLst/>
              </a:prstGeom>
              <a:ln w="28440">
                <a:solidFill>
                  <a:srgbClr val="1a4a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Text Box 10"/>
            <p:cNvSpPr/>
            <p:nvPr/>
          </p:nvSpPr>
          <p:spPr>
            <a:xfrm>
              <a:off x="0" y="0"/>
              <a:ext cx="495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第一節 空氣汙染與</a:t>
              </a:r>
              <a:r>
                <a:rPr b="1" lang="en-US" sz="3200" spc="-1" strike="noStrike">
                  <a:solidFill>
                    <a:srgbClr val="000099"/>
                  </a:solidFill>
                  <a:latin typeface="標楷體"/>
                  <a:ea typeface="標楷體"/>
                </a:rPr>
                <a:t>PM2.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7:33:11Z</dcterms:created>
  <dc:creator>KNSH</dc:creator>
  <dc:description/>
  <dc:language>en-US</dc:language>
  <cp:lastModifiedBy>amanda</cp:lastModifiedBy>
  <dcterms:modified xsi:type="dcterms:W3CDTF">2016-01-28T16:28:56Z</dcterms:modified>
  <cp:revision>157</cp:revision>
  <dc:subject/>
  <dc:title>PowerPoint 簡報</dc:title>
</cp:coreProperties>
</file>