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2CE-8905-46C7-80D3-7E7A738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2B5-F681-4692-B5C4-8677EB4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BC8-BB56-4F0A-82B7-809BFFC1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FA2-9B5E-4797-89B9-B709EB1C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A723-20EC-4F31-82DF-73170F6D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DCE-5B1E-47A0-8A31-9154D50C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4AB0-D4D3-4A5E-8C5B-0CC191A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A97-8A7C-418F-BE5E-EBC4DAE9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6169-0D5A-4C6F-93AE-FF54B3B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C44C-7C2F-414F-8F9E-B4DD9EE3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E8F4-1CAB-4412-BE9F-FA0378A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A8D-972C-462D-B41E-44A2242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71F-50C3-498C-9F9E-22782EB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D9EC-716E-42CE-A859-9468F03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080A-17D8-46B8-9706-063FE35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2DE-E7E8-4908-93AD-F309F92C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AD60-37C5-4D98-A9A2-F96DAE49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4C4-BFDC-49D2-92F9-5DF30C9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419-A576-4899-9063-00D23D9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41E-AE08-4660-BED7-67D4B7C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95C-24D6-4442-B83F-2B54330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FA5-B884-4784-B85B-0399EDC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689-5EA8-40CB-A4A0-48BF9F56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C75-448E-4D23-BEA2-46DB9E7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E576-2456-427C-95BF-291820B11451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F42-6B1E-49FF-BB64-2127255E5BEE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Comic Sans MS"/>
                <a:ea typeface="標楷體"/>
              </a:rPr>
              <a:t>教學歷程說明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3645000"/>
            <a:ext cx="759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計者：陳瑋婷、張倩萍、孫瑞廷 老師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Comic Sans MS"/>
                <a:ea typeface="標楷體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Comic Sans MS"/>
                <a:ea typeface="標楷體"/>
              </a:rPr>
              <a:t>本教案設計是希望學生透過一系列八節課的學習，能熟悉防災防震的相關資訊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一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災害大觀園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透過繪本認識災害的多樣性，再聚焦到臺灣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常見的災害上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二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地牛翻身大家怕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認識地震的傳說故事、形成的原因和其他相關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科學知識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三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地震了，這時該怎麼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透過繪本學習在不同的環境中，應對地震的來襲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四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地震前的準備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認識家庭防災卡、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991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平安留言平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台，和防災疏散地圖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五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地震保命的關鍵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從老師自編的防震歌找到地震保命關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鍵，並實際操作演練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六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守護家人，備妥防災包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認識防災包，知道防災包的用途和重要性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七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防災挑戰來驗收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小組發表，在學校的不同地點，該如何應對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地震災害的發生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第八節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善用科技來防災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學習操做防災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APP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，在地震來臨時     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能處變不驚。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1T16:10:18Z</dcterms:created>
  <dc:creator>we</dc:creator>
  <dc:description/>
  <dc:language>en-US</dc:language>
  <cp:lastModifiedBy>we</cp:lastModifiedBy>
  <dcterms:modified xsi:type="dcterms:W3CDTF">2016-09-21T16:25:06Z</dcterms:modified>
  <cp:revision>4</cp:revision>
  <dc:subject/>
  <dc:title>教學歷程說明</dc:title>
</cp:coreProperties>
</file>