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304-B965-4FAE-BC56-856627A7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D95-B992-4620-9366-B99EBAB5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5E8-9B67-48DD-9F85-52060D48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93C4-5363-4DB9-8BE0-71346951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3D8-5B5F-4C44-BDA2-5C28B86A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4E9-2708-499C-8D2E-94FEC906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1E81-0206-4125-804F-7A4AED1F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B69-D4CB-46DE-BA4F-DBCF3125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11B5-07BB-4B73-9A0C-4B201215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C80E-65FE-47D2-BBCF-21E94428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C14-87DE-47D8-B061-74216330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BF8-D076-4BC4-B848-8B25FCBF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A4CD-DAB2-4E7F-BEF7-21A1699DCE2E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4149360"/>
            <a:ext cx="4319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猜猜下列是哪種災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472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海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沙塵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  <a:ea typeface="標楷體"/>
              </a:rPr>
              <a:t>地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544464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af101"/>
                </a:solidFill>
                <a:latin typeface="Arial"/>
                <a:ea typeface="標楷體"/>
              </a:rPr>
              <a:t>颱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1636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  <a:ea typeface="標楷體"/>
              </a:rPr>
              <a:t>火山爆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5T11:24:10Z</dcterms:created>
  <dc:creator>we</dc:creator>
  <dc:description/>
  <dc:language>en-US</dc:language>
  <cp:lastModifiedBy>we</cp:lastModifiedBy>
  <dcterms:modified xsi:type="dcterms:W3CDTF">2016-09-05T12:51:22Z</dcterms:modified>
  <cp:revision>4</cp:revision>
  <dc:subject/>
  <dc:title>投影片 1</dc:title>
</cp:coreProperties>
</file>