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AC8-7A71-4B6B-A98A-C15C80E6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4CC-0830-4E7B-A015-9E5D1D43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51D-AFDD-48F9-9EA6-61C8E111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2A3-61D0-4CF5-A34C-B460AA90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A17-4D60-49E4-B31F-D3EBABF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EDD-4C9E-4769-955F-B990284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EF3-B6AB-4FE9-8E85-DD5A886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D44-67DF-4D2E-9F88-E621E23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CCA-458C-4F94-854B-2297BF8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C7E-B037-4E65-8AFF-608A5BF4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50B-B2C3-419E-A8CE-F12064B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7BD-32EE-4067-9EAF-B8D8A3A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410-900D-4CF2-BEB8-ED72EEB301E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地震的傳說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280" y="3885840"/>
            <a:ext cx="52563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親愛的小朋友，你知道不同的國家對於地震，都留下了許多有趣的故事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讓我們一起來看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5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猜猜看，下列動物和哪個國家的傳說故事有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烏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鯰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地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2920" y="278100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臺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紐西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北美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地震的傳說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1628640"/>
            <a:ext cx="309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台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地底有一隻睡覺的牛，</a:t>
            </a:r>
            <a:br>
              <a:rPr sz="2200"/>
            </a:b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當地牛翻身時</a:t>
            </a: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就會引發地震</a:t>
            </a:r>
            <a:r>
              <a:rPr b="0" lang="zh-TW" sz="26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P1"/>
          <p:cNvPicPr/>
          <p:nvPr/>
        </p:nvPicPr>
        <p:blipFill>
          <a:blip r:embed="rId2"/>
          <a:stretch/>
        </p:blipFill>
        <p:spPr>
          <a:xfrm>
            <a:off x="1332000" y="393372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140360" y="1700280"/>
            <a:ext cx="3095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日本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地底有一隻鯰魚，當鯰魚生氣時，就會引發地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MCBD07346_0000[1]"/>
          <p:cNvPicPr/>
          <p:nvPr/>
        </p:nvPicPr>
        <p:blipFill>
          <a:blip r:embed="rId3"/>
          <a:stretch/>
        </p:blipFill>
        <p:spPr>
          <a:xfrm>
            <a:off x="4716360" y="3789360"/>
            <a:ext cx="2349720" cy="2030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788000" y="595008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圖片來源：國立科學工藝博物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地震的傳說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39640" y="1413000"/>
            <a:ext cx="3170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紐西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認為地底住著一位名為「地母」的女神，當地母生氣時就會有大地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24360" y="1557360"/>
            <a:ext cx="3166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北美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7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66"/>
                </a:solidFill>
                <a:latin typeface="Arial"/>
              </a:rPr>
              <a:t>以為地球被一隻烏龜背著，當烏龜緩慢前進時引起地球震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2"/>
          <p:cNvPicPr/>
          <p:nvPr/>
        </p:nvPicPr>
        <p:blipFill>
          <a:blip r:embed="rId2"/>
          <a:stretch/>
        </p:blipFill>
        <p:spPr>
          <a:xfrm>
            <a:off x="1258920" y="400356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P3"/>
          <p:cNvPicPr/>
          <p:nvPr/>
        </p:nvPicPr>
        <p:blipFill>
          <a:blip r:embed="rId3"/>
          <a:stretch/>
        </p:blipFill>
        <p:spPr>
          <a:xfrm>
            <a:off x="4788000" y="39322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788000" y="6021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圖片來源：國立科學工藝博物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11:29:38Z</dcterms:created>
  <dc:creator>we</dc:creator>
  <dc:description/>
  <dc:language>en-US</dc:language>
  <cp:lastModifiedBy>we</cp:lastModifiedBy>
  <dcterms:modified xsi:type="dcterms:W3CDTF">2016-09-06T16:09:53Z</dcterms:modified>
  <cp:revision>7</cp:revision>
  <dc:subject/>
  <dc:title>地震的傳說故事</dc:title>
</cp:coreProperties>
</file>