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EE5-3E60-4486-BFAA-7DDAD876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61A-2E21-4F8A-AB88-1A975DAA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164-5C21-43A0-AF68-7A6113C6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80B-24AB-49C3-8BDA-A07CC03C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13D-ED5F-4F42-BC28-4ABC8683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25C-1C31-4B2E-91D2-D76E541D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16B-691B-48E7-B27D-A140C504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FCC-A24C-4240-9C1E-FD230356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9CB-BC7E-4416-82A9-CB44009B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FF2-0BB3-48C6-8364-4B75FCC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863-E213-4DA5-A587-34EDF60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D68-C062-48F0-A1F3-3FAE61A0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242C-9837-4C8B-98B1-B9878FB3B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852640"/>
            <a:ext cx="748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防震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472428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迪士尼樂園歌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陳瑋婷老師、張倩萍老師配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平安回家歌.mp3" descr=""/>
          <p:cNvPicPr/>
          <p:nvPr/>
        </p:nvPicPr>
        <p:blipFill>
          <a:blip r:embed="rId1"/>
          <a:stretch/>
        </p:blipFill>
        <p:spPr>
          <a:xfrm>
            <a:off x="826920" y="587700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地牛翻身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人人都心驚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遇到該如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趴下和掩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人穩住 保護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關電源 開門窗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耐心等待地震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2492280"/>
            <a:ext cx="56880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聽候師長的指令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快速前往空曠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不推不跑和不語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才能保性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55640" y="2637000"/>
            <a:ext cx="51116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防災的頭套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救命小利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戴上才逃跑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保護頭第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95640" y="2636640"/>
            <a:ext cx="518472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到空地 點人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快確認 速回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做好安全的聯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0920" y="2708280"/>
            <a:ext cx="561672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擔心家人的情形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 9 9 1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別忘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以上方法要牢記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安全沒問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2T22:12:14Z</dcterms:created>
  <dc:creator>we</dc:creator>
  <dc:description/>
  <dc:language>en-US</dc:language>
  <cp:lastModifiedBy>user</cp:lastModifiedBy>
  <dcterms:modified xsi:type="dcterms:W3CDTF">2016-10-17T03:29:45Z</dcterms:modified>
  <cp:revision>6</cp:revision>
  <dc:subject/>
  <dc:title>投影片 1</dc:title>
</cp:coreProperties>
</file>