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06C-EE12-4E2B-86DB-82A7D70E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8AC-5DDB-4CCE-8912-00FEEE6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87B-7F6E-428E-A13C-2B92E358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0F7-0211-4BD8-B774-56D3AE63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ED9-54A4-4E7C-98C6-7A3EA40F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948-3C6E-4D82-A6DA-C97BEC09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704-ADEE-4DAC-8765-D12BB470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42D-3CB3-46B6-ACB8-03701EA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83D-1A58-48B0-ACF9-0464C45D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997-9392-454E-B586-8A9AA013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E4E-D99D-40AE-890F-FE151A3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8A9-9E0D-4716-AE94-B8BC373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D694-5CAE-400D-8138-0B288CEEF50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15:56:16Z</dcterms:created>
  <dc:creator>we</dc:creator>
  <dc:description/>
  <dc:language>en-US</dc:language>
  <cp:lastModifiedBy>we</cp:lastModifiedBy>
  <dcterms:modified xsi:type="dcterms:W3CDTF">2016-09-06T15:56:53Z</dcterms:modified>
  <cp:revision>1</cp:revision>
  <dc:subject/>
  <dc:title>投影片 1</dc:title>
</cp:coreProperties>
</file>