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9362-A237-497F-B71C-157BAD058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7B72-2FDC-42DB-AA3E-CBB449C7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2CD5-E900-4426-AEC6-6B4F28C25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F2C9-EA0A-43E7-B803-2BAC0C5A6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61F5-32C1-42A9-B41B-231A706C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F35B-AC75-4FEC-B42F-5582E6AC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C1D6-3549-4D46-85CB-729C1BB6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C72A-9DE7-4650-8ED3-C0195CAD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D848-9958-4D19-92F3-ED160E32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D9AF-BBCF-4367-A5A6-A6FAD6F6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AD6F-95E7-4F9C-9D5A-21796916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C582-0DB2-4DE5-93B6-654B07A0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6D8F-2AD9-41F3-8807-95D0FD38B26A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90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防震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地牛翻身起 人人都心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遇到該如何 趴下和掩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人穩住 保護頭 關電源 開門窗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耐心等待地震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聽候師長的指令 快速前往空曠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不推不跑和不語 才能保性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防災的頭套  救命小利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戴上才逃跑  保護頭第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到空地 點人數 快確認 速回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做好安全的聯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擔心家人的情形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99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別忘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以上方法要牢記 安全沒問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預防地震的重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22960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趴下、掩蔽、穩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關電源、開門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帶防震頭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不推不跑不語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知道疏散路線怎麼走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5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確認人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6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撥打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99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報平安留言平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2852640"/>
            <a:ext cx="7488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防震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920" y="4076640"/>
            <a:ext cx="64008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改編自平安回家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地牛翻身起 人人都心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遇到該如何 趴下和掩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人穩住 保護頭 關電源 開門窗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耐心等待地震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聽候師長的指令 快速前往空曠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不推不跑和不語 才能保性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26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防災的頭套  救命小利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戴上才逃跑  保護頭第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到空地 點人數 快確認 速回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做好安全的聯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擔心家人的情形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99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別忘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以上方法要牢記 安全沒問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2T22:12:14Z</dcterms:created>
  <dc:creator>we</dc:creator>
  <dc:description/>
  <dc:language>en-US</dc:language>
  <cp:lastModifiedBy>we</cp:lastModifiedBy>
  <dcterms:modified xsi:type="dcterms:W3CDTF">2016-09-12T22:28:04Z</dcterms:modified>
  <cp:revision>2</cp:revision>
  <dc:subject/>
  <dc:title>投影片 1</dc:title>
</cp:coreProperties>
</file>